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80D-2056-4E4B-A1B1-6488625B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C3D-DEE8-44A9-A2B3-C218EEA4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101-44E2-415A-850E-AC9BB281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017-6091-4A68-A05A-F76B9B25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F90-EC85-45D5-A5EE-94D19874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6B8-7FF7-4C0C-82FC-2111439E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60E-9547-434C-A234-B574EBC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6D2-50A9-4410-A704-61606E42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555-ACB0-473A-A9E3-FBBE128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976-5978-4788-84E3-327CABC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2CA-E422-464E-B60C-72B9469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2B0-7E8D-43F0-9FA5-45DE505E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D21F-FCEB-4836-AC19-46F83DFE355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66ff"/>
                </a:solidFill>
                <a:latin typeface="Calibri"/>
              </a:rPr>
              <a:t>INJUSTIC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Mantenía un registro de los nombres de todos los niños que sacó y lo guardaba en un tarro de cristal enterrado bajo un árbol en su jardí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Después de la guerr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ntentó localizar a los pad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que pudieran haber sobrevivi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y reunir a la fami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a mayoría habían sido llevad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 la cámara de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quellos niños a los que ayud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encontraron casas de acog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o fueron adopt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El año pas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fue propuesta para recibir 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remio Nobel de la Paz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ero no fue seleccio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Se lo llev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l Go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or unas diapositivas sobre el Calentamiento Glob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Gran mens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especialmente en la viñe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¡No permitamos que se olvide nunca!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0" y="5780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In  MEMORIAM  - 63 YEARS LATER</a:t>
            </a: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n Memoria - 63 años despu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Por favor, leed atentamente la viñet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s impacta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Luego leed los comentarios del fi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66ff"/>
                </a:solidFill>
                <a:latin typeface="Calibri"/>
              </a:rPr>
              <a:t>EL premio no se lo lleva </a:t>
            </a:r>
            <a:br>
              <a:rPr sz="7200"/>
            </a:br>
            <a:r>
              <a:rPr b="0" lang="es-ES" sz="7200" spc="-1" strike="noStrike">
                <a:solidFill>
                  <a:srgbClr val="0066ff"/>
                </a:solidFill>
                <a:latin typeface="Calibri"/>
              </a:rPr>
              <a:t>Siempre el que más se lo merec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Estoy aportando mi granito reenvian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este mens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Espero que consideres hacer lo mismo.</a:t>
            </a: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85880" y="0"/>
            <a:ext cx="79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712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Han pasado más de 60 años desde que terminó </a:t>
            </a:r>
            <a:br>
              <a:rPr sz="3200"/>
            </a:br>
            <a:r>
              <a:rPr b="1" lang="es-ES" sz="3200" spc="-1" strike="noStrike">
                <a:solidFill>
                  <a:srgbClr val="0066ff"/>
                </a:solidFill>
                <a:latin typeface="Calibri"/>
              </a:rPr>
              <a:t>la 2ª Guerra Mundial en Europ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Este e-mail se está reenviando como una cadena conmemorativa, en memoria de los 6 millones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de judíos, 20 millones de rusos, 10 millones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de cristianos y 1.900 sacerdotes católicos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que fueron asesinados, masacrados,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violados, matados de hambre y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humillados con los pueblos  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de Alemania y Rusia</a:t>
            </a:r>
            <a:br>
              <a:rPr sz="3200"/>
            </a:br>
            <a:r>
              <a:rPr b="0" lang="es-ES" sz="3200" spc="-1" strike="noStrike">
                <a:solidFill>
                  <a:srgbClr val="0066ff"/>
                </a:solidFill>
                <a:latin typeface="Calibri"/>
              </a:rPr>
              <a:t>mirando al otro l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Ahora, más que nunca, con Iraq, Irán y otros proclamando que el Holocausto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es un mito,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es imperativo asegurarse de que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el mundo </a:t>
            </a:r>
            <a:br>
              <a:rPr sz="4000"/>
            </a:br>
            <a:r>
              <a:rPr b="1" lang="es-ES" sz="4000" spc="-1" strike="noStrike">
                <a:solidFill>
                  <a:srgbClr val="0066ff"/>
                </a:solidFill>
                <a:latin typeface="Calibri"/>
              </a:rPr>
              <a:t>nunca olvid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alibri"/>
              </a:rPr>
              <a:t>La intención de este e-mail es llegar a </a:t>
            </a:r>
            <a:br>
              <a:rPr sz="4400"/>
            </a:br>
            <a:r>
              <a:rPr b="1" lang="es-ES" sz="4400" spc="-1" strike="noStrike">
                <a:solidFill>
                  <a:srgbClr val="0066ff"/>
                </a:solidFill>
                <a:latin typeface="Calibri"/>
              </a:rPr>
              <a:t>40 millones de personas</a:t>
            </a:r>
            <a:br>
              <a:rPr sz="4400"/>
            </a:br>
            <a:r>
              <a:rPr b="1" lang="es-ES" sz="4400" spc="-1" strike="noStrike">
                <a:solidFill>
                  <a:srgbClr val="0066ff"/>
                </a:solidFill>
                <a:latin typeface="Calibri"/>
              </a:rPr>
              <a:t>en todo el mund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ff"/>
                </a:solidFill>
                <a:latin typeface="Calibri"/>
              </a:rPr>
              <a:t>Únete a nosotros y sé un eslabón de esta cadena conmemorativa y ayúdanos a distribuirlo por todo </a:t>
            </a:r>
            <a:br>
              <a:rPr sz="4800"/>
            </a:br>
            <a:r>
              <a:rPr b="1" lang="es-ES" sz="4800" spc="-1" strike="noStrike">
                <a:solidFill>
                  <a:srgbClr val="0066ff"/>
                </a:solidFill>
                <a:latin typeface="Calibri"/>
              </a:rPr>
              <a:t>el mundo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ff"/>
                </a:solidFill>
                <a:latin typeface="Calibri"/>
              </a:rPr>
              <a:t>Por favor, envía este e-mail a las personas que conoces y pídeles que continúen la caden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[]"/>
          <p:cNvPicPr/>
          <p:nvPr/>
        </p:nvPicPr>
        <p:blipFill>
          <a:blip r:embed="rId1"/>
          <a:stretch/>
        </p:blipFill>
        <p:spPr>
          <a:xfrm>
            <a:off x="157176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4 Rectángulo"/>
          <p:cNvSpPr/>
          <p:nvPr/>
        </p:nvSpPr>
        <p:spPr>
          <a:xfrm>
            <a:off x="3225960" y="62118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alibri"/>
              </a:rPr>
              <a:t>Irena Sendl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Por favor, no lo borres simplemente. 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Sólo te llevará un minuto reenviarl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ff"/>
                </a:solidFill>
                <a:latin typeface="Calibri"/>
              </a:rPr>
              <a:t>Gracias</a:t>
            </a:r>
            <a:r>
              <a:rPr b="0" lang="es-ES" sz="5400" spc="-1" strike="noStrike">
                <a:solidFill>
                  <a:srgbClr val="0066ff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Una señora de 98 años llam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ff"/>
                </a:solidFill>
                <a:latin typeface="Verdana"/>
                <a:ea typeface="Times New Roman"/>
              </a:rPr>
              <a:t>Irena </a:t>
            </a:r>
            <a:r>
              <a:rPr b="1" lang="es-ES" sz="3200" spc="-1" strike="noStrike">
                <a:solidFill>
                  <a:srgbClr val="0066ff"/>
                </a:solidFill>
                <a:latin typeface="Verdana"/>
              </a:rPr>
              <a:t>Send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acaba de fallecer.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Durante la 2ª Guerra Mundial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 consiguió un permiso para trabajar en el Ghetto de Varsovia como especialista de alcantarillado y tuberí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ero sus planes iban más allá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Sabía cuales eran los planes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os nazis para los judí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(siendo alema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Ir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Sacaba niños escondidos en el fondo de su caja de herramientas y llevaba un saco de arpillera en la parte de atrás de su camione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(para niños de mayor tamaño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También llevaba en la parte de atrás un perro al que entrenó para ladrar a los soldados nazis cuando salía y entraba del Ghet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or supuesto, los soldados n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querían tener nada que ver con 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perro y los ladridos ocultab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os ruidos de los ni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Mientras estuvo haciendo est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consiguió sacar de allí y salvar a 2500 ni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Cuando los nazis la cogier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141ff"/>
                </a:solidFill>
                <a:latin typeface="Verdana"/>
                <a:ea typeface="Times New Roman"/>
              </a:rPr>
              <a:t>le rompieron ambas piernas, los brazos y la pegaron brutalm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11:54Z</dcterms:created>
  <dc:creator>CLC</dc:creator>
  <dc:description/>
  <dc:language>en-US</dc:language>
  <cp:lastModifiedBy>CLC</cp:lastModifiedBy>
  <dcterms:modified xsi:type="dcterms:W3CDTF">2010-02-12T12:36:25Z</dcterms:modified>
  <cp:revision>9</cp:revision>
  <dc:subject/>
  <dc:title>INJUSTICIA   EL premio no se lo lleva siempre el que más se lo merece</dc:title>
</cp:coreProperties>
</file>