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FC3-3C87-4BA8-AC96-EFBA5F37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4B2-0DFF-4629-A599-F7C983A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56C-BDDF-4471-8E8D-47113DB0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87C-08E9-468B-A559-DEE98D35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A54A-BEC0-46F5-B2B7-469FB9F6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5CF9-9BA6-4464-A332-0EEAAAE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A1A-5FB9-458F-A891-6B3F7449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F5F6-1933-41C3-8F62-1267B4F6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4118-A336-4660-9DB5-A9C8B3E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9D35-7CFD-4DDA-A213-10FF119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F605-E0EE-4AA4-A41D-6A84B90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2B9-E724-4E07-8C95-16BB58B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CF7B-7E51-48FC-A436-7FD6647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33C-ABCA-473E-87C1-F33771C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7670-BD3D-415C-99B5-CCC86AF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FC5A-8C69-410D-9ABC-18720B42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71A-3321-443C-B98F-0B5F5370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4EF-951B-4529-BEFF-554E00E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399-BD19-4249-AD3A-920F3AA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394-F3CB-43DD-B872-2581A014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53F-6F56-4978-8BBD-4F1140C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7DC-0E67-4509-BC49-863F56A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CD8-79E1-42F4-9584-6771862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E63-3FE4-4649-B3E6-8C48768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9AB3-3CA2-4D61-830A-98B671849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76CE-CD58-4C04-9809-7F19BA322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Mire estas fotos...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En caso de que piense que dónde está ese hotel estarán errados.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No es un Hotel.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            </a:t>
            </a:r>
            <a:r>
              <a:rPr b="1" i="1" lang="en-US" sz="4200" spc="-1" strike="noStrike">
                <a:solidFill>
                  <a:srgbClr val="362cbe"/>
                </a:solidFill>
                <a:latin typeface="Comic Sans MS"/>
              </a:rPr>
              <a:t>Es una casa!</a:t>
            </a:r>
            <a:r>
              <a:rPr b="1" lang="en-US" sz="4200" spc="-1" strike="noStrike">
                <a:solidFill>
                  <a:srgbClr val="362cbe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Su dueño es el Sultán Al Nahyan de la familia Shekh Zayed bin presidente de los Emiratos Arabes Unidos y gobernador de </a:t>
            </a:r>
            <a:r>
              <a:rPr b="0" lang="en-US" sz="3200" spc="-1" strike="noStrike">
                <a:solidFill>
                  <a:srgbClr val="362cbe"/>
                </a:solidFill>
                <a:latin typeface="Comic Sans MS"/>
              </a:rPr>
              <a:t>Abu-Dhabi.</a:t>
            </a: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2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68580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El Audi A8 en plata fue hecho para el Sultán...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El color plata no es pintura.</a:t>
            </a:r>
            <a:br>
              <a:rPr sz="4000"/>
            </a:b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   !Es plata de verdad!!!!! 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       Elo aquí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Y todavía preguntas porqué el barril de petróleo está tan caro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82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144000" cy="76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40Z</dcterms:created>
  <dc:creator>Jackie</dc:creator>
  <dc:description/>
  <dc:language>en-US</dc:language>
  <cp:lastModifiedBy>Soporte</cp:lastModifiedBy>
  <dcterms:modified xsi:type="dcterms:W3CDTF">2005-10-20T18:55:30Z</dcterms:modified>
  <cp:revision>4</cp:revision>
  <dc:subject/>
  <dc:title>Take a look at the attached photos as well.... The Audi A8 in SILVER was made for a sheik.... IT IS NOT SILVER in COLOR, IT IS MADE out of SILVER!!!!!   Also,  in case you're wondering where this hotel is, it isn't a hotel at all.   It is a house!    It's owned by the family of  Sheikh Zayed bin Sultan Al Nahyan, the former president of the United Arab Emirates and ruler of Abu-Dhabi. </dc:title>
</cp:coreProperties>
</file>