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FC7D-7429-45EE-9819-2A94D636F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96BD-649C-4EBB-8629-4AA42CF64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6DBE-5A00-483D-9FBB-042468F34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2936-3F4F-4847-ABD2-E5A6FEE43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6791F-8BD3-44AA-A75A-8BEF8B6D5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A0E08-9334-42B1-9EDA-728F9E559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265C8-BCFC-47E6-A1F7-7B8B0851E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D3E45-D112-4DF1-8A3D-B9DDB0F7E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FDA0A-83EC-4D2A-8CF4-F0A333A3A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E92C4-5FCD-4BDE-86E1-8E2FA1DD7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1CBEA-11EB-4A2D-A24A-B953299C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7FF6-6704-479A-A87F-E86D20E46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CCAC2-EB39-44D5-86B4-E4B69C76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26155-D6C6-488B-A934-86B4EFE6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B2F62-17A9-41B7-B1FA-7EE59C156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6504E-F423-4AF4-A11B-C2D4FEC19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50BFD-0C08-482F-9298-03641E60D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352D-82CF-478B-9537-DED82D045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E8CF-0340-4753-B5BA-95B67AA12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9428-F619-4D10-A528-938D012EF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54A3-C498-41BE-A66E-CD95A0D8E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E07F-218B-4D1B-A54D-FF877AFB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DD8E-0270-4290-99D5-BFDA9DE2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53BB-1398-4ADB-8FA0-023FFBD5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8B170-35AA-45EB-9A56-2FF7676E42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A35CA-631E-4660-B533-EE3269F9A8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2cbe"/>
                </a:solidFill>
                <a:latin typeface="Comic Sans MS"/>
              </a:rPr>
              <a:t>Mire estas fotos....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362cbe"/>
                </a:solidFill>
                <a:latin typeface="Comic Sans MS"/>
              </a:rPr>
              <a:t>En caso de que piense que dónde está ese hotel estarán errados.</a:t>
            </a:r>
            <a:br>
              <a:rPr sz="3200"/>
            </a:br>
            <a:r>
              <a:rPr b="1" lang="en-US" sz="3200" spc="-1" strike="noStrike">
                <a:solidFill>
                  <a:srgbClr val="362cbe"/>
                </a:solidFill>
                <a:latin typeface="Comic Sans MS"/>
              </a:rPr>
              <a:t>No es un Hotel.</a:t>
            </a:r>
            <a:br>
              <a:rPr sz="3200"/>
            </a:br>
            <a:r>
              <a:rPr b="1" lang="en-US" sz="3200" spc="-1" strike="noStrike">
                <a:solidFill>
                  <a:srgbClr val="362cbe"/>
                </a:solidFill>
                <a:latin typeface="Comic Sans MS"/>
              </a:rPr>
              <a:t>            </a:t>
            </a:r>
            <a:r>
              <a:rPr b="1" i="1" lang="en-US" sz="4200" spc="-1" strike="noStrike">
                <a:solidFill>
                  <a:srgbClr val="362cbe"/>
                </a:solidFill>
                <a:latin typeface="Comic Sans MS"/>
              </a:rPr>
              <a:t>Es una casa!</a:t>
            </a:r>
            <a:r>
              <a:rPr b="1" lang="en-US" sz="4200" spc="-1" strike="noStrike">
                <a:solidFill>
                  <a:srgbClr val="362cbe"/>
                </a:solidFill>
                <a:latin typeface="Comic Sans MS"/>
              </a:rPr>
              <a:t> </a:t>
            </a:r>
            <a:br>
              <a:rPr sz="3200"/>
            </a:br>
            <a:r>
              <a:rPr b="1" lang="en-US" sz="3200" spc="-1" strike="noStrike">
                <a:solidFill>
                  <a:srgbClr val="362cbe"/>
                </a:solidFill>
                <a:latin typeface="Comic Sans MS"/>
              </a:rPr>
              <a:t> </a:t>
            </a:r>
            <a:br>
              <a:rPr sz="3200"/>
            </a:br>
            <a:r>
              <a:rPr b="1" lang="en-US" sz="3200" spc="-1" strike="noStrike">
                <a:solidFill>
                  <a:srgbClr val="362cbe"/>
                </a:solidFill>
                <a:latin typeface="Comic Sans MS"/>
              </a:rPr>
              <a:t>Su dueño es el Sultán Al Nahyan de la familia Shekh Zayed bin presidente de los Emiratos Arabes Unidos y gobernador de </a:t>
            </a:r>
            <a:r>
              <a:rPr b="0" lang="en-US" sz="3200" spc="-1" strike="noStrike">
                <a:solidFill>
                  <a:srgbClr val="362cbe"/>
                </a:solidFill>
                <a:latin typeface="Comic Sans MS"/>
              </a:rPr>
              <a:t>Abu-Dhabi.</a:t>
            </a:r>
            <a:r>
              <a:rPr b="1" lang="en-US" sz="3200" spc="-1" strike="noStrike">
                <a:solidFill>
                  <a:srgbClr val="362cbe"/>
                </a:solidFill>
                <a:latin typeface="Comic Sans MS"/>
              </a:rPr>
              <a:t> 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1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721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8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-14400"/>
            <a:ext cx="9296280" cy="688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1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6858000" cy="50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2cbe"/>
                </a:solidFill>
                <a:latin typeface="Comic Sans MS"/>
              </a:rPr>
              <a:t>El Audi A8 en plata fue hecho para el Sultán...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362cbe"/>
                </a:solidFill>
                <a:latin typeface="Comic Sans MS"/>
              </a:rPr>
              <a:t>El color plata no es pintura.</a:t>
            </a:r>
            <a:br>
              <a:rPr sz="4000"/>
            </a:br>
            <a:r>
              <a:rPr b="1" lang="en-US" sz="4000" spc="-1" strike="noStrike">
                <a:solidFill>
                  <a:srgbClr val="362cbe"/>
                </a:solidFill>
                <a:latin typeface="Comic Sans MS"/>
              </a:rPr>
              <a:t>   !Es plata de verdad!!!!! 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362cbe"/>
                </a:solidFill>
                <a:latin typeface="Comic Sans MS"/>
              </a:rPr>
              <a:t>       Elo aquí!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708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8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12952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Y todavía preguntas porqué el barril de petróleo está tan caro?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-380880"/>
            <a:ext cx="9144000" cy="822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-399960"/>
            <a:ext cx="9144000" cy="765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1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701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86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9:43:40Z</dcterms:created>
  <dc:creator>Jackie</dc:creator>
  <dc:description/>
  <dc:language>en-US</dc:language>
  <cp:lastModifiedBy>Soporte</cp:lastModifiedBy>
  <dcterms:modified xsi:type="dcterms:W3CDTF">2005-10-20T18:55:30Z</dcterms:modified>
  <cp:revision>4</cp:revision>
  <dc:subject/>
  <dc:title>Take a look at the attached photos as well.... The Audi A8 in SILVER was made for a sheik.... IT IS NOT SILVER in COLOR, IT IS MADE out of SILVER!!!!!   Also,  in case you're wondering where this hotel is, it isn't a hotel at all.   It is a house!    It's owned by the family of  Sheikh Zayed bin Sultan Al Nahyan, the former president of the United Arab Emirates and ruler of Abu-Dhabi. </dc:title>
</cp:coreProperties>
</file>