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52.9%20Melod%C3%ADaRelato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gif" ContentType="image/gif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A55-7F46-4601-B9BA-8CAF9945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5D1-73A6-4711-B6C2-B01D96AA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05B-BC02-4071-BEDB-A5BC2F0E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496-1E67-463B-9812-AC34BD86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BF8-60F7-4FE3-871C-9182E72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CC8-CDBA-4D25-98C8-FC27012C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4A4-2A9A-4016-9D91-22216F21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09F-0225-42F6-A042-6A6AA192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25C-241B-4108-B1B9-93C8859D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B4A-66EA-4C9B-AB75-04E23703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C5D-612E-42F9-8B0C-73A2AC19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CF4-8622-4414-803F-89DC393E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8648-63A4-449D-BC11-F17611660615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52.9%20Melod&#237;aRela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ÁfricadoSul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928800" y="2214720"/>
            <a:ext cx="4647960" cy="21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Parece hipócrita la tenacidad con que Eu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ura evitar la llegada de inmigrantes africanos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ando no son otra cosa que el residuo patético 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s correrías coloniales durante varios sigl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857240" y="85716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be0e3"/>
                </a:solidFill>
                <a:latin typeface="Arial Rounded MT Bold"/>
              </a:rPr>
              <a:t>EUROPA  CER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  <p:sndAc>
      <p:stSnd>
        <p:snd r:embed="rId2" name="52.9%20Melod%C3%ADaRelat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ritrei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79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556000" y="3141720"/>
            <a:ext cx="6181560" cy="21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recuerdan, alemane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campos de concentración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mibia y los cráneos d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ueblo hebreo diezmado que aún conserva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el Museo de Medicina de Berlin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erraLeoa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894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4140360" y="1484280"/>
            <a:ext cx="32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recuerdan, belga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s atrocidad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el Congo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ongoBrazzaville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824040" y="2886120"/>
            <a:ext cx="74959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recuerdan, portugueses, su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rtíferas excavaciones en busca del oro de Angol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s cacerías de esclavos en Mozambique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uinéEquator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611280" y="4437000"/>
            <a:ext cx="70768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fue vuestra codicia , europeos, lo que regó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nta sangre de niños inocent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diamantes de Sierra Leona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ongoKinhasa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37280"/>
          </a:xfrm>
          <a:prstGeom prst="rect">
            <a:avLst/>
          </a:prstGeom>
          <a:ln w="0">
            <a:noFill/>
          </a:ln>
        </p:spPr>
      </p:pic>
      <p:sp>
        <p:nvSpPr>
          <p:cNvPr id="70" name="WordArt 4"/>
          <p:cNvSpPr txBox="1"/>
          <p:nvPr/>
        </p:nvSpPr>
        <p:spPr>
          <a:xfrm>
            <a:off x="1332000" y="1557360"/>
            <a:ext cx="6686640" cy="21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ahora se permiten el luj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repeler estas barcazas de desesperado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ncerrar y de deporta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estos seres humanos que llegan a sus cost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afean sus bonitas playas mediterráneas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gipto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79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1619280" y="3213000"/>
            <a:ext cx="5533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 Europa fuese consecuente con su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pias políticas de derechos human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ndrían que acoger con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brazos abiertos 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omália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1835280" y="4292640"/>
            <a:ext cx="57052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africanos y suplicarles perdón de rodillas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reciéndoles compartir al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lo que se llevaron de sus tierras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esotho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24240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1258920" y="1557360"/>
            <a:ext cx="698184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lo curioso es que estos seres humanos desesper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piden lo que les correspondería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 la devolución de lo que les pertene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ibéri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571840" y="3929040"/>
            <a:ext cx="59054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enas piden las migajas de una limosn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nder baratijas en las plaza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partir diarios o limpiar automóviles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aun así no los quier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ana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97760"/>
          </a:xfrm>
          <a:prstGeom prst="rect">
            <a:avLst/>
          </a:prstGeom>
          <a:ln w="0">
            <a:noFill/>
          </a:ln>
        </p:spPr>
      </p:pic>
      <p:sp>
        <p:nvSpPr>
          <p:cNvPr id="81" name="WordArt 7"/>
          <p:cNvSpPr txBox="1"/>
          <p:nvPr/>
        </p:nvSpPr>
        <p:spPr>
          <a:xfrm>
            <a:off x="971640" y="1341360"/>
            <a:ext cx="6953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masiado doloroso el espectáculo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masiado triste que en el centro de vuestr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 civilización se muestren los rostros oscur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las víctimas que la hicieron posib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iger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548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84360" y="3284640"/>
            <a:ext cx="76104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Acaso espera Europa que después de saquear Áfric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pojándola de su cultura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sus recursos materiales y humanos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inyectarla con su fiebre perniciosa de consumo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enin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2124000" y="4292640"/>
            <a:ext cx="43243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uestra ceguera es admirable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uestra hipocresía criminal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uestra bajeza formidab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urundi"/>
          <p:cNvPicPr/>
          <p:nvPr/>
        </p:nvPicPr>
        <p:blipFill>
          <a:blip r:embed="rId1"/>
          <a:stretch/>
        </p:blipFill>
        <p:spPr>
          <a:xfrm>
            <a:off x="0" y="0"/>
            <a:ext cx="9144000" cy="627372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1908000" y="4724280"/>
            <a:ext cx="4581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ten largamente sobr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 que están haciendo europe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Gâmbia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826920" y="4076640"/>
            <a:ext cx="61628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stedes, hacedores de historia, serían estúp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 olvidasen sus enseñanza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urquinaFasso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688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1357200" y="1000080"/>
            <a:ext cx="550080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o el poder de Roma no impidió su caí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manos de los bárbar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a la majestad de Britania se derrumb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n atenuantes ante las masas encendi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r un hombrecito de apariencia insignifica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de corazón inmen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Uganda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2340000" y="4005360"/>
            <a:ext cx="35337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pertad de vuestro sue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pe y egoist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ali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2050920" y="3789360"/>
            <a:ext cx="45054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mun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ita desesperado en torno vuestr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arrocos"/>
          <p:cNvPicPr/>
          <p:nvPr/>
        </p:nvPicPr>
        <p:blipFill>
          <a:blip r:embed="rId1"/>
          <a:stretch/>
        </p:blipFill>
        <p:spPr>
          <a:xfrm>
            <a:off x="1481040" y="0"/>
            <a:ext cx="6181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4"/>
          <p:cNvSpPr txBox="1"/>
          <p:nvPr/>
        </p:nvSpPr>
        <p:spPr>
          <a:xfrm>
            <a:off x="1619280" y="1268280"/>
            <a:ext cx="54388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Cuánto tiempo más creen que podrá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ngir no escuchar?'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tiópia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1143000" y="857160"/>
            <a:ext cx="689616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uropa desea permanecer cerrad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entras una África saqueada hasta la sacied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 desangra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57160" y="3857760"/>
            <a:ext cx="742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Quiero destacar que la misma situación de discriminación a la que se refiere este trabajo, es plenamente aplicable al trato que dá Europa a los Sudamericanos («sudacas » según ellos nos llaman)  luego del saqueo y el genocidio al que sometieron a este continente en los oscuros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de la « Conquista y Colonización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especialmente por parte de España, Portugal y la Gran Bre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Guiné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897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2571840" y="5286240"/>
            <a:ext cx="44006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gual que nuestra América Latin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gual que el Oriente de segund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udão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"/>
          <p:cNvSpPr txBox="1"/>
          <p:nvPr/>
        </p:nvSpPr>
        <p:spPr>
          <a:xfrm>
            <a:off x="3059280" y="3933720"/>
            <a:ext cx="4114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guramente,algún día,Eu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brirá su corazón, sus puerta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ngola"/>
          <p:cNvPicPr/>
          <p:nvPr/>
        </p:nvPicPr>
        <p:blipFill>
          <a:blip r:embed="rId1"/>
          <a:stretch/>
        </p:blipFill>
        <p:spPr>
          <a:xfrm>
            <a:off x="1176480" y="0"/>
            <a:ext cx="6791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547640" y="3141720"/>
            <a:ext cx="59817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ueda hacer frente al nuevo mileni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o un castillo artillado  en cuyo interio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os son felices mientras fuer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ólo hay hambre y desesperación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RepCentroAfricana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755640" y="4581360"/>
            <a:ext cx="73915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guramente aprenderemos algún d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tratarnos todos los seres humanos como iguales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Togo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755640" y="1125360"/>
            <a:ext cx="777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no ser así, estaríamos aceptand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distintos genocidios ocurridos a lo largo de la histor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o hechos normales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oçambique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4140360" y="5013360"/>
            <a:ext cx="16286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tonces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Gabão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900000" y="1484280"/>
            <a:ext cx="7417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bre de Europa cuando China le eche mano ( y le echará)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bre EEUU cuando China le eche mano (y le echará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hade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133640" y="2889360"/>
            <a:ext cx="6876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Habrá africanos que deseen defenderl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brá latinoamericanos que deseen defenderla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Ruanda"/>
          <p:cNvPicPr/>
          <p:nvPr/>
        </p:nvPicPr>
        <p:blipFill>
          <a:blip r:embed="rId1"/>
          <a:stretch/>
        </p:blipFill>
        <p:spPr>
          <a:xfrm>
            <a:off x="1719360" y="0"/>
            <a:ext cx="57052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2916360" y="1125360"/>
            <a:ext cx="3143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írémosles a los ojo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wazilândia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692360" y="1989000"/>
            <a:ext cx="5924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ubriremos la grandeza de sus almas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ibia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4"/>
          <p:cNvSpPr txBox="1"/>
          <p:nvPr/>
        </p:nvSpPr>
        <p:spPr>
          <a:xfrm>
            <a:off x="1979640" y="4076640"/>
            <a:ext cx="5362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emos un mundo mejor y más justo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adagáscar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4"/>
          <p:cNvSpPr txBox="1"/>
          <p:nvPr/>
        </p:nvSpPr>
        <p:spPr>
          <a:xfrm>
            <a:off x="1979640" y="4149720"/>
            <a:ext cx="417492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ecemos hoy mismo 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ntarl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Tânzani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578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>
            <a:off x="2571840" y="1214280"/>
            <a:ext cx="4162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los lo merec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37" descr="Dove"/>
          <p:cNvPicPr/>
          <p:nvPr/>
        </p:nvPicPr>
        <p:blipFill>
          <a:blip r:embed="rId2"/>
          <a:stretch/>
        </p:blipFill>
        <p:spPr>
          <a:xfrm>
            <a:off x="3867120" y="5357880"/>
            <a:ext cx="709560" cy="642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571760" y="6119640"/>
            <a:ext cx="57150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No sé quién realizó este  PowerPoint (pps)  que recib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Y que estoy reenviando con gratitud a su “autor desconocido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igéria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28520" y="2523960"/>
            <a:ext cx="8886960" cy="18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el cuento de Edgar Allan Poe 'La máscara de la muerte roja'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 simboliza la inutilidad del intento del príncip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ncerrarse en su palacio a dar fiest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sta que pase la peste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amarões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1547640" y="1341360"/>
            <a:ext cx="5829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muerte acabó entrando igual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uropa es rica gracias, en buena medid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todo lo que se llevó de Áfri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Zâmbi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1116000" y="3213000"/>
            <a:ext cx="66675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speran acaso que los africanos hambrien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 queden padeciendo la miseria de sus atrocidades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entras las sociedades europ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frutan de altos niveles de vid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otswan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4204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826920" y="3716280"/>
            <a:ext cx="68677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Creen que es tolerable que qui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s robó, mató y violó durante siglo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ngan ahora a pontifica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a darles leccion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bre moral internacional y derechos humanos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ãoToméePrincipe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2484360" y="907920"/>
            <a:ext cx="344808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cuerdan, inglese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s masacres de Kenya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Quénia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258920" y="1700280"/>
            <a:ext cx="637236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recuerdan, franceses, cuánto robaron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kar y de Costa de Marfil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1:55:29Z</dcterms:created>
  <dc:creator/>
  <dc:description/>
  <dc:language>en-US</dc:language>
  <cp:lastModifiedBy>Elias Correa</cp:lastModifiedBy>
  <dcterms:modified xsi:type="dcterms:W3CDTF">2010-11-10T14:02:54Z</dcterms:modified>
  <cp:revision>17</cp:revision>
  <dc:subject/>
  <dc:title>Diapositivo 1</dc:title>
</cp:coreProperties>
</file>