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1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ECD-64D0-45AA-B0DE-5241D348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85CC-0C66-4920-8AB4-BBA8C681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14A9-CD6A-4AC2-B0C8-E66F5036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4B92-CEEB-4522-AC72-B18A269C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ABED-C128-4E84-A444-D629287E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7AF0-6221-4FE9-9772-05348FA4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6B4F-FF7D-4FF3-AC26-EF32EC5B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5AC9-C051-463F-A963-7078B7C4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7426-2A94-422B-B1B2-B5960640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65FE-7CFD-432F-B714-F3B8F91D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25CC-EE2E-47B1-948A-17EAD54D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A506-4F9F-4A99-AF64-03D4304C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12A5-44A3-4D7E-BD17-55DAD75C0D3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14400" y="685800"/>
            <a:ext cx="7162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Erase una vez..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28600" y="2133720"/>
            <a:ext cx="8915400" cy="51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Había una vez una isla, en la que vivian todos los sentimientos y valores del hombr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l Buen Humor, la Tristeza, la Sabiduría...  Como también todos los demás, incluso el Am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E352-8BBC-418E-8E60-8C4982AFE34D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r"/>
    <p:sndAc>
      <p:stSnd>
        <p:snd r:embed="rId2" name="1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380880" y="321480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Baskerville"/>
              </a:rPr>
              <a:t>También envialo a cualquiera que tú consideres un AMIGO, también si puedes  regresamelo. Si este mensaje regresa a mi, puedo estar seguro que mi “círculo” de amistades está formado por verdaderos amigo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57160" y="1000080"/>
            <a:ext cx="7467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Envia este mensaje a tus amigos para que sepan cuán importantes son para tí !, y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que no tengas ganas de olvid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1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9E79-713A-487F-A83D-7802F2CF0732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13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9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6"/>
          <p:cNvSpPr/>
          <p:nvPr/>
        </p:nvSpPr>
        <p:spPr>
          <a:xfrm>
            <a:off x="285840" y="2571840"/>
            <a:ext cx="8686800" cy="157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i no lo envías a nadie querrá deci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que no tienes tiempo y que has olvidado a tus am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(Al menos por el Momento).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571760" y="4929120"/>
            <a:ext cx="60721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JIM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45EA-A912-4B57-A470-2CAF8E57EB99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9 Marcador de pie de página"/>
          <p:cNvSpPr/>
          <p:nvPr/>
        </p:nvSpPr>
        <p:spPr>
          <a:xfrm>
            <a:off x="142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771640" y="6165720"/>
            <a:ext cx="44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mylove1087@hotmail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457200" y="723960"/>
            <a:ext cx="838188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Un día se anunció a los sentimientos que la isla estaba por hundirs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ntonces todos prepararon sus barcos y partieron. Unicamente el Amor quedó esperando solo, hasta el último momen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Cuando la isla estuvo a punto de hundirse, el Amor decidió pedir ayud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C162-2658-40DC-8FB5-25DD077CCF76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28600" y="990720"/>
            <a:ext cx="89154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La Riqueza pasó cerca del Amor en una barca lujosísima y el Amor le dij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 “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Riqueza, ¿me puedes llevar contigo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No puedo porque tengo mucho oro y plata dentro de mi barca y no hay lugar para ti.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B82F-2407-42E4-87A4-746393E76D24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1066680"/>
            <a:ext cx="9144000" cy="49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ntonces el Amor decidió pedirle al Orgullo que estaba pasando en una magnífica barca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Orgullo te ruego, ¿puedes llevarme contigo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No puedo llevarte, Amor..." respondió  el Orgullo: “aqui  todo es perfecto, podrías aruinar mi barca”.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1578-692D-4AC9-8C05-275617DC9970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28600" y="1219320"/>
            <a:ext cx="868680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ntonces el Amor dijo a la Tristeza que se estaba acercando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Tristeza te lo pido, déjame ir contigo.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Oh Amor" respondió la Tristeza, “estoy tan triste que necesito estar sola”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9CC4-A17F-434B-937B-FF5AD97DA167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9 Marcador de pie de página"/>
          <p:cNvSpPr/>
          <p:nvPr/>
        </p:nvSpPr>
        <p:spPr>
          <a:xfrm>
            <a:off x="142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0" y="3143160"/>
            <a:ext cx="76438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Luego el Buen Humor pasó frente al Amor; pero estaba tan contento que no sintió que lo estaban llam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53CB-93B6-4259-9B08-5C6881AF6CA9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85840" y="1000080"/>
            <a:ext cx="853416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De repente una voz dij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Ven Amor, te llevo conmigo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ra un viejo el que lo había llam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l Amor se sintió tan contento y lleno de gozo que se olvidó de preguntar el nombre al viej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Cuando llegó a tierra firme, el viejo se f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CF08-86A5-49E7-830B-BE29D9B7998D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304920" y="914400"/>
            <a:ext cx="84582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l Amor se dió cuenta de cuanto le debía y le preguntó al Saber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Saber, ¿puedes decirme quién me ayudó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Ha sido el Tiempo” respondió el Sa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30C1-F9B8-4BFC-A985-CE18D7251F74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28600" y="1295280"/>
            <a:ext cx="89154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¿El Tiempo?" se preguntó el Amor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¿Por qué será que el Tiempo me ha ayudado?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l Saber lleno de sabiduría respondió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Porque solo el Tiempo es capaz de comprender cuan importante es el Amor en la vida"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E3FE-C93A-427A-93C5-20671EF6785C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3:47:50Z</dcterms:created>
  <dc:creator>jimmito</dc:creator>
  <dc:description/>
  <dc:language>en-US</dc:language>
  <cp:lastModifiedBy>User</cp:lastModifiedBy>
  <dcterms:modified xsi:type="dcterms:W3CDTF">2007-08-07T16:39:42Z</dcterms:modified>
  <cp:revision>25</cp:revision>
  <dc:subject/>
  <dc:title>Presentazione di PowerPoint</dc:title>
</cp:coreProperties>
</file>