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1a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41AB-5DFE-460B-BAAC-91BCA614F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CA40-F42B-4779-923F-EB0823EB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BBD5-17FC-4BAA-B6CB-471D07AC2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BA1B-53DF-46C1-BDE2-37484A265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C76B-D4BF-499D-844C-B3BE7996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4C00-CEF5-4FD0-825E-B908A6BF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3EE4-9562-407A-BEE5-CDA02DDF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7C8E-34E5-47B5-8139-6E6266E1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A5E0-0B16-4A06-9778-9894562D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8E6B-0355-4799-A74D-587E5E08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668D-FC8C-4101-9157-082306A9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FF30-77DF-4977-8439-86F88AFB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8C8E-0CE7-4BD5-9067-E820CBB45C6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1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14400" y="685800"/>
            <a:ext cx="7162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latin typeface="Arial Rounded MT Bold"/>
              </a:rPr>
              <a:t>Erase una vez...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228600" y="2133720"/>
            <a:ext cx="8915400" cy="51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Había una vez una isla, en la que vivian todos los sentimientos y valores del hombr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el Buen Humor, la Tristeza, la Sabiduría...  Como también todos los demás, incluso el Am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9 Marcador de pie de página"/>
          <p:cNvSpPr/>
          <p:nvPr/>
        </p:nvSpPr>
        <p:spPr>
          <a:xfrm>
            <a:off x="7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8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E248-08AE-4A50-82F2-1BC6D8EA3BD3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r"/>
    <p:sndAc>
      <p:stSnd>
        <p:snd r:embed="rId2" name="1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380880" y="3214800"/>
            <a:ext cx="8763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Baskerville"/>
              </a:rPr>
              <a:t>También envialo a cualquiera que tú consideres un AMIGO, también si puedes  regresamelo. Si este mensaje regresa a mi, puedo estar seguro que mi “círculo” de amistades está formado por verdaderos amigo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857160" y="1000080"/>
            <a:ext cx="74678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Envia este mensaje a tus amigos para que sepan cuán importantes son para tí !, y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que no tengas ganas de olvid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1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00AF-F3A8-4D73-BC16-69B5C92F24A9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13 Marcador de pie de página"/>
          <p:cNvSpPr/>
          <p:nvPr/>
        </p:nvSpPr>
        <p:spPr>
          <a:xfrm>
            <a:off x="7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9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6"/>
          <p:cNvSpPr/>
          <p:nvPr/>
        </p:nvSpPr>
        <p:spPr>
          <a:xfrm>
            <a:off x="285840" y="2571840"/>
            <a:ext cx="8686800" cy="157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Si no lo envías a nadie querrá deci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que no tienes tiempo y que has olvidado a tus amig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(Al menos por el Momento).</a:t>
            </a: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571760" y="4929120"/>
            <a:ext cx="60721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JIM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8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F42D-4D2F-4D2F-8622-8B93EA6E1C6C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9 Marcador de pie de página"/>
          <p:cNvSpPr/>
          <p:nvPr/>
        </p:nvSpPr>
        <p:spPr>
          <a:xfrm>
            <a:off x="142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2771640" y="6165720"/>
            <a:ext cx="44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mylove1087@hotmail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3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457200" y="723960"/>
            <a:ext cx="8381880" cy="61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Un día se anunció a los sentimientos que la isla estaba por hundirs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Entonces todos prepararon sus barcos y partieron. Unicamente el Amor quedó esperando solo, hasta el último momen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Cuando la isla estuvo a punto de hundirse, el Amor decidió pedir ayud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8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5221-7F5C-4A81-999B-459AE257AFB4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9 Marcador de pie de página"/>
          <p:cNvSpPr/>
          <p:nvPr/>
        </p:nvSpPr>
        <p:spPr>
          <a:xfrm>
            <a:off x="7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228600" y="990720"/>
            <a:ext cx="89154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La Riqueza pasó cerca del Amor en una barca lujosísima y el Amor le dij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 “</a:t>
            </a: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Riqueza, ¿me puedes llevar contigo?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"No puedo porque tengo mucho oro y plata dentro de mi barca y no hay lugar para ti."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8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3637-B757-4551-85F4-DBB1806487DF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9 Marcador de pie de página"/>
          <p:cNvSpPr/>
          <p:nvPr/>
        </p:nvSpPr>
        <p:spPr>
          <a:xfrm>
            <a:off x="7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0" y="1066680"/>
            <a:ext cx="9144000" cy="49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Entonces el Amor decidió pedirle al Orgullo que estaba pasando en una magnífica barca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“</a:t>
            </a: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Orgullo te ruego, ¿puedes llevarme contigo?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"No puedo llevarte, Amor..." respondió  el Orgullo: “aqui  todo es perfecto, podrías aruinar mi barca”.</a:t>
            </a: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8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126B-5331-459F-86F9-1600D4B8700F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9 Marcador de pie de página"/>
          <p:cNvSpPr/>
          <p:nvPr/>
        </p:nvSpPr>
        <p:spPr>
          <a:xfrm>
            <a:off x="7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28600" y="1219320"/>
            <a:ext cx="868680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Entonces el Amor dijo a la Tristeza que se estaba acercando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"Tristeza te lo pido, déjame ir contigo."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"Oh Amor" respondió la Tristeza, “estoy tan triste que necesito estar sola”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8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D372-9BB8-46FF-8498-D94F20766798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9 Marcador de pie de página"/>
          <p:cNvSpPr/>
          <p:nvPr/>
        </p:nvSpPr>
        <p:spPr>
          <a:xfrm>
            <a:off x="142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0" y="3143160"/>
            <a:ext cx="76438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Luego el Buen Humor pasó frente al Amor; pero estaba tan contento que no sintió que lo estaban llama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8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1EDE-C638-42D1-AD5D-C509AE578EB3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9 Marcador de pie de página"/>
          <p:cNvSpPr/>
          <p:nvPr/>
        </p:nvSpPr>
        <p:spPr>
          <a:xfrm>
            <a:off x="7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3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85840" y="1000080"/>
            <a:ext cx="853416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De repente una voz dij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"Ven Amor, te llevo conmigo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Era un viejo el que lo había llam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El Amor se sintió tan contento y lleno de gozo que se olvidó de preguntar el nombre al viej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Cuando llegó a tierra firme, el viejo se f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8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CA56-2390-47A3-838E-7570E1E0A70D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9 Marcador de pie de página"/>
          <p:cNvSpPr/>
          <p:nvPr/>
        </p:nvSpPr>
        <p:spPr>
          <a:xfrm>
            <a:off x="7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304920" y="914400"/>
            <a:ext cx="845820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El Amor se dió cuenta de cuanto le debía y le preguntó al Saber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“</a:t>
            </a: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Saber, ¿puedes decirme quién me ayudó?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“</a:t>
            </a: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Ha sido el Tiempo” respondió el Sab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8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B783-1AF9-49A4-B2B3-4F2477512381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9 Marcador de pie de página"/>
          <p:cNvSpPr/>
          <p:nvPr/>
        </p:nvSpPr>
        <p:spPr>
          <a:xfrm>
            <a:off x="7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28600" y="1295280"/>
            <a:ext cx="891540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“</a:t>
            </a: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¿El Tiempo?" se preguntó el Amor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“</a:t>
            </a: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¿Por qué será que el Tiempo me ha ayudado?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El Saber lleno de sabiduría respondió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"Porque solo el Tiempo es capaz de comprender cuan importante es el Amor en la vida"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8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2D4E-4D4C-4604-8469-251D798DE78F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9 Marcador de pie de página"/>
          <p:cNvSpPr/>
          <p:nvPr/>
        </p:nvSpPr>
        <p:spPr>
          <a:xfrm>
            <a:off x="7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13:47:50Z</dcterms:created>
  <dc:creator>jimmito</dc:creator>
  <dc:description/>
  <dc:language>en-US</dc:language>
  <cp:lastModifiedBy>User</cp:lastModifiedBy>
  <dcterms:modified xsi:type="dcterms:W3CDTF">2007-08-07T16:39:42Z</dcterms:modified>
  <cp:revision>25</cp:revision>
  <dc:subject/>
  <dc:title>Presentazione di PowerPoint</dc:title>
</cp:coreProperties>
</file>