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9F7-25D9-4B8E-A10D-D1581D55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721-60CE-48C6-B4AC-41E7EB3A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3FF-8724-47FC-9B40-5D6A18B9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F58-CA90-4798-842E-F3AA5C12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DE6-072C-41FC-87C2-DE514EA2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31B-E959-4686-9E4A-668019B6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B2A-2D12-4D07-9DE5-C052CA23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18B-F5A8-4F02-B2B8-8630CE7F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180-AC05-4E35-B54E-AD969D60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450-16F7-4F56-9802-45A25C5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CF1-FEE2-46D9-8FFA-33C02704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5DF-A202-4BC9-8C65-98C701F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F94B-1EF5-4056-A16E-BB373EFDE85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marcha militar - los peruanos pasan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alir con la tecla “Escap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9:06:31Z</dcterms:created>
  <dc:creator>Hugo</dc:creator>
  <dc:description/>
  <dc:language>en-US</dc:language>
  <cp:lastModifiedBy>Hugo</cp:lastModifiedBy>
  <dcterms:modified xsi:type="dcterms:W3CDTF">2009-07-18T20:24:22Z</dcterms:modified>
  <cp:revision>15</cp:revision>
  <dc:subject/>
  <dc:title>Diapositiva 1</dc:title>
</cp:coreProperties>
</file>