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5A9-0C0A-4153-8F0E-8052F58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814-609B-45AB-B40F-C997EFBA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67E-DDBE-4A21-815E-2835DBDF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124-65F7-40B0-B24A-158E195C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5AE-A904-4BDA-A99C-CD2C5925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51C-E2DE-4FCA-AEA1-3424F96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82B-8B7C-49CC-A5EE-DF8FB48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82B-C426-4915-932D-A9BB91AE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4B1-1108-4113-93A8-9E21D73F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FD5-C6A0-4720-B2EE-44DA73D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411-DEC6-420F-82B1-5FA7D0B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1AB-BA16-49A8-BF53-52AF5D6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987-BBA9-4EED-A545-A76903946CA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 militar - los peruanos pasa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ir con la tecla “Escap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9:06:31Z</dcterms:created>
  <dc:creator>Hugo</dc:creator>
  <dc:description/>
  <dc:language>en-US</dc:language>
  <cp:lastModifiedBy>Hugo</cp:lastModifiedBy>
  <dcterms:modified xsi:type="dcterms:W3CDTF">2009-07-18T20:24:22Z</dcterms:modified>
  <cp:revision>15</cp:revision>
  <dc:subject/>
  <dc:title>Diapositiva 1</dc:title>
</cp:coreProperties>
</file>