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regaria%20Ester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105-7BE0-41D6-814B-BA480B6D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6A6-2A18-422F-804D-EE94A7DF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32C-C7BE-4A2E-B938-6A0DDA23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9EE-20A0-44B4-AD07-7CDF60D9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A425-4B5D-43DB-8D7B-9C17C87C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F35-0D0C-4019-82A9-813C46C3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6E8-DDE3-48DD-8630-786147E9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EE3-8097-4D07-B757-1427FECE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6BF-377B-4D7C-B883-12C11333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1C6-2A37-4B9C-8380-F69B545F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F28-6472-4A5C-9C9F-C3E4CAA3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A23-5872-496A-9BD7-DEA4EE3F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3016-E449-4241-96EB-C2F054DD150D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egaria%20Ester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&#13;010228web.jpg                                                  00024639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238880" y="7632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ae0c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ae0c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ffae0c"/>
                </a:solidFill>
                <a:latin typeface="Comic Sans MS"/>
              </a:rPr>
              <a:t> C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928800"/>
            <a:ext cx="8839080" cy="12826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ffae0c"/>
                </a:solidFill>
                <a:latin typeface="Comic Sans MS"/>
              </a:rPr>
              <a:t>Domingo después de Pentecosté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ffae0c"/>
                </a:solidFill>
                <a:latin typeface="Comic Sans MS"/>
              </a:rPr>
              <a:t>La Santísima Trinida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964880" y="4648320"/>
            <a:ext cx="59778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ae0c"/>
                </a:solidFill>
                <a:latin typeface="Comic Sans MS"/>
              </a:rPr>
              <a:t>30 de mayo de 2010</a:t>
            </a:r>
            <a:r>
              <a:rPr b="0" i="1" lang="ca-E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57200" y="5791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ffffff"/>
                </a:solidFill>
                <a:latin typeface="Comic Sans MS"/>
              </a:rPr>
              <a:t>Música: (Sinagoga heb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  <p:sndAc>
      <p:stSnd>
        <p:snd r:embed="rId2" name="pregaria%20Ester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st benet\Mis documentos\Mis imágenes\animals\coloms\coloms66.jpg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214200" y="214200"/>
            <a:ext cx="8610840" cy="6802200"/>
          </a:xfrm>
          <a:prstGeom prst="rect">
            <a:avLst/>
          </a:prstGeom>
          <a:solidFill>
            <a:srgbClr val="abd9f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 8,22-31</a:t>
            </a:r>
            <a:r>
              <a:rPr b="0" lang="ca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« Yahveh me creó, primicia de su camino, antes que sus obras más antigu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Desde la eternidad fui fundada, desde el principio, antes que la tierr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Cuando no existían los abismos fui engendrada, cuando no había fuentes cargadas de agu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Antes que los montes fuesen asentados, antes que las colinas, fui engendrad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No había hecho aún la tierra ni los campos, ni el polvo primordial del orb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Cuando asentó los cielos, allí estaba yo, cuando trazó un círculo sobre la faz del abismo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cuando arriba condensó las nubes, cuando afianzó las fuentes del abismo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cuando al mar dio su precepto - y las aguas no rebasarán su orilla 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cuando asentó los cimientos de la tierr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yo estaba allí, como arquitecto, y era yo todos los días su delici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jugando en su presencia en todo tiempo, jugando por el orbe de su tierra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y mis delicias están con los hijos de los hombres. 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_x000b_01024ww.jpg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86280" y="263520"/>
            <a:ext cx="32515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0b07ff"/>
                </a:solidFill>
                <a:latin typeface="Comic Sans MS"/>
              </a:rPr>
              <a:t>Salmo </a:t>
            </a:r>
            <a:r>
              <a:rPr b="1" i="1" lang="ca-ES" sz="4000" spc="-1" strike="noStrike">
                <a:solidFill>
                  <a:srgbClr val="0b07ff"/>
                </a:solidFill>
                <a:latin typeface="Comic Sans MS"/>
              </a:rPr>
              <a:t>8</a:t>
            </a:r>
            <a:r>
              <a:rPr b="1" i="1" lang="ca-E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59200" y="2536920"/>
            <a:ext cx="48729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b0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¡Señor, Dios nuestro</a:t>
            </a:r>
            <a:br>
              <a:rPr sz="2800"/>
            </a:b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qué admirable es </a:t>
            </a:r>
            <a:br>
              <a:rPr sz="2800"/>
            </a:b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tu nombre en toda la tierra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761760" y="4451400"/>
            <a:ext cx="78588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b07ff"/>
                </a:solidFill>
                <a:latin typeface="Comic Sans MS"/>
              </a:rPr>
              <a:t>Al ver el cielo, obra de tus dedos,</a:t>
            </a:r>
            <a:br>
              <a:rPr sz="2800"/>
            </a:br>
            <a:r>
              <a:rPr b="1" i="1" lang="ca-ES" sz="2800" spc="-1" strike="noStrike">
                <a:solidFill>
                  <a:srgbClr val="0b07ff"/>
                </a:solidFill>
                <a:latin typeface="Comic Sans MS"/>
              </a:rPr>
              <a:t>la luna y las estrellas que has creado;</a:t>
            </a:r>
            <a:br>
              <a:rPr sz="2800"/>
            </a:br>
            <a:r>
              <a:rPr b="1" i="1" lang="ca-ES" sz="2800" spc="-1" strike="noStrike">
                <a:solidFill>
                  <a:srgbClr val="0b07ff"/>
                </a:solidFill>
                <a:latin typeface="Comic Sans MS"/>
              </a:rPr>
              <a:t>¿qué es el hombre para que te acuerdes de él,</a:t>
            </a:r>
            <a:br>
              <a:rPr sz="2800"/>
            </a:br>
            <a:r>
              <a:rPr b="1" i="1" lang="ca-ES" sz="2800" spc="-1" strike="noStrike">
                <a:solidFill>
                  <a:srgbClr val="0b07ff"/>
                </a:solidFill>
                <a:latin typeface="Comic Sans MS"/>
              </a:rPr>
              <a:t>el ser humano para que de él te cuid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&#13;010210web.jpg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317040" y="658800"/>
            <a:ext cx="5270760" cy="14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b07ff"/>
                </a:solidFill>
                <a:latin typeface="Comic Sans MS"/>
              </a:rPr>
              <a:t>¡Señor, Dios nuestro,</a:t>
            </a:r>
            <a:br>
              <a:rPr sz="3000"/>
            </a:br>
            <a:r>
              <a:rPr b="1" i="1" lang="ca-ES" sz="3000" spc="-1" strike="noStrike">
                <a:solidFill>
                  <a:srgbClr val="0b07ff"/>
                </a:solidFill>
                <a:latin typeface="Comic Sans MS"/>
              </a:rPr>
              <a:t>qué admirable es tu nombre</a:t>
            </a:r>
            <a:br>
              <a:rPr sz="3000"/>
            </a:br>
            <a:r>
              <a:rPr b="1" i="1" lang="ca-ES" sz="3000" spc="-1" strike="noStrike">
                <a:solidFill>
                  <a:srgbClr val="0b07ff"/>
                </a:solidFill>
                <a:latin typeface="Comic Sans MS"/>
              </a:rPr>
              <a:t>en toda la tierra! 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66560" y="3962520"/>
            <a:ext cx="7980480" cy="2288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cff45"/>
                </a:solidFill>
                <a:latin typeface="Comic Sans MS"/>
              </a:rPr>
              <a:t>Lo hiciste inferior a un dios,</a:t>
            </a:r>
            <a:br>
              <a:rPr sz="3600"/>
            </a:br>
            <a:r>
              <a:rPr b="1" i="1" lang="ca-ES" sz="3600" spc="-1" strike="noStrike">
                <a:solidFill>
                  <a:srgbClr val="0cff45"/>
                </a:solidFill>
                <a:latin typeface="Comic Sans MS"/>
              </a:rPr>
              <a:t>coronándolo de gloria y esplendor;</a:t>
            </a:r>
            <a:br>
              <a:rPr sz="3600"/>
            </a:br>
            <a:r>
              <a:rPr b="1" i="1" lang="ca-ES" sz="3600" spc="-1" strike="noStrike">
                <a:solidFill>
                  <a:srgbClr val="0cff45"/>
                </a:solidFill>
                <a:latin typeface="Comic Sans MS"/>
              </a:rPr>
              <a:t>le diste el dominio sobre la obra</a:t>
            </a:r>
            <a:br>
              <a:rPr sz="3600"/>
            </a:br>
            <a:r>
              <a:rPr b="1" i="1" lang="ca-ES" sz="3600" spc="-1" strike="noStrike">
                <a:solidFill>
                  <a:srgbClr val="0cff45"/>
                </a:solidFill>
                <a:latin typeface="Comic Sans MS"/>
              </a:rPr>
              <a:t>de tus manos.</a:t>
            </a:r>
            <a:r>
              <a:rPr b="0" i="1" lang="ca-ES" sz="3600" spc="-1" strike="noStrike">
                <a:solidFill>
                  <a:srgbClr val="0cff4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&#13;013820web.jpg                                                  00024639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3692160" y="380880"/>
            <a:ext cx="49280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cff45"/>
                </a:solidFill>
                <a:latin typeface="Comic Sans MS"/>
              </a:rPr>
              <a:t>¡Señor, Dios nuestro,</a:t>
            </a:r>
            <a:br>
              <a:rPr sz="2800"/>
            </a:br>
            <a:r>
              <a:rPr b="1" i="1" lang="ca-ES" sz="2800" spc="-1" strike="noStrike">
                <a:solidFill>
                  <a:srgbClr val="0cff45"/>
                </a:solidFill>
                <a:latin typeface="Comic Sans MS"/>
              </a:rPr>
              <a:t>qué admirable es tu nombre</a:t>
            </a:r>
            <a:br>
              <a:rPr sz="2800"/>
            </a:br>
            <a:r>
              <a:rPr b="1" i="1" lang="ca-ES" sz="2800" spc="-1" strike="noStrike">
                <a:solidFill>
                  <a:srgbClr val="0cff45"/>
                </a:solidFill>
                <a:latin typeface="Comic Sans MS"/>
              </a:rPr>
              <a:t>en toda la tierra!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80880" y="4114800"/>
            <a:ext cx="8763120" cy="237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ae0c"/>
                </a:solidFill>
                <a:latin typeface="Comic Sans MS"/>
              </a:rPr>
              <a:t>Todo lo pusiste bajo sus pies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ae0c"/>
                </a:solidFill>
                <a:latin typeface="Comic Sans MS"/>
              </a:rPr>
              <a:t>rebaños y vacadas, todos juntos,</a:t>
            </a:r>
            <a:br>
              <a:rPr sz="3000"/>
            </a:br>
            <a:r>
              <a:rPr b="1" i="1" lang="ca-ES" sz="3000" spc="-1" strike="noStrike">
                <a:solidFill>
                  <a:srgbClr val="ffae0c"/>
                </a:solidFill>
                <a:latin typeface="Comic Sans MS"/>
              </a:rPr>
              <a:t>y aun las bestias salvajes,</a:t>
            </a:r>
            <a:br>
              <a:rPr sz="3000"/>
            </a:br>
            <a:r>
              <a:rPr b="1" i="1" lang="ca-ES" sz="3000" spc="-1" strike="noStrike">
                <a:solidFill>
                  <a:srgbClr val="ffae0c"/>
                </a:solidFill>
                <a:latin typeface="Comic Sans MS"/>
              </a:rPr>
              <a:t>las aves del cielo, los peces del mar</a:t>
            </a:r>
            <a:br>
              <a:rPr sz="3000"/>
            </a:br>
            <a:r>
              <a:rPr b="1" i="1" lang="ca-ES" sz="3000" spc="-1" strike="noStrike">
                <a:solidFill>
                  <a:srgbClr val="ffae0c"/>
                </a:solidFill>
                <a:latin typeface="Comic Sans MS"/>
              </a:rPr>
              <a:t>y todo cuanto surca la sendas de las agua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st benet\Mis documentos\Mis imágenes\animals\coloms\resized_untitled4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285840" y="334800"/>
            <a:ext cx="8501040" cy="6489720"/>
          </a:xfrm>
          <a:prstGeom prst="rect">
            <a:avLst/>
          </a:prstGeom>
          <a:solidFill>
            <a:srgbClr val="a8d5f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m 5,1-5</a:t>
            </a:r>
            <a:r>
              <a:rPr b="0" lang="ca-E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biendo, pues, recibido de la fe nuestra justificación, estamos en paz con Dios, por nuestro Señor Jesucristo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 quien hemos obtenido también, mediante la fe, el acceso a esta gracia en la cual nos hallamos, y nos gloriamos en la esperanza de la gloria de Dios. Más aún; nos gloriamos hasta en las tribulaciones, sabiendo que la tribulación  engendra la paciencia; la paciencia, virtud probada; la virtud probada, esperanza, y la esperanza no falla, porque el amor de Dios ha sido derramado en nuestros corazones por el Espíritu Santo que nos ha sido dado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_x000c_01027web.jpg                                                   00024639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852120" y="1620720"/>
            <a:ext cx="6761520" cy="176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b07ff"/>
                </a:solidFill>
                <a:latin typeface="Comic Sans MS"/>
              </a:rPr>
              <a:t> </a:t>
            </a:r>
            <a:r>
              <a:rPr b="1" i="1" lang="ca-ES" sz="2000" spc="-1" strike="noStrike">
                <a:solidFill>
                  <a:srgbClr val="970409"/>
                </a:solidFill>
                <a:latin typeface="Comic Sans MS"/>
              </a:rPr>
              <a:t>Aleluya</a:t>
            </a:r>
            <a:r>
              <a:rPr b="1" i="1" lang="ca-ES" sz="1600" spc="-1" strike="noStrike">
                <a:solidFill>
                  <a:srgbClr val="970409"/>
                </a:solidFill>
                <a:latin typeface="Comic Sans MS"/>
              </a:rPr>
              <a:t>   Ap 1, 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b07ff"/>
                </a:solidFill>
                <a:latin typeface="Comic Sans MS"/>
              </a:rPr>
              <a:t> </a:t>
            </a:r>
            <a:r>
              <a:rPr b="1" i="1" lang="ca-ES" sz="3000" spc="-1" strike="noStrike">
                <a:solidFill>
                  <a:srgbClr val="0b07ff"/>
                </a:solidFill>
                <a:latin typeface="Comic Sans MS"/>
              </a:rPr>
              <a:t>Gloria al Padre, gloria al Hijo,</a:t>
            </a:r>
            <a:br>
              <a:rPr sz="3000"/>
            </a:br>
            <a:r>
              <a:rPr b="1" i="1" lang="ca-ES" sz="3000" spc="-1" strike="noStrike">
                <a:solidFill>
                  <a:srgbClr val="0b07ff"/>
                </a:solidFill>
                <a:latin typeface="Comic Sans MS"/>
              </a:rPr>
              <a:t>gloria al Espíritu Santo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b07ff"/>
                </a:solidFill>
                <a:latin typeface="Comic Sans MS"/>
              </a:rPr>
              <a:t>Al Dios que es, que era y que vendrá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&#10;081-7w.jpg    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423880" y="6172200"/>
            <a:ext cx="6389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Jerusalén. Explanada del Templo. Mezquita de la Roc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685800"/>
            <a:ext cx="8686800" cy="5060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970409"/>
                </a:solidFill>
                <a:latin typeface="Comic Sans MS"/>
              </a:rPr>
              <a:t>Juan 16, 12-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cho tengo todavía que deciros, pero ahora no podéis con ello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ando venga él, el Espíritu de la verdad, os guiará hasta la verdad completa; pues no hablará por su cuenta, sino que hablará lo que oiga, y os anunciará lo que ha de veni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e dará gloria, porque recibirá de lo mío y os lo anunciará a vosotro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o lo que tiene el Padre es mío. Por eso he dicho: Recibirá de lo mío y os lo anunciará a vosotro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15:16:14Z</dcterms:created>
  <dc:creator>JOAN RAMIREZ</dc:creator>
  <dc:description/>
  <dc:language>en-US</dc:language>
  <cp:lastModifiedBy>Usuario</cp:lastModifiedBy>
  <dcterms:modified xsi:type="dcterms:W3CDTF">2010-05-25T19:32:42Z</dcterms:modified>
  <cp:revision>15</cp:revision>
  <dc:subject/>
  <dc:title>Presentación de PowerPoint</dc:title>
</cp:coreProperties>
</file>