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25.jpeg" ContentType="image/jpeg"/>
  <Override PartName="/ppt/media/image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6.jpeg" ContentType="image/jpeg"/>
  <Override PartName="/ppt/media/Abba-Dancing%20Queen-3.51.wav" ContentType="audio/x-wav"/>
  <Override PartName="/ppt/media/image42.jpeg" ContentType="image/jpeg"/>
  <Override PartName="/ppt/media/image59.jpeg" ContentType="image/jpeg"/>
  <Override PartName="/ppt/media/image6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CAA-53A4-4D69-B723-22ADA8C3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EF9-DCFB-4AE6-B0F0-E596A7F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736-873C-4CD4-B237-3777A75A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1EC-62C7-47B2-9F88-21BEFE6F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EC7-87FA-4F92-BABF-A5477620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48C-7AE4-405B-91EA-4A7AEEC2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5F7-923B-4079-80A9-A6F4218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FB2-FEB4-475E-A0D7-3EFE702F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1C4-45ED-4CB1-A141-EC22C5CD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E07-4C7A-46D0-868F-3176C0B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1EF-56EB-4223-856C-37A0DD2D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10E-5C5B-4AF1-8070-94F5F06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65DC-BC9A-4F3B-8D94-2288E68BF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bba-Dancing%20Queen-3.5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649116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Music: Abba's "Dancing Quee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383160" y="649116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Click to Advanc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1922400" y="4503600"/>
            <a:ext cx="5451480" cy="180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7373880" y="2278080"/>
            <a:ext cx="0" cy="222732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308240" y="1585800"/>
            <a:ext cx="714204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7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Arial Black"/>
              </a:rPr>
              <a:t>Shera Bech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800680" y="2928960"/>
            <a:ext cx="1528920" cy="152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2697840" y="461952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ccff"/>
                </a:solidFill>
                <a:uFillTx/>
                <a:latin typeface="Arial"/>
              </a:rPr>
              <a:t>Hugh Hefner's Newest Girl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317811945_shera-bechard-97[1]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1317811890_shera-bechard-96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317811893_shera-bechard-102[1]"/>
          <p:cNvPicPr/>
          <p:nvPr/>
        </p:nvPicPr>
        <p:blipFill>
          <a:blip r:embed="rId1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1317811937_shera-bechard-101[1]"/>
          <p:cNvPicPr/>
          <p:nvPr/>
        </p:nvPicPr>
        <p:blipFill>
          <a:blip r:embed="rId2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Line 9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317811912_shera-bechard-103[1]"/>
          <p:cNvPicPr/>
          <p:nvPr/>
        </p:nvPicPr>
        <p:blipFill>
          <a:blip r:embed="rId1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317811866_shera-bechard-99[1]"/>
          <p:cNvPicPr/>
          <p:nvPr/>
        </p:nvPicPr>
        <p:blipFill>
          <a:blip r:embed="rId2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1317811971_shera-bechard-10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317811952_shera-bechard-11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317811882_shera-bechard-100[1]"/>
          <p:cNvPicPr/>
          <p:nvPr/>
        </p:nvPicPr>
        <p:blipFill>
          <a:blip r:embed="rId1"/>
          <a:stretch/>
        </p:blipFill>
        <p:spPr>
          <a:xfrm>
            <a:off x="0" y="0"/>
            <a:ext cx="4583160" cy="686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1317811892_shera-bechard-98[1]"/>
          <p:cNvPicPr/>
          <p:nvPr/>
        </p:nvPicPr>
        <p:blipFill>
          <a:blip r:embed="rId2"/>
          <a:stretch/>
        </p:blipFill>
        <p:spPr>
          <a:xfrm>
            <a:off x="4560840" y="0"/>
            <a:ext cx="4583160" cy="6869160"/>
          </a:xfrm>
          <a:prstGeom prst="rect">
            <a:avLst/>
          </a:prstGeom>
          <a:ln w="0">
            <a:noFill/>
          </a:ln>
        </p:spPr>
      </p:pic>
      <p:sp>
        <p:nvSpPr>
          <p:cNvPr id="82" name="Line 17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317811961_shera-bechard-107[1]"/>
          <p:cNvPicPr/>
          <p:nvPr/>
        </p:nvPicPr>
        <p:blipFill>
          <a:blip r:embed="rId1"/>
          <a:stretch/>
        </p:blipFill>
        <p:spPr>
          <a:xfrm>
            <a:off x="0" y="0"/>
            <a:ext cx="4583160" cy="686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317811953_shera-bechard-108[1]"/>
          <p:cNvPicPr/>
          <p:nvPr/>
        </p:nvPicPr>
        <p:blipFill>
          <a:blip r:embed="rId2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Line 7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317811912_shera-bechard-105[1]"/>
          <p:cNvPicPr/>
          <p:nvPr/>
        </p:nvPicPr>
        <p:blipFill>
          <a:blip r:embed="rId1"/>
          <a:stretch/>
        </p:blipFill>
        <p:spPr>
          <a:xfrm>
            <a:off x="0" y="-11160"/>
            <a:ext cx="4583160" cy="6869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317811925_shera-bechard-106[1]"/>
          <p:cNvPicPr/>
          <p:nvPr/>
        </p:nvPicPr>
        <p:blipFill>
          <a:blip r:embed="rId2"/>
          <a:stretch/>
        </p:blipFill>
        <p:spPr>
          <a:xfrm>
            <a:off x="4560840" y="-11160"/>
            <a:ext cx="4583160" cy="6869160"/>
          </a:xfrm>
          <a:prstGeom prst="rect">
            <a:avLst/>
          </a:prstGeom>
          <a:ln w="0">
            <a:noFill/>
          </a:ln>
        </p:spPr>
      </p:pic>
      <p:sp>
        <p:nvSpPr>
          <p:cNvPr id="88" name="Line 10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317812004_shera-bechard-109[1]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1317811956_shera-bechard-110[1]"/>
          <p:cNvPicPr/>
          <p:nvPr/>
        </p:nvPicPr>
        <p:blipFill>
          <a:blip r:embed="rId2"/>
          <a:stretch/>
        </p:blipFill>
        <p:spPr>
          <a:xfrm>
            <a:off x="4560840" y="0"/>
            <a:ext cx="4583160" cy="686916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317812027_shera-bechard-113[1]"/>
          <p:cNvPicPr/>
          <p:nvPr/>
        </p:nvPicPr>
        <p:blipFill>
          <a:blip r:embed="rId1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1317811936_shera-bechard-114[1]"/>
          <p:cNvPicPr/>
          <p:nvPr/>
        </p:nvPicPr>
        <p:blipFill>
          <a:blip r:embed="rId2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4056120"/>
            <a:ext cx="914400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t looks like Hugh Hefner is wasting no time moving on after his ex-fiance Crystal Harris called off their June 18 wedding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st a few days after Crystal left, Hefner introduced Anna Sophia Berglund as his "best girl" and said that "Anna is really one in a million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fner has now gone and added to his list of girlfri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OPLE is reporting that Hefner has introduced Playboy Playmate Shera Bechard as his newest girlfriend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layboy founder confirmed the news after a Twitter follower sent Hefner a tweet asking, "Is Shera a new girlfriend or playmate?"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85-year-old responded, "Shera is both our November 2011 Playmate &amp; my new girlfriend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chard also confirmed the news on her Twitter page saying, "It's true... @SheraBechard really does love @hughhefner !!! The world is in alignment again!!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27-year-old Canadian model and aspiring actress also added, "You don't waste time when you're 85 &amp; fabulous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676520" y="49320"/>
            <a:ext cx="5792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317811972_shera-bechard-112[1]"/>
          <p:cNvPicPr/>
          <p:nvPr/>
        </p:nvPicPr>
        <p:blipFill>
          <a:blip r:embed="rId1"/>
          <a:stretch/>
        </p:blipFill>
        <p:spPr>
          <a:xfrm>
            <a:off x="0" y="0"/>
            <a:ext cx="4583160" cy="686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317811997_shera-bechard-123[1]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27356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>
            <a:off x="42642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317811952_shera-bechard-11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1317811966_shera-bechard-1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0" descr="1317812063_shera-bechard-12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317812041_shera-bechard-11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317812045_shera-bechard-11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1317812061_shera-bechard-12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317812062_shera-bechard-1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4"/>
          <p:cNvGrpSpPr/>
          <p:nvPr/>
        </p:nvGrpSpPr>
        <p:grpSpPr>
          <a:xfrm>
            <a:off x="731880" y="2354400"/>
            <a:ext cx="7665840" cy="2124000"/>
            <a:chOff x="731880" y="2354400"/>
            <a:chExt cx="7665840" cy="2124000"/>
          </a:xfrm>
        </p:grpSpPr>
        <p:pic>
          <p:nvPicPr>
            <p:cNvPr id="51" name="Picture 4" descr=""/>
            <p:cNvPicPr/>
            <p:nvPr/>
          </p:nvPicPr>
          <p:blipFill>
            <a:blip r:embed="rId1"/>
            <a:stretch/>
          </p:blipFill>
          <p:spPr>
            <a:xfrm>
              <a:off x="731880" y="2354400"/>
              <a:ext cx="766584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4917600" y="2914920"/>
              <a:ext cx="34178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ar of the movie Sweet Karma, and Playboy’s Miss November 2010, </a:t>
              </a: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hera Bechard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, proudly declares "I’m no cookie-cutter. If there’s a bandwagon, I won’t be on it." Indeed, it’s impossible to categorize Miss Bechard, a French Canadian beauty. "I’m a shy girl who hates pretension," she says. And though Shera scored a best actress award last year at the Austin, Texas-based Fantastic Film Fest for her avenging angel character in the grind-house thriller "Sweet Karma", she actually dislikes gory movies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2894040" y="273852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cc"/>
                  </a:solidFill>
                  <a:latin typeface="Arial"/>
                </a:rPr>
                <a:t>Shera Bech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2892600" y="3030840"/>
              <a:ext cx="192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ometown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apuskasing, 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2893320" y="3184560"/>
              <a:ext cx="19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rthday:  Septembe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, 198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2893320" y="3338640"/>
              <a:ext cx="89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ight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'7"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2894400" y="3492720"/>
              <a:ext cx="11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ight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 l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2894040" y="3645000"/>
              <a:ext cx="91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reast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2"/>
            <p:cNvSpPr/>
            <p:nvPr/>
          </p:nvSpPr>
          <p:spPr>
            <a:xfrm>
              <a:off x="2894040" y="3799080"/>
              <a:ext cx="18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asurements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CC-23-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3" descr=""/>
            <p:cNvPicPr/>
            <p:nvPr/>
          </p:nvPicPr>
          <p:blipFill>
            <a:blip r:embed="rId2"/>
            <a:stretch/>
          </p:blipFill>
          <p:spPr>
            <a:xfrm>
              <a:off x="885600" y="2853000"/>
              <a:ext cx="1918800" cy="127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16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hera-bechard4[1]"/>
          <p:cNvPicPr/>
          <p:nvPr/>
        </p:nvPicPr>
        <p:blipFill>
          <a:blip r:embed="rId1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shera-bechard1[1]"/>
          <p:cNvPicPr/>
          <p:nvPr/>
        </p:nvPicPr>
        <p:blipFill>
          <a:blip r:embed="rId2"/>
          <a:stretch/>
        </p:blipFill>
        <p:spPr>
          <a:xfrm>
            <a:off x="458460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hera-bechard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1" descr="shera-bechard5[1]"/>
          <p:cNvPicPr/>
          <p:nvPr/>
        </p:nvPicPr>
        <p:blipFill>
          <a:blip r:embed="rId1"/>
          <a:stretch/>
        </p:blipFill>
        <p:spPr>
          <a:xfrm>
            <a:off x="0" y="0"/>
            <a:ext cx="46116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shera-bechard6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Line 2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hera-bechard7[1]"/>
          <p:cNvPicPr/>
          <p:nvPr/>
        </p:nvPicPr>
        <p:blipFill>
          <a:blip r:embed="rId1"/>
          <a:stretch/>
        </p:blipFill>
        <p:spPr>
          <a:xfrm>
            <a:off x="0" y="0"/>
            <a:ext cx="46116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shera-bechard8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shera-bechard9[1]"/>
          <p:cNvPicPr/>
          <p:nvPr/>
        </p:nvPicPr>
        <p:blipFill>
          <a:blip r:embed="rId1"/>
          <a:stretch/>
        </p:blipFill>
        <p:spPr>
          <a:xfrm>
            <a:off x="0" y="0"/>
            <a:ext cx="4611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hera-bechard12[1]"/>
          <p:cNvPicPr/>
          <p:nvPr/>
        </p:nvPicPr>
        <p:blipFill>
          <a:blip r:embed="rId2"/>
          <a:stretch/>
        </p:blipFill>
        <p:spPr>
          <a:xfrm>
            <a:off x="4532400" y="0"/>
            <a:ext cx="46116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Line 7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shera-bechard1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hera-bechard10[1]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shera-bechard4[1]"/>
          <p:cNvPicPr/>
          <p:nvPr/>
        </p:nvPicPr>
        <p:blipFill>
          <a:blip r:embed="rId2"/>
          <a:stretch/>
        </p:blipFill>
        <p:spPr>
          <a:xfrm>
            <a:off x="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shera-bechard7[1]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hera-bechard15[1]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Line 11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317811875_shera-bechard-91[1]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2"/>
          <a:srcRect l="3019" t="0" r="0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shera-bechard8[1]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shera-bechard9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Line 10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shera-bechard12[1]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shera-bechard1[2]"/>
          <p:cNvPicPr/>
          <p:nvPr/>
        </p:nvPicPr>
        <p:blipFill>
          <a:blip r:embed="rId1"/>
          <a:stretch/>
        </p:blipFill>
        <p:spPr>
          <a:xfrm>
            <a:off x="0" y="0"/>
            <a:ext cx="458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shera-bechard2[1]"/>
          <p:cNvPicPr/>
          <p:nvPr/>
        </p:nvPicPr>
        <p:blipFill>
          <a:blip r:embed="rId2"/>
          <a:stretch/>
        </p:blipFill>
        <p:spPr>
          <a:xfrm>
            <a:off x="455436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Line 1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shera-bechard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hera-bechard11[1]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shera-bechard6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hera-bechard16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hera-bechard14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317811893_shera-bechard-9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1317811912_shera-bechard-9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317811896_shera-bechard-9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317811906_shera-bechard-9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6" descr="1317811896_shera-bechard-9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05:29:07Z</dcterms:created>
  <dc:creator>Windows User</dc:creator>
  <dc:description/>
  <dc:language>en-US</dc:language>
  <cp:lastModifiedBy>Jeffrey Burton</cp:lastModifiedBy>
  <dcterms:modified xsi:type="dcterms:W3CDTF">2012-12-17T00:55:12Z</dcterms:modified>
  <cp:revision>13</cp:revision>
  <dc:subject/>
  <dc:title>Slide 1</dc:title>
</cp:coreProperties>
</file>