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lasicaValsesVienesesLosPatinador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736-C33E-4A81-B557-CBB844BF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5D6-33A8-4750-A058-BB1DDD5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663-BAF0-4497-A54D-F6955467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C34-2006-4A50-B4D4-698A49AD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447-E42A-4C9C-A296-868B562D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623-A89A-49FC-A8BB-0BAC79A0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CD8-66A0-46A0-8C15-6413861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45A-4526-4375-A0E1-8E627163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BA9-CAA1-449C-8F4A-966CE5B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3F3-FFBC-4BBD-B419-6404C3A6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D92-83A7-41E5-A1F2-9547D02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40A-2C90-4DB5-B7BD-4B7D8C1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C1EB-D814-44AB-BFE3-A5BBF4990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asicaValsesVienesesLosPatinador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77336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MAQUETA DE TREN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3860640"/>
            <a:ext cx="77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S GRANDE DEL MUNDO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random/>
    <p:sndAc>
      <p:stSnd>
        <p:snd r:embed="rId1" name="ClasicaValsesVienesesLosPatinador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616572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 tren más largo mide 14 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8350200" cy="53881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602136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 escenario incluye 900 señales, 2.800 construcciones y 4.000 coches, muchos de ellos con iluminación prop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021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...y 160.000 figuras diseñadas individualment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635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755640" y="602136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Para construir esta maqueta se están usando cientos de kilogramos de acero y madera, que es de lo que está construida en su mayoría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31640"/>
            <a:ext cx="8353440" cy="539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616572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s 250.000 luces están dirigidas por un sistema que emula la noche y el día automátic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04640"/>
            <a:ext cx="0" cy="5400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628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16572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odo el sistema está controlado por un centro de computación de alta tecnologí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021360"/>
            <a:ext cx="813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n total la construcción lleva consumidas unas 500.000 horas de trabajo y la mayor parte del presupuesto para su construcción proviene de la venta de tickets para visitar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58640"/>
            <a:ext cx="8136000" cy="524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942160"/>
            <a:ext cx="77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Gerrit dice: "Nuestra idea era construir un mundo en el que los hombres, mujeres, y niños parezcan realmente integrados en el entorno de la maqueta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189000"/>
            <a:ext cx="6480000" cy="507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92800"/>
            <a:ext cx="878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Frederik añade: "Desde los juegos de azar en Las Vegas , al senderismo en Los Alpes o el remo en los Fiordos Noruegos - En Wunderland todo es posible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l conjunto está en exposición al público y es tan grande que emplea a más de 160 guías para atender a los visit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Su ubicación: Hamburgo,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60280"/>
            <a:ext cx="4559400" cy="59054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30864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 sección Suiza contempla una mini-estación inver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43640" y="83664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9640" y="2060640"/>
            <a:ext cx="142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72360" y="335772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028000" y="6237360"/>
            <a:ext cx="576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---P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0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33360"/>
            <a:ext cx="8496000" cy="548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093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s la maqueta de tren más grande del mundo con 1.150 m2. Actualmente cuenta con casi 11 Km de recorrido y aún no está 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336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77000"/>
            <a:ext cx="77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os hermanos Frederick y Gerrit Braun, de 41 años, comenzaron a trabajar en "Miniature Wunderland" en el año 2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3336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877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 maqueta incluye 6 regiones, incluyendo América , Suiza, Escandinavia , Alemania y los Alpes de Austr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0464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950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La sección de América incluye modelos de las Montañas Rocosas, Everglades, y el Gran Cañón de Colorado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8496000" cy="548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093000"/>
            <a:ext cx="77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ff"/>
                </a:solidFill>
                <a:latin typeface="Times New Roman"/>
              </a:rPr>
              <a:t>...y el Monte Rush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8353440" cy="53895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16572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En la parte de Escandinavia hay un barco flotante de 1,25 m de largo en un lago de agua natur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60280"/>
            <a:ext cx="7601040" cy="559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877000"/>
            <a:ext cx="84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Se estima que quedará terminado en el 2.014, cuando la extensión de la maqueta llegue a medir unos 1.800 m2 y sus raíles cubran unos 21 Km de recorrido. Además habrá sectores que representen a Francia, Italia y el Reino Un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d3d7"/>
            </a:gs>
            <a:gs pos="100000">
              <a:srgbClr val="7474d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280360" cy="534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16572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Al final, estará compuesta de 700 trenes con más de 10.000 carruajes y vag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51:44Z</dcterms:created>
  <dc:creator>Hermioni</dc:creator>
  <dc:description/>
  <dc:language>en-US</dc:language>
  <cp:lastModifiedBy>Hermini</cp:lastModifiedBy>
  <dcterms:modified xsi:type="dcterms:W3CDTF">2010-02-25T19:58:25Z</dcterms:modified>
  <cp:revision>1</cp:revision>
  <dc:subject/>
  <dc:title>Diapositiva 1</dc:title>
</cp:coreProperties>
</file>