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ClasicaValsesVienesesLosPatinador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1C4-7A0A-43FA-8F75-C1E17C6D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9A9-12A8-4E33-B47F-2DF10276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62E-FC74-49B0-A663-11FD4E11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8FC-8F2B-4DAD-8C6E-CADCD2BC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FA2-A8B9-423B-B8A2-E8260132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07E-6211-43EC-90EE-BA3516F0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FD5-28B1-4E6D-BABC-3CC57500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9C6-C4AD-456C-ADF7-B921C1E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6AF-4174-4805-8753-007870F6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46D-2743-4716-9639-0D93EAF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4E0-C8BB-42AE-96AF-8E2A1229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7D6-3777-404F-BDD5-0C11D723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73C3-A379-4400-A9EE-B4E441F3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asicaValsesVienesesLosPatinador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77336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MAQUETA DE TREN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3860640"/>
            <a:ext cx="777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S GRANDE DEL MUNDO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random/>
    <p:sndAc>
      <p:stSnd>
        <p:snd r:embed="rId1" name="ClasicaValsesVienesesLosPatinador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616572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l tren más largo mide 14 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8350200" cy="538812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602136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l escenario incluye 900 señales, 2.800 construcciones y 4.000 coches, muchos de ellos con iluminación prop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6021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...y 160.000 figuras diseñadas individualment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635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755640" y="602136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Para construir esta maqueta se están usando cientos de kilogramos de acero y madera, que es de lo que está construida en su mayoría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31640"/>
            <a:ext cx="8353440" cy="539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616572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s 250.000 luces están dirigidas por un sistema que emula la noche y el día automátic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04640"/>
            <a:ext cx="0" cy="5400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628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16572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Todo el sistema está controlado por un centro de computación de alta tecnologí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02136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n total la construcción lleva consumidas unas 500.000 horas de trabajo y la mayor parte del presupuesto para su construcción proviene de la venta de tickets para visitar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58640"/>
            <a:ext cx="8136000" cy="524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942160"/>
            <a:ext cx="77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Gerrit dice: "Nuestra idea era construir un mundo en el que los hombres, mujeres, y niños parezcan realmente integrados en el entorno de la maqueta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189000"/>
            <a:ext cx="6480000" cy="50781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392800"/>
            <a:ext cx="878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Frederik añade: "Desde los juegos de azar en Las Vegas , al senderismo en Los Alpes o el remo en los Fiordos Noruegos - En Wunderland todo es posible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l conjunto está en exposición al público y es tan grande que emplea a más de 160 guías para atender a los visit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Su ubicación: Hamburgo, Alem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60280"/>
            <a:ext cx="4559400" cy="5905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30864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 sección Suiza contempla una mini-estación inver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43640" y="83664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9640" y="2060640"/>
            <a:ext cx="142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72360" y="335772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028000" y="6237360"/>
            <a:ext cx="576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---P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0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33360"/>
            <a:ext cx="8496000" cy="548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093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s la maqueta de tren más grande del mundo con 1.150 m2. Actualmente cuenta con casi 11 Km de recorrido y aún no está 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336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77000"/>
            <a:ext cx="77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os hermanos Frederick y Gerrit Braun, de 41 años, comenzaron a trabajar en "Miniature Wunderland" en el año 2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3336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877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 maqueta incluye 6 regiones, incluyendo América , Suiza, Escandinavia , Alemania y los Alpes de Austr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950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 sección de América incluye modelos de las Montañas Rocosas, Everglades, y el Gran Cañón de Colorado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8496000" cy="548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093000"/>
            <a:ext cx="77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Times New Roman"/>
              </a:rPr>
              <a:t>...y el Monte Rushm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16572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n la parte de Escandinavia hay un barco flotante de 1,25 m de largo en un lago de agua natur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60280"/>
            <a:ext cx="7601040" cy="559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877000"/>
            <a:ext cx="84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Se estima que quedará terminado en el 2.014, cuando la extensión de la maqueta llegue a medir unos 1.800 m2 y sus raíles cubran unos 21 Km de recorrido. Además habrá sectores que representen a Francia, Italia y el Reino Un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04640"/>
            <a:ext cx="8280360" cy="53420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16572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Al final, estará compuesta de 700 trenes con más de 10.000 carruajes y vag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51:44Z</dcterms:created>
  <dc:creator>Hermioni</dc:creator>
  <dc:description/>
  <dc:language>en-US</dc:language>
  <cp:lastModifiedBy>Hermini</cp:lastModifiedBy>
  <dcterms:modified xsi:type="dcterms:W3CDTF">2010-02-25T19:58:25Z</dcterms:modified>
  <cp:revision>1</cp:revision>
  <dc:subject/>
  <dc:title>Diapositiva 1</dc:title>
</cp:coreProperties>
</file>