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Do-you-know-where-you-gonig-to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EB5-BDA1-4759-BC5C-C1613861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322-A0FE-4673-B117-D2814396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5D2-5064-460F-A677-ED1513E4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F31-CF59-4203-943A-5AEC0EC4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1BE-855B-4557-9F90-90154CEA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0CC-74C9-4559-8EC7-FE58BCA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8BF-AA6E-4240-9E45-5D73D7A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378-3B98-45B4-BC04-2084FD9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C49-DB1B-49F4-AF4C-7FE5431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5CE-EED6-43C7-8A16-0AE63C1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6C8-2EE1-4E54-9776-991F08E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C89-485E-48D8-8453-8124BDC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3A8E-AB5B-4388-867D-46EF8320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-you-know-where-you-gonig-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11640" y="3860640"/>
            <a:ext cx="41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me das pescado, comeré ho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me enseñas a pescar, podré comer mañan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Do-you-know-where-you-gonig-t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4291920"/>
            <a:ext cx="89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s mejor volverse atrás que perderse en el camin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66840" y="450828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La puerta mejor cerr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s aquella que puede dejarse abiert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3320" y="8856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que estudia diez años en la oscurid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erá universalmente conocido como quier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61720" y="250560"/>
            <a:ext cx="52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sabio no dice lo que sab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l necio no sabe lo que dic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480" y="5810040"/>
            <a:ext cx="627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Ámame cuando menos lo merez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ya que es cuando más lo necesit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76040" y="5805000"/>
            <a:ext cx="6947280" cy="947160"/>
          </a:xfrm>
          <a:prstGeom prst="rect">
            <a:avLst/>
          </a:prstGeom>
          <a:solidFill>
            <a:srgbClr val="c0c0c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eres paciente en un momento de i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scaparás a cien días de tristez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5827320"/>
            <a:ext cx="8974080" cy="947160"/>
          </a:xfrm>
          <a:prstGeom prst="rect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No prometas nada cuando te sientas eufóric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respondas una carta cuando te sientas iracund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54320" y="5660640"/>
            <a:ext cx="77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La gente se arregla todos los días el cabel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¿por qué no el corazón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02600" y="5013000"/>
            <a:ext cx="88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haces planes para un año, siembra arr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los haces para dos lustros, planta árb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los haces para toda la vida, educa a una person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31680" y="476280"/>
            <a:ext cx="546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un problema tiene solu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hace falta preocup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no tiene solu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preocuparse no sirve de nad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81080" y="55785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Pregunta al hombre con experienc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al hombre con estudio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200" y="5866920"/>
            <a:ext cx="72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Que curioso es el hombre, nacer no pi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vivir no sabe, morir no qui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98560" y="5444640"/>
            <a:ext cx="53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agua hace flotar el bar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pero también puede hundirl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2040" y="5861880"/>
            <a:ext cx="8884440" cy="520560"/>
          </a:xfrm>
          <a:prstGeom prst="rect">
            <a:avLst/>
          </a:prstGeom>
          <a:solidFill>
            <a:srgbClr val="33996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 hombre tiene la edad de la mujer a la que am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200" y="4941360"/>
            <a:ext cx="81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No puedes guiar el vien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o puedes cambiar la dirección de tus vela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06040" y="4941360"/>
            <a:ext cx="47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Si no quieres que se sep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 lo haga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6381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cc9900"/>
                </a:solidFill>
                <a:latin typeface="Comic Sans MS"/>
              </a:rPr>
              <a:t>Que tengas lindo dí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95640" y="5506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Incluso las torres más altas empiezan en el suel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5651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Vive cada día de tu vida como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fuera el último, un día acertará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8600" y="-28440"/>
            <a:ext cx="778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Jamás desespe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ún estando en las más sombrias afliccion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ues de las nubes neg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e agua limpia y fecundant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7880" y="404280"/>
            <a:ext cx="67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Comic Sans MS"/>
              </a:rPr>
              <a:t>"Le pedí a Dios todo para gozar la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Comic Sans MS"/>
              </a:rPr>
              <a:t>El me dio vida para gozarlo tod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5320" y="6149160"/>
            <a:ext cx="82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jade necesita ser tallado para ser una gem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3400" y="17892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Cuando llegues a la última pág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cierra el libr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6440" y="66240"/>
            <a:ext cx="93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Quien hace una pregunta es ignorante cinco minut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quien no la hace será siempre ignorant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3:22:19Z</dcterms:created>
  <dc:creator>Rik</dc:creator>
  <dc:description/>
  <dc:language>en-US</dc:language>
  <cp:lastModifiedBy>VICENTE</cp:lastModifiedBy>
  <dcterms:modified xsi:type="dcterms:W3CDTF">2009-08-13T13:04:15Z</dcterms:modified>
  <cp:revision>74</cp:revision>
  <dc:subject/>
  <dc:title>China</dc:title>
</cp:coreProperties>
</file>