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Do-you-know-where-you-gonig-to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034-104A-4684-ABC2-67CAAEBE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3F0-71ED-422E-AC44-541FEB4D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ABA-6412-4E40-9F97-4CF1A142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745-043E-445E-8EAE-F8A9774E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745-F998-4DE0-8F88-F2F8147D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AC3-6B44-45C7-A1C9-1E2A778A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243-1E30-4A3D-A46C-FC4D1A76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851-9336-4E1A-A87B-A03C955C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ECB-BD6B-4DB5-8548-3BF83E1D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9BA-4CB0-4364-B73B-331EE3B3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7CD-C71E-4A34-9B6F-C0EA1516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A2E-FBF0-4C07-8F6E-53012744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28B7-D29C-495E-8AE6-A04225898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-you-know-where-you-gonig-t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11640" y="3860640"/>
            <a:ext cx="41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Si me das pescado, comeré ho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si me enseñas a pescar, podré comer mañana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Do-you-know-where-you-gonig-t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3800" y="4291920"/>
            <a:ext cx="89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Es mejor volverse atrás que perderse en el camino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66840" y="4508280"/>
            <a:ext cx="657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La puerta mejor cerr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es aquella que puede dejarse abierta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3320" y="8856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El que estudia diez años en la oscurida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será universalmente conocido como quiera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61720" y="250560"/>
            <a:ext cx="528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El sabio no dice lo que sabe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el necio no sabe lo que dic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3480" y="5810040"/>
            <a:ext cx="627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Ámame cuando menos lo merezc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ya que es cuando más lo necesito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76040" y="5805000"/>
            <a:ext cx="6947280" cy="947160"/>
          </a:xfrm>
          <a:prstGeom prst="rect">
            <a:avLst/>
          </a:prstGeom>
          <a:solidFill>
            <a:srgbClr val="c0c0c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Si eres paciente en un momento de i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escaparás a cien días de tristeza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320" y="5827320"/>
            <a:ext cx="8974080" cy="947160"/>
          </a:xfrm>
          <a:prstGeom prst="rect">
            <a:avLst/>
          </a:prstGeom>
          <a:solidFill>
            <a:srgbClr val="c0c0c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No prometas nada cuando te sientas eufóric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no respondas una carta cuando te sientas iracundo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54320" y="5660640"/>
            <a:ext cx="77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La gente se arregla todos los días el cabell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¿por qué no el corazón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02600" y="5013000"/>
            <a:ext cx="888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Si haces planes para un año, siembra arr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Si los haces para dos lustros, planta árbo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Si los haces para toda la vida, educa a una persona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31680" y="476280"/>
            <a:ext cx="546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Si un problema tiene solució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no hace falta preocupar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Si no tiene solució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preocuparse no sirve de nada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181080" y="557856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Pregunta al hombre con experienci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no al hombre con estudios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25200" y="5866920"/>
            <a:ext cx="72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Que curioso es el hombre, nacer no pid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vivir no sabe, morir no qui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98560" y="5444640"/>
            <a:ext cx="534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El agua hace flotar el barc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pero también puede hundirlo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2040" y="5861880"/>
            <a:ext cx="8884440" cy="520560"/>
          </a:xfrm>
          <a:prstGeom prst="rect">
            <a:avLst/>
          </a:prstGeom>
          <a:solidFill>
            <a:srgbClr val="33996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n hombre tiene la edad de la mujer a la que am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2200" y="4941360"/>
            <a:ext cx="81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"No puedes guiar el vien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ro puedes cambiar la dirección de tus vela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406040" y="4941360"/>
            <a:ext cx="47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"Si no quieres que se sep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 lo haga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638172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cc9900"/>
                </a:solidFill>
                <a:latin typeface="Comic Sans MS"/>
              </a:rPr>
              <a:t>Que tengas lindo día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Bar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95640" y="5506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Incluso las torres más altas empiezan en el suelo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48000" y="565164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Vive cada día de tu vida como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fuera el último, un día acertará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8600" y="-28440"/>
            <a:ext cx="778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"Jamás desesper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ún estando en las más sombrias afliccion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ues de las nubes neg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e agua limpia y fecundant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47880" y="404280"/>
            <a:ext cx="677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Comic Sans MS"/>
              </a:rPr>
              <a:t>"Le pedí a Dios todo para gozar la vi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Comic Sans MS"/>
              </a:rPr>
              <a:t>El me dio vida para gozarlo todo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5320" y="6149160"/>
            <a:ext cx="82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El jade necesita ser tallado para ser una gema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13400" y="178920"/>
            <a:ext cx="616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Cuando llegues a la última págin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cierra el libro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6440" y="66240"/>
            <a:ext cx="93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"Quien hace una pregunta es ignorante cinco minuto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quien no la hace será siempre ignorant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3:22:19Z</dcterms:created>
  <dc:creator>Rik</dc:creator>
  <dc:description/>
  <dc:language>en-US</dc:language>
  <cp:lastModifiedBy>VICENTE</cp:lastModifiedBy>
  <dcterms:modified xsi:type="dcterms:W3CDTF">2009-08-13T13:04:15Z</dcterms:modified>
  <cp:revision>74</cp:revision>
  <dc:subject/>
  <dc:title>China</dc:title>
</cp:coreProperties>
</file>