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083-6844-4A06-983A-C2D9768E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DBB-947E-4F0F-9AC4-FFEC7668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68C5-CD59-4D4E-B552-A437080A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9EF-D04B-4F92-864E-E45AC78A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CF3-5D59-4D93-908A-9288638F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283-DD44-4786-AB20-74C77485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F10-CE5B-4BF1-9BED-58AA3821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7C9-9714-47F6-9197-D339E73E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364-E83D-4EA2-BEBA-4DF24660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062-E559-45B1-A746-C2DAB365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A2E-E387-4843-A836-F23789E8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E39-336A-44D4-80E3-D69737FF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CC85-D805-4950-B190-ED935C4CC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lprogresista.jscsantboi.org/images/preservativo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404640"/>
            <a:ext cx="7993080" cy="22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i primer condón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754360"/>
            <a:ext cx="39607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o"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nía yo 16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o"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 el instituto se iba a celebrar la fiesta de fin d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o"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r si acaso, quería ir bien prepa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3168720" cy="316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587700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 fui a una farmacia a comprar cond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979200"/>
            <a:ext cx="352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 farmacéutica, que era muy atractiva, se dio cuenta que yo era novato en esas cuestiones y decidió explicarme y ayudarme, para que no tuviese problemas al usa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48200" y="476280"/>
            <a:ext cx="442908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0150" t="0" r="34487" b="0"/>
          <a:stretch/>
        </p:blipFill>
        <p:spPr>
          <a:xfrm>
            <a:off x="4211640" y="836640"/>
            <a:ext cx="1944720" cy="3219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33336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 entregó el paquete y me preguntó si sabía cómo usar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268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 le contesté que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4508640"/>
            <a:ext cx="2519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Ella abrió el paquete, tomó uno de los condones y se lo puso en un de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0" b="63603"/>
          <a:stretch/>
        </p:blipFill>
        <p:spPr>
          <a:xfrm>
            <a:off x="3203640" y="4581360"/>
            <a:ext cx="3190680" cy="1733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Enfermera de Urgencia"/>
          <p:cNvPicPr/>
          <p:nvPr/>
        </p:nvPicPr>
        <p:blipFill>
          <a:blip r:embed="rId3"/>
          <a:srcRect l="26307" t="0" r="28853" b="0"/>
          <a:stretch/>
        </p:blipFill>
        <p:spPr>
          <a:xfrm>
            <a:off x="6877080" y="260280"/>
            <a:ext cx="208764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33336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 dijo que debía asegurarme que quedara ajustado y seg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492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 seguía con cara de conf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22100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 dijo: "Espera un momen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dirigió a la puerta y la cerró con l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Enfermera"/>
          <p:cNvPicPr/>
          <p:nvPr/>
        </p:nvPicPr>
        <p:blipFill>
          <a:blip r:embed="rId1"/>
          <a:srcRect l="18733" t="0" r="25208" b="0"/>
          <a:stretch/>
        </p:blipFill>
        <p:spPr>
          <a:xfrm>
            <a:off x="5364000" y="0"/>
            <a:ext cx="2449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26028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mándome de la mano, me llevó a la trastienda, y empezó a insinuarse y quitarse la 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868840" cy="630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162864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 preguntó, "¿Te excit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6165720"/>
            <a:ext cx="57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gué saliva y asentí con 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enfermera"/>
          <p:cNvPicPr/>
          <p:nvPr/>
        </p:nvPicPr>
        <p:blipFill>
          <a:blip r:embed="rId2"/>
          <a:srcRect l="0" t="0" r="22959" b="0"/>
          <a:stretch/>
        </p:blipFill>
        <p:spPr>
          <a:xfrm>
            <a:off x="1187280" y="2205000"/>
            <a:ext cx="2664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54936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 dijo que era hora de ponerse el cond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2952720" cy="1771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3716280"/>
            <a:ext cx="338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entras yo me lo ponía, ella se acabó de desnudar y se acostó sobre la cam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51280" y="285264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356000" y="47628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"Anda", me dijo. "No tenemos mucho tiempo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5640" y="227664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e un polvo fantástico, pero como era mi primera vez no duré mucho y en unos cuantos minutos todo había terminad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4173" t="0" r="7921" b="0"/>
          <a:stretch/>
        </p:blipFill>
        <p:spPr>
          <a:xfrm>
            <a:off x="539640" y="549360"/>
            <a:ext cx="3168720" cy="6092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708360" y="501336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me quedó mirando y me pregunto: "¿Te pusiste el condón?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95640" y="981000"/>
            <a:ext cx="42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"Claro", le dije, mientras le enseñaba el ded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condon dedo"/>
          <p:cNvPicPr/>
          <p:nvPr/>
        </p:nvPicPr>
        <p:blipFill>
          <a:blip r:embed="rId1"/>
          <a:srcRect l="0" t="0" r="45504" b="0"/>
          <a:stretch/>
        </p:blipFill>
        <p:spPr>
          <a:xfrm>
            <a:off x="611280" y="836640"/>
            <a:ext cx="21603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5:03:05Z</dcterms:created>
  <dc:creator>Juan</dc:creator>
  <dc:description/>
  <dc:language>en-US</dc:language>
  <cp:lastModifiedBy>Administrador</cp:lastModifiedBy>
  <dcterms:modified xsi:type="dcterms:W3CDTF">2009-01-29T10:08:13Z</dcterms:modified>
  <cp:revision>3</cp:revision>
  <dc:subject/>
  <dc:title>Diapositiva 1</dc:title>
</cp:coreProperties>
</file>