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678-2E79-4D52-A853-0934D755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779C-1BD1-442F-B4A9-0AF82A57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6149-8475-4737-8BD5-F0EE472F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150A-0132-4AA1-AD17-8EE20E90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C946-EE18-4BBB-A4F5-E291FC69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A1BE-EF32-4926-8397-9C23124C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875B-7291-4BE7-BCFA-9CD20544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033D-D48F-4E18-980A-8E7E9FDA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D05A-6C03-4A11-AB5B-BBEA8D99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B70C-0CA7-44A2-B4A8-8C3835E9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5EFC-0F0A-4C3F-8938-189D29B7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A994-DA46-4CD5-8BB6-9E066BB4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F08D-FFB2-4F15-9F9E-073692941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lprogresista.jscsantboi.org/images/preservativo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404640"/>
            <a:ext cx="7993080" cy="222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i primer condón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754360"/>
            <a:ext cx="396072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o"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nía yo 16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o"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 el instituto se iba a celebrar la fiesta de fin d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o"/>
              <a:tabLst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r si acaso, quería ir bien prepa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11280" y="2276640"/>
            <a:ext cx="3168720" cy="3168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6920" y="5877000"/>
            <a:ext cx="75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 fui a una farmacia a comprar cond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979200"/>
            <a:ext cx="352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 farmacéutica, que era muy atractiva, se dio cuenta que yo era novato en esas cuestiones y decidió explicarme y ayudarme, para que no tuviese problemas al usar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048200" y="476280"/>
            <a:ext cx="442908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20150" t="0" r="34487" b="0"/>
          <a:stretch/>
        </p:blipFill>
        <p:spPr>
          <a:xfrm>
            <a:off x="4211640" y="836640"/>
            <a:ext cx="1944720" cy="3219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333360"/>
            <a:ext cx="59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 entregó el paquete y me preguntó si sabía cómo usar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268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 le contesté que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4508640"/>
            <a:ext cx="25192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Ella abrió el paquete, tomó uno de los condones y se lo puso en un de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0" b="63603"/>
          <a:stretch/>
        </p:blipFill>
        <p:spPr>
          <a:xfrm>
            <a:off x="3203640" y="4581360"/>
            <a:ext cx="3190680" cy="1733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Enfermera de Urgencia"/>
          <p:cNvPicPr/>
          <p:nvPr/>
        </p:nvPicPr>
        <p:blipFill>
          <a:blip r:embed="rId3"/>
          <a:srcRect l="26307" t="0" r="28853" b="0"/>
          <a:stretch/>
        </p:blipFill>
        <p:spPr>
          <a:xfrm>
            <a:off x="6877080" y="260280"/>
            <a:ext cx="208764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33336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 dijo que debía asegurarme que quedara ajustado y seg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249228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 seguía con cara de confu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422100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 dijo: "Espera un moment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 dirigió a la puerta y la cerró con ll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Enfermera"/>
          <p:cNvPicPr/>
          <p:nvPr/>
        </p:nvPicPr>
        <p:blipFill>
          <a:blip r:embed="rId1"/>
          <a:srcRect l="18733" t="0" r="25208" b="0"/>
          <a:stretch/>
        </p:blipFill>
        <p:spPr>
          <a:xfrm>
            <a:off x="5364000" y="0"/>
            <a:ext cx="2449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26028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mándome de la mano, me llevó a la trastienda, y empezó a insinuarse y quitarse la 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868840" cy="630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162864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 preguntó, "¿Te excit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6165720"/>
            <a:ext cx="57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agué saliva y asentí con la cab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enfermera"/>
          <p:cNvPicPr/>
          <p:nvPr/>
        </p:nvPicPr>
        <p:blipFill>
          <a:blip r:embed="rId2"/>
          <a:srcRect l="0" t="0" r="22959" b="0"/>
          <a:stretch/>
        </p:blipFill>
        <p:spPr>
          <a:xfrm>
            <a:off x="1187280" y="2205000"/>
            <a:ext cx="26640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" y="54936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 dijo que era hora de ponerse el cond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00720" y="620640"/>
            <a:ext cx="2952720" cy="1771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3716280"/>
            <a:ext cx="338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entras yo me lo ponía, ella se acabó de desnudar y se acostó sobre la cam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851280" y="2852640"/>
            <a:ext cx="42861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356000" y="47628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"Anda", me dijo. "No tenemos mucho tiempo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95640" y="2276640"/>
            <a:ext cx="43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e un polvo fantástico, pero como era mi primera vez no duré mucho y en unos cuantos minutos todo había terminad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14173" t="0" r="7921" b="0"/>
          <a:stretch/>
        </p:blipFill>
        <p:spPr>
          <a:xfrm>
            <a:off x="539640" y="549360"/>
            <a:ext cx="3168720" cy="6092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708360" y="501336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 me quedó mirando y me pregunto: "¿Te pusiste el condón?"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95640" y="981000"/>
            <a:ext cx="42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"Claro", le dije, mientras le enseñaba el ded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condon dedo"/>
          <p:cNvPicPr/>
          <p:nvPr/>
        </p:nvPicPr>
        <p:blipFill>
          <a:blip r:embed="rId1"/>
          <a:srcRect l="0" t="0" r="45504" b="0"/>
          <a:stretch/>
        </p:blipFill>
        <p:spPr>
          <a:xfrm>
            <a:off x="611280" y="836640"/>
            <a:ext cx="21603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5:03:05Z</dcterms:created>
  <dc:creator>Juan</dc:creator>
  <dc:description/>
  <dc:language>en-US</dc:language>
  <cp:lastModifiedBy>Administrador</cp:lastModifiedBy>
  <dcterms:modified xsi:type="dcterms:W3CDTF">2009-01-29T10:08:13Z</dcterms:modified>
  <cp:revision>3</cp:revision>
  <dc:subject/>
  <dc:title>Diapositiva 1</dc:title>
</cp:coreProperties>
</file>