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893A-E84B-4CB3-9834-8FD677CAA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F108-2F70-43D7-8061-B02F0956A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5104-207B-4D53-856C-5DB694BB1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CA38-AB44-4C70-9C94-506FC498E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A8FA-831A-408E-881D-20B0B3150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A367-1B4E-41C5-83A5-DD7191857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3AB9-312C-4FC7-AE38-61201FC38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6E3F-806B-4C9C-9ED3-738A4F03F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2723-F43C-4AEF-BB74-7D2F67E05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B6F8-58E9-4FD4-9CA5-C180AE3C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1A2F-5606-406F-9779-F4456CF1C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6B07-C708-45C5-A829-B8F564DF1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102DB-0501-4205-8BA3-AEC41B3D42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632720" cy="31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ESTAMENTO  DE </a:t>
            </a:r>
            <a:br>
              <a:rPr sz="4000"/>
            </a:b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ALAN GARCI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643280" y="1773360"/>
            <a:ext cx="3713400" cy="4464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763640" y="2924280"/>
            <a:ext cx="2422440" cy="3066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971640" y="5805360"/>
            <a:ext cx="360036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539640" y="343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Está ALAN GARCIA reunido con SU MUJER, dándole las instrucciones de cómo será repartido su cuerpo una vez que el muera y se pudra. Muy serio, les dice: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284720" y="306864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2400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Mi corazón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 lo entierras aqui en Lima, porque aqui esta mi madre a quien amé profundamente..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780000" y="2276640"/>
            <a:ext cx="4857480" cy="3238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39640" y="2997360"/>
            <a:ext cx="28800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Mi cerebro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 , en la CASA DEL PARTIDO APRISTA,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porque fue allí donde adquirí los conocimientos y las mañoserias de los viejos apristas que me permitieron llegar hasta donde estoy, engañando a los imbeciles de los peruanos que volvieron a creer y votaron por mi jajajjajjajaja. .......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103560" y="4673520"/>
            <a:ext cx="2497320" cy="1739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586480" y="4076640"/>
            <a:ext cx="3017880" cy="23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Mis manos y mi barriga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en el palacio, porque allí es  donde me estoy engordando y llenandome los bolsillos. 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71640" y="2259000"/>
            <a:ext cx="2577960" cy="397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rcRect l="0" t="7559" r="0" b="14336"/>
          <a:stretch/>
        </p:blipFill>
        <p:spPr>
          <a:xfrm>
            <a:off x="3564000" y="2924280"/>
            <a:ext cx="496728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3964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Su mujer  interrumpe y le dic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MI QUERIDA RATA GORDA ALAN, entonces </a:t>
            </a:r>
            <a:r>
              <a:rPr b="1" i="1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El CULO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 te lo tendremos que rallar para regarlo por todo el país, porque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LA CAGADA QUE HAS HECHO Y SIGUES HACIENDO ES  A NIVEL NACIONAL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995640" y="3789360"/>
            <a:ext cx="4000680" cy="2562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932120" y="4149720"/>
            <a:ext cx="184788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NOTA: TODO AQUEL PERUANO QUE RECIBA  ESTE TIENE LA OBLIGACION CIUDADANA Y MORAL DE RETRANSMITIRLO A CIEN AMIGOS.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no_corrupcion.jpg image by vozrebelde"/>
          <p:cNvPicPr/>
          <p:nvPr/>
        </p:nvPicPr>
        <p:blipFill>
          <a:blip r:embed="rId1"/>
          <a:stretch/>
        </p:blipFill>
        <p:spPr>
          <a:xfrm>
            <a:off x="1476360" y="2205000"/>
            <a:ext cx="621360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6T13:35:34Z</dcterms:created>
  <dc:creator>CARLOS TORRES</dc:creator>
  <dc:description/>
  <dc:language>en-US</dc:language>
  <cp:lastModifiedBy>CARLOS TORRES</cp:lastModifiedBy>
  <dcterms:modified xsi:type="dcterms:W3CDTF">2009-07-16T14:14:35Z</dcterms:modified>
  <cp:revision>2</cp:revision>
  <dc:subject/>
  <dc:title>TESTAMENTO DE ALAN GARCIA </dc:title>
</cp:coreProperties>
</file>