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DE4-EA2E-40B6-9B06-B03B49A2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D08-AA1F-487B-9DDA-4D719070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D51-264D-497B-8342-D6EA5CC1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8A2-1005-4990-8322-9F9C5B1C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E2B-46D7-481A-8F3B-E0D3EDA5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2E0-EA71-4AA3-B63F-E97B2189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85C-346F-4F30-9629-5E82BD95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032-309B-4CF0-B570-2D525C8E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012-1F24-46D3-AB8A-A1FC5A8A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D88-AF3C-4670-9D99-6B2E35E8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FC0-8AB2-4E47-8E5E-639A2B25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EAC-71CF-4B7F-BE23-31FDBB12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5DE6-E95F-4E1B-BD43-9C8CA786D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6327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STAMENTO  DE </a:t>
            </a:r>
            <a:br>
              <a:rPr sz="4000"/>
            </a:b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LAN GARC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3713400" cy="4464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2422440" cy="3066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71640" y="5805360"/>
            <a:ext cx="360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3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Está ALAN GARCIA reunido con SU MUJER, dándole las instrucciones de cómo será repartido su cuerpo una vez que el muera y se pudra. Muy serio, les dice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84720" y="3068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i corazón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 lo entierras aqui en Lima, porque aqui esta mi madre a quien amé profundamente..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80000" y="2276640"/>
            <a:ext cx="4857480" cy="323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2880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i cerebro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 , en la CASA DEL PARTIDO APRISTA,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porque fue allí donde adquirí los conocimientos y las mañoserias de los viejos apristas que me permitieron llegar hasta donde estoy, engañando a los imbeciles de los peruanos que volvieron a creer y votaron por mi jajajjajjajaja. .......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03560" y="4673520"/>
            <a:ext cx="2497320" cy="173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86480" y="4076640"/>
            <a:ext cx="301788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is manos y mi barriga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en el palacio, porque allí es  donde me estoy engordando y llenandome los bolsillos.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2259000"/>
            <a:ext cx="2577960" cy="397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7559" r="0" b="14336"/>
          <a:stretch/>
        </p:blipFill>
        <p:spPr>
          <a:xfrm>
            <a:off x="3564000" y="2924280"/>
            <a:ext cx="49672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Su mujer  interrumpe y le di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MI QUERIDA RATA GORDA ALAN, entonces </a:t>
            </a:r>
            <a:r>
              <a:rPr b="1" i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El CULO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 te lo tendremos que rallar para regarlo por todo el país, porque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LA CAGADA QUE HAS HECHO Y SIGUES HACIENDO ES  A NIVEL NACION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95640" y="3789360"/>
            <a:ext cx="4000680" cy="256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32120" y="4149720"/>
            <a:ext cx="18478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OTA: TODO AQUEL PERUANO QUE RECIBA  ESTE TIENE LA OBLIGACION CIUDADANA Y MORAL DE RETRANSMITIRLO A CIEN AMIGO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no_corrupcion.jpg image by vozrebelde"/>
          <p:cNvPicPr/>
          <p:nvPr/>
        </p:nvPicPr>
        <p:blipFill>
          <a:blip r:embed="rId1"/>
          <a:stretch/>
        </p:blipFill>
        <p:spPr>
          <a:xfrm>
            <a:off x="1476360" y="2205000"/>
            <a:ext cx="6213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3:35:34Z</dcterms:created>
  <dc:creator>CARLOS TORRES</dc:creator>
  <dc:description/>
  <dc:language>en-US</dc:language>
  <cp:lastModifiedBy>CARLOS TORRES</cp:lastModifiedBy>
  <dcterms:modified xsi:type="dcterms:W3CDTF">2009-07-16T14:14:35Z</dcterms:modified>
  <cp:revision>2</cp:revision>
  <dc:subject/>
  <dc:title>TESTAMENTO DE ALAN GARCIA </dc:title>
</cp:coreProperties>
</file>