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3.jpeg" ContentType="image/jpeg"/>
  <Override PartName="/ppt/media/image2.gif" ContentType="image/gif"/>
  <Override PartName="/ppt/media/image7.jpeg" ContentType="image/jpeg"/>
  <Override PartName="/ppt/media/image8.gif" ContentType="image/gif"/>
  <Override PartName="/ppt/media/image12.gif" ContentType="image/gif"/>
  <Override PartName="/ppt/media/image3.jpeg" ContentType="image/jpeg"/>
  <Override PartName="/ppt/media/ELLA%20KUDMI-Someone%20is%20there%20waiting%20for%20my%20song_(16)_2'41.wav" ContentType="audio/x-wav"/>
  <Override PartName="/ppt/media/image1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11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E9F7-FC19-4F39-8DC6-26AA4E64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619D-F7A2-43AB-8243-6D6D05BB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BCAA-C5F6-4108-BA91-97316815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520F-9D0E-422D-A88A-E0180C48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BFD4-A60B-4C12-897F-2EE8F95E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B9F7-0248-43E0-812B-17915454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36BE-8003-423D-B6C6-E0C0D8D9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766B-F258-4F6F-BB27-CEE2E92F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FFE7-3482-41E5-96DD-7F9B7444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6603-F354-4D8B-8CD0-B57BE7A6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79D2-9E0E-4728-AB11-05A5A800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E7C0-043C-4779-9288-10F7D0D1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59B2-99C8-40D2-BC43-F56F0EB7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4328-E0F0-4688-9B1B-06A13758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ED49-0899-4EA4-B786-AE5E9088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1681-2CCB-4A1C-AE87-F9AF9BAE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07AB-4EA8-4F84-94FB-8F77CD74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203-CBC9-485F-AD35-968D1766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C178-4FA3-45EF-9D94-AEF16D87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38DC-94D8-4634-B4A8-E1A1427C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431C-63AB-478C-B2FF-F1788460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D9A5-D373-41AD-B8D7-C9234522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8496-82BE-4FDF-BAE1-DA4AB467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EEB7-6D27-4ADB-BEA6-52A1F262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A93C-46F0-4EED-86B0-074455D488AA}" type="slidenum"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CDEA-7F64-401C-BFD0-BE2EA288E70B}" type="slidenum"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ELLA%20KUDMI-Someone%20is%20there%20waiting%20for%20my%20song_(16)_2&apos;41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1204560"/>
            <a:ext cx="226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Contemplar pechos femeninos,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es bueno para la salud masculina,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ayuda a vivir más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52800" y="0"/>
            <a:ext cx="4533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c99ff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7164360" y="4797360"/>
            <a:ext cx="1666800" cy="12956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6804000" y="629928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cc00"/>
                </a:solidFill>
                <a:latin typeface="Arial Black"/>
              </a:rPr>
              <a:t>Avanzar manualmente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4716360" y="435960"/>
            <a:ext cx="44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Eso fue lo que reveló un estudio realizado por un grupo de investigadores alemanes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c99ff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6372360" y="2349360"/>
            <a:ext cx="761760" cy="1047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4932360" y="4002120"/>
            <a:ext cx="370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Ellos descubrieron que mirar fijamente los pechos de una mujer durante 10 minutos diarios es tan benéfico como hacer media hora de ejercicios físicos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148360" y="2993760"/>
            <a:ext cx="399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Este estudio fue realizado durante 5 años sobre un grupo de 200 hombres voluntarios, y demostró que todos aquellos que aprovecharon el espectáculo de los bellos senos femeninos..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c99ff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6516720" y="1341360"/>
            <a:ext cx="771480" cy="1047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292720" y="2994120"/>
            <a:ext cx="341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...sufrieron menos enfermedades cardiovasculares, y presentaron menos problemas de hipertensión que los que no lo hacían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c99ff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443640" y="1125360"/>
            <a:ext cx="771480" cy="1038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4932360" y="402840"/>
            <a:ext cx="37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El Dr. Karen Weatherby, científico que dirigió los estudios, afirmó que: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c99ff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6372360" y="1773360"/>
            <a:ext cx="819000" cy="10476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4859280" y="2665800"/>
            <a:ext cx="3995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Mirar los senos de una mujer bonita por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10 minutos diarios,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equivale a hacer media hora de gimnasia aeróbica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La excitación sexual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aumenta la frecuencia cardíaca,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y es benéfica para la circulación sanguínea.”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c99ff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19640" y="2451240"/>
            <a:ext cx="341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Creemos que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con esa práctica diaria,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los hombres podrán aumentar su expectativa de vida en al menos 5 años."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6372360" y="1197000"/>
            <a:ext cx="847440" cy="1038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5867280" y="3243960"/>
            <a:ext cx="30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Tal como lo hemos dicho siempre,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existe una explicación para el caso..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86560" y="5303160"/>
            <a:ext cx="345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¡Los hombres no somos libidinosos,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nos preocupamos por nuestra salud!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c99ff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343836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116000" y="1627560"/>
            <a:ext cx="655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cc00"/>
                </a:solidFill>
                <a:latin typeface="Tahoma"/>
              </a:rPr>
              <a:t>¿Qué tal compartir estas orientaciones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cc00"/>
                </a:solidFill>
                <a:latin typeface="Tahoma"/>
              </a:rPr>
              <a:t>sobre la salud con sus amigos?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AR" sz="3200" spc="-1" strike="noStrike">
                <a:solidFill>
                  <a:srgbClr val="ffcc00"/>
                </a:solidFill>
                <a:latin typeface="Tahoma"/>
              </a:rPr>
              <a:t>Envíeselas por e-mail.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cc00"/>
                </a:solidFill>
                <a:latin typeface="Tahoma"/>
              </a:rPr>
              <a:t>Ellos también lo merecen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08:22:34Z</dcterms:created>
  <dc:creator>Gerardo Hidden Master</dc:creator>
  <dc:description/>
  <dc:language>en-US</dc:language>
  <cp:lastModifiedBy>Gerardo Hidden Master</cp:lastModifiedBy>
  <dcterms:modified xsi:type="dcterms:W3CDTF">2009-03-25T14:54:56Z</dcterms:modified>
  <cp:revision>1</cp:revision>
  <dc:subject/>
  <dc:title>Tetaterapia</dc:title>
</cp:coreProperties>
</file>