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3.jpeg" ContentType="image/jpeg"/>
  <Override PartName="/ppt/media/image2.gif" ContentType="image/gif"/>
  <Override PartName="/ppt/media/image7.jpeg" ContentType="image/jpeg"/>
  <Override PartName="/ppt/media/image8.gif" ContentType="image/gif"/>
  <Override PartName="/ppt/media/image12.gif" ContentType="image/gif"/>
  <Override PartName="/ppt/media/image3.jpeg" ContentType="image/jpeg"/>
  <Override PartName="/ppt/media/ELLA%20KUDMI-Someone%20is%20there%20waiting%20for%20my%20song_(16)_2'41.wav" ContentType="audio/x-wav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472-45EE-4051-B88B-3C9AE0E6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756-C50D-4AA8-A900-93A284A3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C92-951B-4701-A3A7-AB9EBA56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61D-4B1B-4461-BE15-32996667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32DA-5EFA-48FA-A245-3D08CAC2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425A-DA3B-4AFE-97D0-8366A08D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F3F1-D4C2-42A8-9597-9E8C25FF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089D-AD22-4D7F-A345-914B4806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5E86-9948-4E79-885C-D232216F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7DA4-201B-4FCD-9961-D43B20E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622A-5B30-4FF0-B22C-90415656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36A-15A7-4B7D-9431-00C348DC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5C43-879E-4025-AC27-8F0D33A9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D85E-0225-44DA-807B-B36AEFA1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F7D-9416-481D-89F8-BDA95D25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66E4-F9A2-4E2F-80E8-F149F4D4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C6E2-5127-443D-8AA1-A7A8DD5C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53D-A69D-4A23-86DB-965A4817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B24-8210-4EC0-BFF9-293951CF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CB7-1C0C-4BDA-8FF2-7A0BF62F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A88-728A-40CC-A3E0-30AF0C21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178-8173-4C74-8FFB-FE1D5D13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819-0BFA-4438-8EA0-EEC64FD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B11-518A-4615-82A9-F23FB99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85CB-0461-409B-A562-DAD8CED2C91C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63C-A059-4EB4-8BDF-DC11A190C213}" type="slidenum">
              <a:rPr b="0" lang="pt-BR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LLA%20KUDMI-Someone%20is%20there%20waiting%20for%20my%20song_(16)_2&apos;4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1204560"/>
            <a:ext cx="22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ontemplar pechos femeninos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 bueno para la salud masculin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ayuda a vivir más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52800" y="0"/>
            <a:ext cx="4533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666800" cy="1295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804000" y="629928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cc00"/>
                </a:solidFill>
                <a:latin typeface="Arial Black"/>
              </a:rPr>
              <a:t>Avanzar manualmente</a:t>
            </a:r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716360" y="43596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o fue lo que reveló un estudio realizado por un grupo de investigadores alemanes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761760" cy="104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932360" y="4002120"/>
            <a:ext cx="37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llos descubrieron que mirar fijamente los pechos de una mujer durante 10 minutos diarios es tan benéfico como hacer media hora de ejercicios físicos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148360" y="2993760"/>
            <a:ext cx="399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ste estudio fue realizado durante 5 años sobre un grupo de 200 hombres voluntarios, y demostró que todos aquellos que aprovecharon el espectáculo de los bellos senos femeninos..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77148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92720" y="2994120"/>
            <a:ext cx="34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...sufrieron menos enfermedades cardiovasculares, y presentaron menos problemas de hipertensión que los que no lo hacían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443640" y="1125360"/>
            <a:ext cx="77148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932360" y="40284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l Dr. Karen Weatherby, científico que dirigió los estudios, afirmó que: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819000" cy="1047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859280" y="2665800"/>
            <a:ext cx="399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Mirar los senos de una mujer bonita po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10 minutos diarios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quivale a hacer media hora de gimnasia aeróbica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La excitación sexual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aumenta la frecuencia cardíac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y es benéfica para la circulación sanguínea.”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19640" y="2451240"/>
            <a:ext cx="34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reemos qu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con esa práctica diaria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los hombres podrán aumentar su expectativa de vida en al menos 5 años."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372360" y="1197000"/>
            <a:ext cx="84744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867280" y="3243960"/>
            <a:ext cx="30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Tal como lo hemos dicho siempre,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existe una explicación para el caso...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86560" y="530316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¡Los hombres no somos libidinosos,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ahoma"/>
              </a:rPr>
              <a:t>nos preocupamos por nuestra salud!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c99ff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4383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16000" y="162756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¿Qué tal compartir estas orientaciones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sobre la salud con sus amigos?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Envíeselas por e-mail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00"/>
                </a:solidFill>
                <a:latin typeface="Tahoma"/>
              </a:rPr>
              <a:t>Ellos también lo merecen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8:22:34Z</dcterms:created>
  <dc:creator>Gerardo Hidden Master</dc:creator>
  <dc:description/>
  <dc:language>en-US</dc:language>
  <cp:lastModifiedBy>Gerardo Hidden Master</cp:lastModifiedBy>
  <dcterms:modified xsi:type="dcterms:W3CDTF">2009-03-25T14:54:56Z</dcterms:modified>
  <cp:revision>1</cp:revision>
  <dc:subject/>
  <dc:title>Tetaterapia</dc:title>
</cp:coreProperties>
</file>