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Sarah%20Brightman%20e%20Jose%20Carreras%20-%20Amigos%20Para%20Siempr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9FF-0BB5-40FF-BEC8-9B800F53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0166-93C7-4D82-9933-429755B1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85A5-737B-4FC2-AE29-F9EC31DA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529-F5B1-4D2C-A4BF-C5FB5A3E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C906B-BD49-447E-B9E5-98B022F3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9A5D4-560A-47A9-933C-FEAB1552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B15DA-0D68-45D7-961D-75E49E5A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94C33-518E-403D-A39D-FF46B3AE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64FDC-9C0A-4F54-BAFF-755EEC94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49D0B-997D-42C2-9A44-B6BEFC14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03409-8EEB-4732-9717-63F61090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86A-2D44-4E40-9E07-62220122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EDB75-B0EA-4260-913F-77C23F02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3CDF3-A6B6-4AB3-9635-6143AF6B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48203-C840-4624-9382-57BD62AE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FBD00-D4BA-4099-A0E9-85CD7788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B43A2-8EAB-4217-84CB-7AE0044E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3DC7-FB1E-46C9-8A55-02857DA0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A4DE7-3947-42F9-B036-C0B6E44C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E60F8-8A65-40F7-B56C-42FBCF45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CDB35-32CB-4C92-B4EB-12B118EC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C6FD-C4F4-4929-B9B7-5D141B65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7A9-2F4C-48CD-9001-4FBE48A9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C89C-8624-4CB8-80ED-E34803AB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A1BD5-B7C9-4281-BBF8-C786F84F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45ECD-D750-421D-80C8-4E3BEE4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295BE-0D23-4997-8B78-7E92CE3A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CE2E-E2FB-4B3B-BA69-F9829C5E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26B5C-EFF3-454F-B0F3-501F1692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7A27A-2042-46A7-B55E-EB40BECD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2E9-2737-475D-9DAA-5F5F38A4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9AF-28BD-4F08-AC2D-710D9E21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100-17D2-4C6E-88DA-4BDE7B8E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BC7-997B-4628-BB7D-65FE5BA1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EBB-B15D-43A6-A2A2-F2BBA750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D9A-01C3-4B4F-B060-4E7158D3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6F35-B206-4D61-96AE-E1938BB70D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5AFE-7FD1-4DEF-9C40-2C8483B327E1}" type="slidenum">
              <a:rPr b="0" lang="es-CO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2ACD-EF66-40B2-91C9-20C1B4074396}" type="slidenum">
              <a:rPr b="0" lang="es-CO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arah%20Brightman%20e%20Jose%20Carreras%20-%20Amigos%20Para%20Siempr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95280" y="2209680"/>
            <a:ext cx="6705720" cy="34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cc9900"/>
                </a:solidFill>
                <a:latin typeface="Times New Roman"/>
              </a:rPr>
              <a:t>Los hijo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cc9900"/>
                </a:solidFill>
                <a:latin typeface="Times New Roman"/>
              </a:rPr>
              <a:t>y la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cc9900"/>
                </a:solidFill>
                <a:latin typeface="Times New Roman"/>
              </a:rPr>
              <a:t>antorch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53341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6248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♫</a:t>
            </a:r>
            <a:r>
              <a:rPr b="1" lang="es-C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O" sz="2000" spc="-1" strike="noStrike">
                <a:solidFill>
                  <a:srgbClr val="ffffff"/>
                </a:solidFill>
                <a:latin typeface="Times New Roman"/>
              </a:rPr>
              <a:t>Enciende los parla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214776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rial"/>
                <a:ea typeface="Times New Roman"/>
              </a:rPr>
              <a:t>Gracias por comparti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rial"/>
                <a:ea typeface="Times New Roman"/>
              </a:rPr>
              <a:t>este moment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rial"/>
                <a:ea typeface="Times New Roman"/>
              </a:rPr>
              <a:t>¡ Qué tengas un hermoso día 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00400" y="285840"/>
            <a:ext cx="5562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¿Hay un período mágico cuando los hijos se hacen responsables por sus propias accio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518148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vida de ellos” sin sentir nad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2514600"/>
            <a:ext cx="69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¿Hay un momento maravilloso, cuando los padres nos convertimos sólo en espectadores, en la vida de nuestros hijos, nos alzamos de hombros y deci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19320" y="2743200"/>
            <a:ext cx="7696080" cy="181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”Cuándo pararé de preocuparme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 enfermera dij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¡Cuando salgan de la etapa de accidentes!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Mi mamá apenas sonrió y no dijo nada.</a:t>
            </a: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304920"/>
            <a:ext cx="632448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uando contaba con 20 años, estaba en el pasillo de un hospital esperando a que los doctores pusieran unos puntos en la cabeza de mi hijo y pregunt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251240" y="476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2743200"/>
            <a:ext cx="7696080" cy="309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si como que me hubiera leído la mente, la maestra me dij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”No se preocupe, todos ellos pasan por esta etapa y luego usted, podrá sentarse tranquila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jarse y disfrutarlos”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Mi mamá apenas sonrió y no dijo nada.</a:t>
            </a: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304920"/>
            <a:ext cx="63244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uando contaba con 30 años, me senté en una pequeña silla en la clase y escuchaba como uno de mis hijos hablaba incesantemente interrumpiendo la clase y moviéndose continu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219320" y="2209680"/>
            <a:ext cx="7696080" cy="354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 los autos llegaran a casa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 la puerta de la casa se abrie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a amiga me dij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No te preocupes, en unos años vas a poder dejar de preocupar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los ya serán adultos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Mi mamá apenas sonrió y no dijo nada.</a:t>
            </a: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04920"/>
            <a:ext cx="63244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uando contaba con 40 años, me pasaba la vida esperando que el teléfono sonara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00400" y="1828800"/>
            <a:ext cx="5715000" cy="376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davía me estaba preocupan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r mis hijo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o también ya se notaba u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ruga nueva en mi frent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nque no podía ha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ada acerca de ello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Mi mamá apenas sonrió y no dijo nada.</a:t>
            </a: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533520"/>
            <a:ext cx="6553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a en mis 50 años, estaba cansada y harta de ser vulner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438280" y="2209680"/>
            <a:ext cx="6477120" cy="287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 amigos me decían que cuando mis hijos se casaran yo iba a poder dejar de preocuparme y llevar mi propia vi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 quería creerles, pero me asaltaba el recuerdo de la cálida sonrisa de mi mamá y su ocasion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33412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Luces pálida hija, estás bien? Estás deprimida por algo?"</a:t>
            </a: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533520"/>
            <a:ext cx="73911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 continué angustiándome con sus fracasos, apenándome por sus tristezas y absorbida en sus decepci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2057400"/>
            <a:ext cx="85345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Es que la preocupación por nuestros hijos se entrega como una antorcha de unos a otros, para que arda en el camino de las fragilidades humanas y el miedo a lo desconoci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267080"/>
            <a:ext cx="914400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¿Es la preocupación una maldición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o es una virtud que nos eleva a 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más alto de la vida human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33520"/>
            <a:ext cx="8534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Puede ser que los padres estemos sentenciados a una vida de  preocupacio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200400" y="1828800"/>
            <a:ext cx="5715000" cy="224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dijo:¿Dónde estab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Desde ayer que te estoy llamando y nadie me respondía.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Estaba muy preocupado…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648320"/>
            <a:ext cx="914400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Y yo solo me sonreí y no dije nada.</a:t>
            </a: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La antorcha había sido entregada!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33520"/>
            <a:ext cx="8610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 día uno de mis hijos, se irritó conmig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16:52:57Z</dcterms:created>
  <dc:creator>la historia</dc:creator>
  <dc:description/>
  <dc:language>en-US</dc:language>
  <cp:lastModifiedBy>lio alberto</cp:lastModifiedBy>
  <dcterms:modified xsi:type="dcterms:W3CDTF">2007-08-22T23:03:24Z</dcterms:modified>
  <cp:revision>46</cp:revision>
  <dc:subject/>
  <dc:title>Presentación de PowerPoint</dc:title>
</cp:coreProperties>
</file>