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Sarah%20Brightman%20e%20Jose%20Carreras%20-%20Amigos%20Para%20Siempr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675-FE8F-44CB-B81E-CDF2A1D9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CCA1-BB75-4862-9164-D8818341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B31-565C-4C1E-BFF5-04B1AEF8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FB34-ADAF-4162-8BE6-2973500D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47B98-19E6-40C8-853B-7B648057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E7FC9-D669-4647-8619-3C612819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F4888-4C9D-4863-92AF-C65A531B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8D302-6FE1-4FB9-9746-4FC2CF47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E4DE6-7F2B-49A3-9748-67796BBA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99071-6DB2-4301-9CF2-EF9462FB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26467-876C-40E6-A4E7-1D357A1C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FCB-DF90-4901-9B81-4CC0357F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05E2B-8AC6-40AE-911B-B44A2181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79670-7046-4C9C-B7DC-4ABEB62D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7FF57-845B-44BF-A804-D818F96D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786B5-3490-4745-801E-9D46715E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FD0C6-A6F3-44E1-AF14-49DC7915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B22F4-91F9-4A24-BE1F-9AF5DC3E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F29B1-98F0-43B0-AF62-6CCB0091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E9E43-C1B5-402C-AE11-AD7503CC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E3A76-5605-49AC-819C-84E73B38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BDD7E-CA6C-45D0-9177-0E0886C1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645-AE87-45C2-B512-EBC886B6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C2F2F-9549-4A6D-A242-6E54CA35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B4240-6BFD-4F10-9D3B-71589EC8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F1BF6-E603-4953-8117-1F8ED7D0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96949-2DF0-4447-A71B-5068B921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9C2A6-3362-49A9-99EE-B1CE8E53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FACF2-5956-4C2F-94F8-712B8480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B66DE-87EE-4127-A62D-54282028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B92-6279-464D-B2AB-6A38826C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2E8-4C18-466B-AF4E-F18F0672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76A7-52CF-487D-BE48-6FAF5109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555-DCB3-44CE-B2CB-5251B194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FDCD-8DBE-47A8-B82C-61E5084F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E63-05FD-46E4-9BD9-B009CC2C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B673-6E5F-4478-809C-8154978B5A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E05C-7FDF-4723-957F-16FE8848E1BA}" type="slidenum">
              <a:rPr b="0" lang="es-CO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663A-C220-417E-B28D-877F2614BDAA}" type="slidenum">
              <a:rPr b="0" lang="es-CO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arah%20Brightman%20e%20Jose%20Carreras%20-%20Amigos%20Para%20Siempre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95280" y="2209680"/>
            <a:ext cx="6705720" cy="34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cc9900"/>
                </a:solidFill>
                <a:latin typeface="Times New Roman"/>
              </a:rPr>
              <a:t>Los hijos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cc9900"/>
                </a:solidFill>
                <a:latin typeface="Times New Roman"/>
              </a:rPr>
              <a:t>y la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cc9900"/>
                </a:solidFill>
                <a:latin typeface="Times New Roman"/>
              </a:rPr>
              <a:t>antorch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53341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6248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♫</a:t>
            </a:r>
            <a:r>
              <a:rPr b="1" lang="es-C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O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O" sz="2000" spc="-1" strike="noStrike">
                <a:solidFill>
                  <a:srgbClr val="ffffff"/>
                </a:solidFill>
                <a:latin typeface="Times New Roman"/>
              </a:rPr>
              <a:t>Enciende los parla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214776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Arial"/>
                <a:ea typeface="Times New Roman"/>
              </a:rPr>
              <a:t>Gracias por comparti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Arial"/>
                <a:ea typeface="Times New Roman"/>
              </a:rPr>
              <a:t>este moment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Arial"/>
                <a:ea typeface="Times New Roman"/>
              </a:rPr>
              <a:t>¡ Qué tengas un hermoso día 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200400" y="285840"/>
            <a:ext cx="5562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¿Hay un período mágico cuando los hijos se hacen responsables por sus propias accio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518148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vida de ellos” sin sentir nad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2514600"/>
            <a:ext cx="69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¿Hay un momento maravilloso, cuando los padres nos convertimos sólo en espectadores, en la vida de nuestros hijos, nos alzamos de hombros y deci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19320" y="2743200"/>
            <a:ext cx="7696080" cy="181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”Cuándo pararé de preocuparme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 enfermera dij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¡Cuando salgan de la etapa de accidentes!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  <a:ea typeface="Times New Roman"/>
              </a:rPr>
              <a:t>Mi mamá apenas sonrió y no dijo nada.</a:t>
            </a: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304920"/>
            <a:ext cx="632448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uando contaba con 20 años, estaba en el pasillo de un hospital esperando a que los doctores pusieran unos puntos en la cabeza de mi hijo y pregunt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251240" y="476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2743200"/>
            <a:ext cx="7696080" cy="309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si como que me hubiera leído la mente, la maestra me dij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”No se preocupe, todos ellos pasan por esta etapa y luego usted, podrá sentarse tranquila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lajarse y disfrutarlos”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  <a:ea typeface="Times New Roman"/>
              </a:rPr>
              <a:t>Mi mamá apenas sonrió y no dijo nada.</a:t>
            </a: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304920"/>
            <a:ext cx="63244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uando contaba con 30 años, me senté en una pequeña silla en la clase y escuchaba como uno de mis hijos hablaba incesantemente interrumpiendo la clase y moviéndose continu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219320" y="2209680"/>
            <a:ext cx="7696080" cy="354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 los autos llegaran a casa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 la puerta de la casa se abrie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a amiga me dij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No te preocupes, en unos años vas a poder dejar de preocupar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los ya serán adultos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  <a:ea typeface="Times New Roman"/>
              </a:rPr>
              <a:t>Mi mamá apenas sonrió y no dijo nada.</a:t>
            </a: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04920"/>
            <a:ext cx="63244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uando contaba con 40 años, me pasaba la vida esperando que el teléfono sonara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00400" y="1828800"/>
            <a:ext cx="5715000" cy="376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davía me estaba preocupan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r mis hijo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o también ya se notaba u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ruga nueva en mi frent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nque no podía hac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ada acerca de ello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  <a:ea typeface="Times New Roman"/>
              </a:rPr>
              <a:t>Mi mamá apenas sonrió y no dijo nada.</a:t>
            </a: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533520"/>
            <a:ext cx="6553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a en mis 50 años, estaba cansada y harta de ser vulner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438280" y="2209680"/>
            <a:ext cx="6477120" cy="287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s amigos me decían que cuando mis hijos se casaran yo iba a poder dejar de preocuparme y llevar mi propia vi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 quería creerles, pero me asaltaba el recuerdo de la cálida sonrisa de mi mamá y su ocasion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33412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cc9900"/>
                </a:solidFill>
                <a:latin typeface="Arial"/>
                <a:ea typeface="Times New Roman"/>
              </a:rPr>
              <a:t>Luces pálida hija, estás bien? Estás deprimida por algo?"</a:t>
            </a: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533520"/>
            <a:ext cx="73911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 continué angustiándome con sus fracasos, apenándome por sus tristezas y absorbida en sus decepcio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2057400"/>
            <a:ext cx="85345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Es que la preocupación por nuestros hijos se entrega como una antorcha de unos a otros, para que arda en el camino de las fragilidades humanas y el miedo a lo desconocid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267080"/>
            <a:ext cx="9144000" cy="231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  <a:ea typeface="Times New Roman"/>
              </a:rPr>
              <a:t>¿Es la preocupación una maldición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  <a:ea typeface="Times New Roman"/>
              </a:rPr>
              <a:t>o es una virtud que nos eleva a 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  <a:ea typeface="Times New Roman"/>
              </a:rPr>
              <a:t>más alto de la vida human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33520"/>
            <a:ext cx="85341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Puede ser que los padres estemos sentenciados a una vida de  preocupacion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200400" y="1828800"/>
            <a:ext cx="5715000" cy="224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 dijo:¿Dónde estab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Desde ayer que te estoy llamando y nadie me respondía.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Estaba muy preocupado…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648320"/>
            <a:ext cx="914400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  <a:ea typeface="Times New Roman"/>
              </a:rPr>
              <a:t>Y yo solo me sonreí y no dije nada.</a:t>
            </a: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La antorcha había sido entregada!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33520"/>
            <a:ext cx="8610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 día uno de mis hijos, se irritó conmig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8T16:52:57Z</dcterms:created>
  <dc:creator>la historia</dc:creator>
  <dc:description/>
  <dc:language>en-US</dc:language>
  <cp:lastModifiedBy>lio alberto</cp:lastModifiedBy>
  <dcterms:modified xsi:type="dcterms:W3CDTF">2007-08-22T23:03:24Z</dcterms:modified>
  <cp:revision>46</cp:revision>
  <dc:subject/>
  <dc:title>Presentación de PowerPoint</dc:title>
</cp:coreProperties>
</file>