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ChineseMusic-Instrumental.wav" ContentType="audio/x-wav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3CA-7232-4291-A151-5D21713F3E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6C1-41C0-436A-908C-945A32BB7A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0CA-4F40-454F-BEDE-8B3B0A01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E24-E393-4C9B-A595-A4BE7810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F14-0508-4A24-A13F-BD14245D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8B6-4DB9-4CD7-A8EA-169C8FD9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BB0-240A-492A-A8E2-2F5C8DDB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A66-5130-460E-9653-A869670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669-9ED9-4B4B-8BC1-4C3B345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273-FEAF-4753-959C-4C23CE31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69F-758F-4168-B4F0-70D5993E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0B1-1779-4DB0-A7C9-AF6CA2E4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67A-C7FA-455C-9AD3-B65AF0E5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6AC-8079-4383-A139-06D6A5F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E9AF-4784-4144-9412-11C39A874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neseMusic-Instrumenta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5"/>
          <p:cNvSpPr/>
          <p:nvPr/>
        </p:nvSpPr>
        <p:spPr>
          <a:xfrm>
            <a:off x="4648320" y="64771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Click col mouse per avan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fade/>
    <p:sndAc>
      <p:stSnd>
        <p:snd r:embed="rId1" name="ChineseMusic-Instrumenta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 (700x525, 174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 (700x525, 15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 (700x525, 15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 (700x525, 21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 (700x525, 162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 (700x525, 12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 (700x525, 19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 (700x525, 19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 (700x525, 172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 (700x525, 16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日春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4071960" y="50720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エレナ     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アマリ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ttangolo 5" descr=""/>
          <p:cNvPicPr/>
          <p:nvPr/>
        </p:nvPicPr>
        <p:blipFill>
          <a:blip r:embed="rId1"/>
          <a:stretch/>
        </p:blipFill>
        <p:spPr>
          <a:xfrm>
            <a:off x="73080" y="2766960"/>
            <a:ext cx="898524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 (700x468, 10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 (700x525, 19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 (700x525, 16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885 (700x525, 1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 (700x525, 14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(700x525, 1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 (700x525, 172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 (700x525, 19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71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8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0" lang="es-AR" sz="8800" spc="-1" strike="noStrike">
                <a:solidFill>
                  <a:srgbClr val="ff00ff"/>
                </a:solidFill>
                <a:latin typeface="Arial Black"/>
              </a:rPr>
              <a:t>A</a:t>
            </a:r>
            <a:r>
              <a:rPr b="0" lang="es-AR" sz="8800" spc="-1" strike="noStrike">
                <a:solidFill>
                  <a:srgbClr val="3366ff"/>
                </a:solidFill>
                <a:latin typeface="Arial Black"/>
              </a:rPr>
              <a:t>Y</a:t>
            </a:r>
            <a:r>
              <a:rPr b="0" lang="es-AR" sz="8800" spc="-1" strike="noStrike">
                <a:solidFill>
                  <a:srgbClr val="ffffff"/>
                </a:solidFill>
                <a:latin typeface="Arial Black"/>
              </a:rPr>
              <a:t>Ô</a:t>
            </a:r>
            <a:r>
              <a:rPr b="0" lang="es-AR" sz="8800" spc="-1" strike="noStrike">
                <a:solidFill>
                  <a:srgbClr val="00ff00"/>
                </a:solidFill>
                <a:latin typeface="Arial Black"/>
              </a:rPr>
              <a:t>N</a:t>
            </a:r>
            <a:r>
              <a:rPr b="0" lang="es-AR" sz="8800" spc="-1" strike="noStrike">
                <a:solidFill>
                  <a:srgbClr val="6600ff"/>
                </a:solidFill>
                <a:latin typeface="Arial Black"/>
              </a:rPr>
              <a:t>A</a:t>
            </a:r>
            <a:r>
              <a:rPr b="0" lang="es-AR" sz="8800" spc="-1" strike="noStrike">
                <a:solidFill>
                  <a:srgbClr val="ff0066"/>
                </a:solidFill>
                <a:latin typeface="Arial Black"/>
              </a:rPr>
              <a:t>R</a:t>
            </a:r>
            <a:r>
              <a:rPr b="0" lang="es-AR" sz="8800" spc="-1" strike="noStrike">
                <a:solidFill>
                  <a:srgbClr val="339933"/>
                </a:solidFill>
                <a:latin typeface="Arial Black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143240" y="5500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usica Tradicional Japon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on over 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28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7d4"/>
                                      </p:to>
                                    </p:animClr>
                                    <p:animClr clrSpc="rgb">
                                      <p:cBhvr>
                                        <p:cTn id="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17d4"/>
                                      </p:to>
                                    </p:animClr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 (700x525, 11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3357720" y="357120"/>
            <a:ext cx="442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Rectángulo"/>
          <p:cNvSpPr/>
          <p:nvPr/>
        </p:nvSpPr>
        <p:spPr>
          <a:xfrm>
            <a:off x="3954600" y="285840"/>
            <a:ext cx="36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japan - traditional music of the japanese geisha - moon over tokyo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 (700x525, 14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 (700x525, 19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 (700x525, 15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43244098_56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 (700x560, 190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 (700x525, 164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10:43:55Z</dcterms:created>
  <dc:creator>user</dc:creator>
  <dc:description/>
  <dc:language>en-US</dc:language>
  <cp:lastModifiedBy>Carlo</cp:lastModifiedBy>
  <dcterms:modified xsi:type="dcterms:W3CDTF">2009-12-17T20:47:35Z</dcterms:modified>
  <cp:revision>27</cp:revision>
  <dc:subject/>
  <dc:title>Япония весной!!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2c000000000001024120</vt:lpwstr>
  </property>
</Properties>
</file>