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ChineseMusic-Instrumental.wav" ContentType="audio/x-wav"/>
  <Override PartName="/ppt/media/image2.jpeg" ContentType="image/jpeg"/>
  <Override PartName="/ppt/media/image23.jpeg" ContentType="image/jpeg"/>
  <Override PartName="/ppt/media/image14.jpeg" ContentType="image/jpeg"/>
  <Override PartName="/ppt/media/image13.jpeg" ContentType="image/jpe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E654D-494B-4337-8636-C4D7AB1DCE9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42863-7ACF-414F-A941-C36B83D4719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B915-1D15-452E-A356-11F42C8DD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84A6-9783-4BFB-A1A2-5A9953DFB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9BFD-887A-4912-8FCE-DDA61345A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0F51-724A-4238-88F0-639330AFF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6572-72FB-4398-9EEC-CA6252C66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C60B-02F3-4A18-962C-3064ADE28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64C8-BDF9-4F88-9FFC-661A87A3D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4B96-D597-4B35-A99C-93ECB1D15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753F-D6FA-4878-82AB-1E54E552D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90D2-E00C-4F88-82AB-8EBCE3B0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977A-0815-4277-A63E-87BECF60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7BAC-6149-45D9-9D9A-675CFEB2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23724-0E46-406F-B49E-87BFAB5062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neseMusic-Instrumenta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CasellaDiTesto 5"/>
          <p:cNvSpPr/>
          <p:nvPr/>
        </p:nvSpPr>
        <p:spPr>
          <a:xfrm>
            <a:off x="4648320" y="6477120"/>
            <a:ext cx="41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alibri"/>
              </a:rPr>
              <a:t>Click col mouse per avanz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fade/>
    <p:sndAc>
      <p:stSnd>
        <p:snd r:embed="rId1" name="ChineseMusic-Instrumental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 (700x525, 174Kb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 (700x525, 153Kb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 (700x525, 156Kb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 (700x525, 219Kb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 (700x525, 162Kb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 (700x525, 123Kb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 (700x525, 193Kb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 (700x525, 197Kb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 (700x525, 172Kb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 (700x525, 169Kb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85880"/>
            <a:ext cx="8229600" cy="421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本日春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57120" y="28584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4 CuadroTexto"/>
          <p:cNvSpPr/>
          <p:nvPr/>
        </p:nvSpPr>
        <p:spPr>
          <a:xfrm>
            <a:off x="4071960" y="5072040"/>
            <a:ext cx="357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エレナ     </a:t>
            </a:r>
            <a:br>
              <a:rPr sz="3600"/>
            </a:br>
            <a:r>
              <a:rPr b="0" lang="ja-JP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アマリ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Rettangolo 5" descr=""/>
          <p:cNvPicPr/>
          <p:nvPr/>
        </p:nvPicPr>
        <p:blipFill>
          <a:blip r:embed="rId1"/>
          <a:stretch/>
        </p:blipFill>
        <p:spPr>
          <a:xfrm>
            <a:off x="73080" y="2766960"/>
            <a:ext cx="8985240" cy="11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 (700x468, 109Kb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 (700x525, 197Kb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 (700x525, 169Kb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3885 (700x525, 166Kb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 (700x525, 145Kb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 (700x525, 166Kb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 (700x525, 172Kb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 (700x525, 197Kb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7184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800" spc="-1" strike="noStrike">
                <a:solidFill>
                  <a:srgbClr val="ffff00"/>
                </a:solidFill>
                <a:latin typeface="Arial Black"/>
              </a:rPr>
              <a:t>S</a:t>
            </a:r>
            <a:r>
              <a:rPr b="0" lang="es-AR" sz="8800" spc="-1" strike="noStrike">
                <a:solidFill>
                  <a:srgbClr val="ff00ff"/>
                </a:solidFill>
                <a:latin typeface="Arial Black"/>
              </a:rPr>
              <a:t>A</a:t>
            </a:r>
            <a:r>
              <a:rPr b="0" lang="es-AR" sz="8800" spc="-1" strike="noStrike">
                <a:solidFill>
                  <a:srgbClr val="3366ff"/>
                </a:solidFill>
                <a:latin typeface="Arial Black"/>
              </a:rPr>
              <a:t>Y</a:t>
            </a:r>
            <a:r>
              <a:rPr b="0" lang="es-AR" sz="8800" spc="-1" strike="noStrike">
                <a:solidFill>
                  <a:srgbClr val="ffffff"/>
                </a:solidFill>
                <a:latin typeface="Arial Black"/>
              </a:rPr>
              <a:t>Ô</a:t>
            </a:r>
            <a:r>
              <a:rPr b="0" lang="es-AR" sz="8800" spc="-1" strike="noStrike">
                <a:solidFill>
                  <a:srgbClr val="00ff00"/>
                </a:solidFill>
                <a:latin typeface="Arial Black"/>
              </a:rPr>
              <a:t>N</a:t>
            </a:r>
            <a:r>
              <a:rPr b="0" lang="es-AR" sz="8800" spc="-1" strike="noStrike">
                <a:solidFill>
                  <a:srgbClr val="6600ff"/>
                </a:solidFill>
                <a:latin typeface="Arial Black"/>
              </a:rPr>
              <a:t>A</a:t>
            </a:r>
            <a:r>
              <a:rPr b="0" lang="es-AR" sz="8800" spc="-1" strike="noStrike">
                <a:solidFill>
                  <a:srgbClr val="ff0066"/>
                </a:solidFill>
                <a:latin typeface="Arial Black"/>
              </a:rPr>
              <a:t>R</a:t>
            </a:r>
            <a:r>
              <a:rPr b="0" lang="es-AR" sz="8800" spc="-1" strike="noStrike">
                <a:solidFill>
                  <a:srgbClr val="339933"/>
                </a:solidFill>
                <a:latin typeface="Arial Black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3 CuadroTexto"/>
          <p:cNvSpPr/>
          <p:nvPr/>
        </p:nvSpPr>
        <p:spPr>
          <a:xfrm>
            <a:off x="4143240" y="550080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Musica Tradicional Japon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Moon over Toky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mph" presetID="28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1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d17d4"/>
                                      </p:to>
                                    </p:animClr>
                                    <p:animClr clrSpc="rgb">
                                      <p:cBhvr>
                                        <p:cTn id="1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d17d4"/>
                                      </p:to>
                                    </p:animClr>
                                    <p:set>
                                      <p:cBhvr>
                                        <p:cTn id="2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 (700x525, 116Kb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10 CuadroTexto"/>
          <p:cNvSpPr/>
          <p:nvPr/>
        </p:nvSpPr>
        <p:spPr>
          <a:xfrm>
            <a:off x="3357720" y="357120"/>
            <a:ext cx="4429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13 Rectángulo"/>
          <p:cNvSpPr/>
          <p:nvPr/>
        </p:nvSpPr>
        <p:spPr>
          <a:xfrm>
            <a:off x="3954600" y="285840"/>
            <a:ext cx="368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japan - traditional music of the japanese geisha - moon over tokyo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 (700x525, 145Kb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 (700x525, 193Kb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 (700x525, 157Kb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43244098_56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 (700x560, 190Kb)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 (700x525, 164Kb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4T10:43:55Z</dcterms:created>
  <dc:creator>user</dc:creator>
  <dc:description/>
  <dc:language>en-US</dc:language>
  <cp:lastModifiedBy>Carlo</cp:lastModifiedBy>
  <dcterms:modified xsi:type="dcterms:W3CDTF">2009-12-17T20:47:35Z</dcterms:modified>
  <cp:revision>27</cp:revision>
  <dc:subject/>
  <dc:title>Япония весной!!!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02c000000000001024120</vt:lpwstr>
  </property>
</Properties>
</file>