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wav.(8-8)%20Moonlight%20Serenade%20-%20Fausto%20Papetti%20-%20waldo.wav" ContentType="audio/x-wav"/>
  <Override PartName="/ppt/media/image28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B612-2B88-4868-94F4-F93CBCCF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41B7-C708-475B-9CAC-DB9A214C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B42B-C168-4F24-9B0D-5A376486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4F5-3D01-474D-82EA-195BA5F7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8A29-9093-4EDE-9B46-123FB42A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2C83-069F-479A-8625-8D2A2907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F38-424A-4563-8F04-F4B9F647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14D-9999-4DEE-AEE6-77ABCA67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D102-8AFB-46B9-8B20-C95108A2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0F12-AF93-4258-A32A-4CB40F52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AE5A-D827-496A-9EAA-764EF25C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C37-50C2-45E0-9CC3-B650E7B4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553D-AA29-4076-9A4B-0F558052C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94B9-0D87-4102-9B94-EB3796FF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9AC-1722-454D-A918-98293BBF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A1BF-A13D-4B86-B837-1ED3D861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C22F-AFAB-485B-BE16-FB2AADFF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C9CF-E816-469E-85E4-4E476D2D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FEE-FACA-4033-92EB-BCB6BA6E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AD0-E916-4D7B-B3B8-395D10BC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0F8-7447-4824-9C99-D6DE80CC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3CF-F227-434B-88EA-C0B8F363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79C-571B-4C26-99AA-6B4030C8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E2B7-BCAA-4358-9CC2-F64238BD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6FB9-2BF2-4080-A8C0-1E9999DD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319E-5896-46CC-A2F2-7A7A9666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552-D5EC-4EFA-A634-4D0904C1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8FD-D9AF-4139-81C2-E314DCA5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662A-1DE4-4BE8-95B3-2CFFA59C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672-F2DD-456B-9DCF-12FB3ECD1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B1B-2BE2-46C6-8D44-AC720F52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21B-0E59-4F6F-8124-497E57B0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5FF-72F1-4E68-9D52-7AED4BA6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E27-EDC7-49C4-BB97-6A826DE5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552-035A-4D2B-B8A4-AF207046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392-EBFD-4C95-9A3A-D915F02B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834-B800-4AF5-A1D2-262BCA9B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FF9-1057-4FC6-A457-918BE9A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532-C694-4159-A053-A503D30E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A06-5A46-419F-90B6-AB9D4C8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AA1-2525-4C85-9903-450D1640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C00-F1ED-4CAB-818D-F7A548B8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145-B2CF-4FFF-85B3-485A0AE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BF6-5239-4F5A-92B8-7320876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5EF-822E-4714-8CC7-D389AFB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A3BD-C27D-46FF-A841-CBB15B14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av.(8-8)%20Moonlight%20Serenade%20-%20Fausto%20Papetti%20-%20wald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55640" y="333360"/>
            <a:ext cx="7704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El espectacular</a:t>
            </a:r>
            <a:endParaRPr b="1" lang="en-US" sz="60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Solsticio de Manhattan</a:t>
            </a:r>
            <a:endParaRPr b="1" lang="en-US" sz="6000" spc="1" strike="noStrike">
              <a:ln w="255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2048040" y="2316240"/>
            <a:ext cx="4760640" cy="817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>
            <a:hlinkClick r:id="" action="ppaction://hlinkshowjump?jump=firstslide"/>
          </p:cNvPr>
          <p:cNvSpPr/>
          <p:nvPr/>
        </p:nvSpPr>
        <p:spPr>
          <a:xfrm>
            <a:off x="0" y="616572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Goudy Old Style"/>
              </a:rPr>
              <a:t>Tema:  Moonlight Serenade -  por:  Fausto Pap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7533360" y="6237360"/>
            <a:ext cx="143820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Au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219640" y="4869000"/>
            <a:ext cx="3570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  <p:sndAc>
      <p:stSnd>
        <p:snd r:embed="rId3" name="wav.(8-8)%20Moonlight%20Serenade%20-%20Fausto%20Papetti%20-%20wald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640"/>
                            </p:stCondLst>
                            <p:childTnLst>
                              <p:par>
                                <p:cTn id="22" nodeType="after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310139374de65b72288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2519653554de65b74e2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76678954de5e365829bf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N22606C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2622818794de65b75830a9"/>
          <p:cNvPicPr/>
          <p:nvPr/>
        </p:nvPicPr>
        <p:blipFill>
          <a:blip r:embed="rId1"/>
          <a:stretch/>
        </p:blipFill>
        <p:spPr>
          <a:xfrm>
            <a:off x="-1908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olsticio de manhatan1.jpg"/>
          <p:cNvPicPr/>
          <p:nvPr/>
        </p:nvPicPr>
        <p:blipFill>
          <a:blip r:embed="rId1"/>
          <a:srcRect l="0" t="0" r="737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11279396114de65b759d680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710932464dda7e97b73e0"/>
          <p:cNvPicPr/>
          <p:nvPr/>
        </p:nvPicPr>
        <p:blipFill>
          <a:blip r:embed="rId1"/>
          <a:stretch/>
        </p:blipFill>
        <p:spPr>
          <a:xfrm>
            <a:off x="1187280" y="-7920"/>
            <a:ext cx="684072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5477063194de69b76c40f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829584644de69e1d386f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da semestre, el sol se alinea con las calles de este a oeste en la calle principal de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U1010P1T1D7202688F21DT20050712145354"/>
          <p:cNvPicPr/>
          <p:nvPr/>
        </p:nvPicPr>
        <p:blipFill>
          <a:blip r:embed="rId1"/>
          <a:stretch/>
        </p:blipFill>
        <p:spPr>
          <a:xfrm>
            <a:off x="0" y="0"/>
            <a:ext cx="41608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res01_attpic_brief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5460574704de65b77cac0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150436634de65b75f31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9770785314de6d2ea09650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6821180004de65b79ba585"/>
          <p:cNvPicPr/>
          <p:nvPr/>
        </p:nvPicPr>
        <p:blipFill>
          <a:blip r:embed="rId1"/>
          <a:stretch/>
        </p:blipFill>
        <p:spPr>
          <a:xfrm>
            <a:off x="1547640" y="0"/>
            <a:ext cx="5964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137394204de65b7a6902d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d78f1af678ef47fe9a8d6b5e8349f55"/>
          <p:cNvPicPr/>
          <p:nvPr/>
        </p:nvPicPr>
        <p:blipFill>
          <a:blip r:embed="rId1"/>
          <a:stretch/>
        </p:blipFill>
        <p:spPr>
          <a:xfrm>
            <a:off x="154764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42620339987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9330520634de69ea5bd7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caída del sol en la isla sin que ningún edificio la tape solo ocurre en contadas ocasiones al a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bd1e8039373b82a3812bbf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4bd1e8039373b82a3812bbf9"/>
          <p:cNvPicPr/>
          <p:nvPr/>
        </p:nvPicPr>
        <p:blipFill>
          <a:blip r:embed="rId2"/>
          <a:stretch/>
        </p:blipFill>
        <p:spPr>
          <a:xfrm>
            <a:off x="6437160" y="6303960"/>
            <a:ext cx="2713320" cy="444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10328943924de5e2bac930e"/>
          <p:cNvPicPr/>
          <p:nvPr/>
        </p:nvPicPr>
        <p:blipFill>
          <a:blip r:embed="rId1"/>
          <a:stretch/>
        </p:blipFill>
        <p:spPr>
          <a:xfrm>
            <a:off x="22320" y="0"/>
            <a:ext cx="90946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569078994de5e2bac8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10560344374de65b72b52de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6865854564de65b73a9e73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69e51b9d7067d37cd31b7088"/>
          <p:cNvPicPr/>
          <p:nvPr/>
        </p:nvPicPr>
        <p:blipFill>
          <a:blip r:embed="rId2"/>
          <a:stretch/>
        </p:blipFill>
        <p:spPr>
          <a:xfrm>
            <a:off x="250920" y="0"/>
            <a:ext cx="8785080" cy="6215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592240" y="6396120"/>
            <a:ext cx="3533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51400" y="623736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UY" sz="2400" spc="-1" strike="noStrike">
                <a:solidFill>
                  <a:srgbClr val="ff9900"/>
                </a:solidFill>
                <a:latin typeface="Arial Black"/>
              </a:rPr>
              <a:t>walnalo@yahoo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3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3250791204de69dbc9c5cd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835280" y="6321600"/>
            <a:ext cx="7308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tarde la multitud espera en el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7346830344de69e603d59a"/>
          <p:cNvPicPr/>
          <p:nvPr/>
        </p:nvPicPr>
        <p:blipFill>
          <a:blip r:embed="rId1"/>
          <a:stretch/>
        </p:blipFill>
        <p:spPr>
          <a:xfrm>
            <a:off x="539640" y="0"/>
            <a:ext cx="8082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573264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as fotografías captan el momento en que se produce el fenómeno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94553504de65167301f7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7452775624de6515f9c7dd"/>
          <p:cNvPicPr/>
          <p:nvPr/>
        </p:nvPicPr>
        <p:blipFill>
          <a:blip r:embed="rId2"/>
          <a:stretch/>
        </p:blipFill>
        <p:spPr>
          <a:xfrm>
            <a:off x="1979640" y="-674640"/>
            <a:ext cx="6657840" cy="6110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Manhattanhenge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conocido como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l Solsticio de Manhatta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– en Nueva Y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mágico atardecer en Nueva York.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artes 12, julio de 2011, sobre la calle 42 en Manhattan, Se dio el “Manhattanheng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olsticio de manhatan2a.jpg"/>
          <p:cNvPicPr/>
          <p:nvPr/>
        </p:nvPicPr>
        <p:blipFill>
          <a:blip r:embed="rId1"/>
          <a:srcRect l="4935" t="2350" r="6161" b="1205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0" y="11592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la puesta de sol se alinea perfectamente con la recta de las cuadriculadas calles de Manhat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7T02:58:58Z</dcterms:created>
  <dc:creator>huang yifan</dc:creator>
  <dc:description/>
  <dc:language>en-US</dc:language>
  <cp:lastModifiedBy>waldo</cp:lastModifiedBy>
  <dcterms:modified xsi:type="dcterms:W3CDTF">2011-08-30T02:33:02Z</dcterms:modified>
  <cp:revision>52</cp:revision>
  <dc:subject/>
  <dc:title>幻灯片 1</dc:title>
</cp:coreProperties>
</file>