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wav.(8-8)%20Moonlight%20Serenade%20-%20Fausto%20Papetti%20-%20waldo.wav" ContentType="audio/x-wav"/>
  <Override PartName="/ppt/media/image28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E92-000E-4C1A-A327-C36CDADC0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4D53-D0D9-412D-9A09-B96606AE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22B-6B72-4980-AD5F-32EB9C8B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EEC-BCD0-4F47-9386-18F7FEE6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344-A302-4BFB-A6CC-01E816E9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58B-3C60-4C34-B4C3-C31E8758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AA3-1E78-4986-B85F-927D70E7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8C1C-6DEE-40B7-A5E4-D2740EB6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02B-5943-4B0E-9810-8170C21F9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160-3CA9-4F53-8931-D9FEDFED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77C-3B2F-4EEA-AA5F-8785B3D4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1B4-1B90-4294-934F-33C654C65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4FD-CF32-44E5-A743-BA0D0802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341C-A56D-4470-AA6B-0006DC25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801-027A-4817-9F85-DCF6196E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2439-0A03-4660-A58F-75BF8ED6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F565-1A1E-4FD3-8974-C9C756A5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4187-03B8-4448-9F8F-E8584733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5CA-39A0-457D-B871-4A3853B7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5B2-CED3-4E07-B5F2-13EC237F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3D49-E542-451B-95DD-ED5DDD6D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8C99-02E8-43A9-ADA0-A4A431DB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E9C6-9B9E-4FF2-B7F7-E649E9CD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57FA-FC2A-4940-AC04-ACC006D1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9757-CDD3-4F17-8FD2-FBBC24E9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D1AE-C08B-4AAA-88EC-E832E3EF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4915-694E-4028-ACD5-A4DB7982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E4B9-1DF4-445F-B8F6-B0F25CAF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A666-5208-4D50-B0AA-F3CA2948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CA1-9321-4152-907F-1CFB630A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F4E-A297-45D2-8A0F-782CAC509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F17-7AD4-4012-A7D5-41105576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D94-645C-428C-BEB3-A08D8740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8CA-3BFB-4BD7-BC8C-5C40617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056-9E64-4F2E-9532-88DB7718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452-EBA2-477A-AA4B-B1301669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0E0-DCEC-429E-9E8C-AA9DFBC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AC8-9106-4304-9E52-6B0E00E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64F-07FD-4D7D-BF3D-969B4D19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BF9-FE91-491C-AFB5-9DE73D5B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D86-BE74-417D-8FC1-A15EEE4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8E5-B6BE-48D9-AF85-E35F536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7FF-CA2E-4123-B9B5-4DD998E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5B1-920E-4556-8F85-E0EE5F5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C6C-2775-44F6-802E-CCF1609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C1E-A69D-4330-9717-31A2FBAB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av.(8-8)%20Moonlight%20Serenade%20-%20Fausto%20Papetti%20-%20wald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55640" y="333360"/>
            <a:ext cx="7704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El espectacular</a:t>
            </a:r>
            <a:endParaRPr b="1" lang="en-US" sz="60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Solsticio de Manhattan</a:t>
            </a:r>
            <a:endParaRPr b="1" lang="en-US" sz="60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2048040" y="2316240"/>
            <a:ext cx="4760640" cy="817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>
            <a:hlinkClick r:id="" action="ppaction://hlinkshowjump?jump=firstslide"/>
          </p:cNvPr>
          <p:cNvSpPr/>
          <p:nvPr/>
        </p:nvSpPr>
        <p:spPr>
          <a:xfrm>
            <a:off x="0" y="616572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Goudy Old Style"/>
              </a:rPr>
              <a:t>Tema:  Moonlight Serenade -  por:  Fausto Pap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7533360" y="6237360"/>
            <a:ext cx="143820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u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219640" y="4869000"/>
            <a:ext cx="3570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  <p:sndAc>
      <p:stSnd>
        <p:snd r:embed="rId3" name="wav.(8-8)%20Moonlight%20Serenade%20-%20Fausto%20Papetti%20-%20wal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640"/>
                            </p:stCondLst>
                            <p:childTnLst>
                              <p:par>
                                <p:cTn id="22" nodeType="after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310139374de65b72288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2519653554de65b74e2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76678954de5e365829bf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N22606C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2622818794de65b75830a9"/>
          <p:cNvPicPr/>
          <p:nvPr/>
        </p:nvPicPr>
        <p:blipFill>
          <a:blip r:embed="rId1"/>
          <a:stretch/>
        </p:blipFill>
        <p:spPr>
          <a:xfrm>
            <a:off x="-1908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lsticio de manhatan1.jpg"/>
          <p:cNvPicPr/>
          <p:nvPr/>
        </p:nvPicPr>
        <p:blipFill>
          <a:blip r:embed="rId1"/>
          <a:srcRect l="0" t="0" r="737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11279396114de65b759d680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710932464dda7e97b73e0"/>
          <p:cNvPicPr/>
          <p:nvPr/>
        </p:nvPicPr>
        <p:blipFill>
          <a:blip r:embed="rId1"/>
          <a:stretch/>
        </p:blipFill>
        <p:spPr>
          <a:xfrm>
            <a:off x="1187280" y="-7920"/>
            <a:ext cx="684072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5477063194de69b76c40f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829584644de69e1d386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da semestre, el sol se alinea con las calles de este a oeste en la calle principal de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U1010P1T1D7202688F21DT20050712145354"/>
          <p:cNvPicPr/>
          <p:nvPr/>
        </p:nvPicPr>
        <p:blipFill>
          <a:blip r:embed="rId1"/>
          <a:stretch/>
        </p:blipFill>
        <p:spPr>
          <a:xfrm>
            <a:off x="0" y="0"/>
            <a:ext cx="41608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res01_attpic_brief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5460574704de65b77cac0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150436634de65b75f31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9770785314de6d2ea09650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6821180004de65b79ba585"/>
          <p:cNvPicPr/>
          <p:nvPr/>
        </p:nvPicPr>
        <p:blipFill>
          <a:blip r:embed="rId1"/>
          <a:stretch/>
        </p:blipFill>
        <p:spPr>
          <a:xfrm>
            <a:off x="1547640" y="0"/>
            <a:ext cx="5964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137394204de65b7a6902d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d78f1af678ef47fe9a8d6b5e8349f55"/>
          <p:cNvPicPr/>
          <p:nvPr/>
        </p:nvPicPr>
        <p:blipFill>
          <a:blip r:embed="rId1"/>
          <a:stretch/>
        </p:blipFill>
        <p:spPr>
          <a:xfrm>
            <a:off x="154764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42620339987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9330520634de69ea5bd7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caída del sol en la isla sin que ningún edificio la tape solo ocurre en contadas ocasiones al a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bd1e8039373b82a3812bbf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4bd1e8039373b82a3812bbf9"/>
          <p:cNvPicPr/>
          <p:nvPr/>
        </p:nvPicPr>
        <p:blipFill>
          <a:blip r:embed="rId2"/>
          <a:stretch/>
        </p:blipFill>
        <p:spPr>
          <a:xfrm>
            <a:off x="6437160" y="6303960"/>
            <a:ext cx="2713320" cy="44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10328943924de5e2bac930e"/>
          <p:cNvPicPr/>
          <p:nvPr/>
        </p:nvPicPr>
        <p:blipFill>
          <a:blip r:embed="rId1"/>
          <a:stretch/>
        </p:blipFill>
        <p:spPr>
          <a:xfrm>
            <a:off x="22320" y="0"/>
            <a:ext cx="9094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569078994de5e2bac8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10560344374de65b72b52de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6865854564de65b73a9e73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69e51b9d7067d37cd31b7088"/>
          <p:cNvPicPr/>
          <p:nvPr/>
        </p:nvPicPr>
        <p:blipFill>
          <a:blip r:embed="rId2"/>
          <a:stretch/>
        </p:blipFill>
        <p:spPr>
          <a:xfrm>
            <a:off x="250920" y="0"/>
            <a:ext cx="8785080" cy="6215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592240" y="6396120"/>
            <a:ext cx="3533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51400" y="623736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400" spc="-1" strike="noStrike">
                <a:solidFill>
                  <a:srgbClr val="ff9900"/>
                </a:solidFill>
                <a:latin typeface="Arial Black"/>
              </a:rPr>
              <a:t>walnalo@yahoo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3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3250791204de69dbc9c5cd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835280" y="6321600"/>
            <a:ext cx="7308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tarde la multitud espera en el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7346830344de69e603d59a"/>
          <p:cNvPicPr/>
          <p:nvPr/>
        </p:nvPicPr>
        <p:blipFill>
          <a:blip r:embed="rId1"/>
          <a:stretch/>
        </p:blipFill>
        <p:spPr>
          <a:xfrm>
            <a:off x="539640" y="0"/>
            <a:ext cx="8082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573264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as fotografías captan el momento en que se produce el fenómeno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94553504de65167301f7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7452775624de6515f9c7dd"/>
          <p:cNvPicPr/>
          <p:nvPr/>
        </p:nvPicPr>
        <p:blipFill>
          <a:blip r:embed="rId2"/>
          <a:stretch/>
        </p:blipFill>
        <p:spPr>
          <a:xfrm>
            <a:off x="1979640" y="-674640"/>
            <a:ext cx="6657840" cy="6110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Manhattanhenge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conocido como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l Solsticio de Manhatta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– en Nueva Y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mágico atardecer en Nueva York.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artes 12, julio de 2011, sobre la calle 42 en Manhattan, Se dio el “Manhattanheng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olsticio de manhatan2a.jpg"/>
          <p:cNvPicPr/>
          <p:nvPr/>
        </p:nvPicPr>
        <p:blipFill>
          <a:blip r:embed="rId1"/>
          <a:srcRect l="4935" t="2350" r="6161" b="1205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a puesta de sol se alinea perfectamente con la recta de las cuadriculadas calles de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7T02:58:58Z</dcterms:created>
  <dc:creator>huang yifan</dc:creator>
  <dc:description/>
  <dc:language>en-US</dc:language>
  <cp:lastModifiedBy>waldo</cp:lastModifiedBy>
  <dcterms:modified xsi:type="dcterms:W3CDTF">2011-08-30T02:33:02Z</dcterms:modified>
  <cp:revision>52</cp:revision>
  <dc:subject/>
  <dc:title>幻灯片 1</dc:title>
</cp:coreProperties>
</file>