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4.png" ContentType="image/png"/>
  <Override PartName="/ppt/media/image1.gif" ContentType="image/gif"/>
  <Override PartName="/ppt/media/image11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9.jpeg" ContentType="image/jpeg"/>
  <Override PartName="/ppt/media/john%20barry%20-%20the%20girl%20with%20the%20sun%20in%20her%20hair.WAV" ContentType="audio/x-wav"/>
  <Override PartName="/ppt/media/image36.jpeg" ContentType="image/jpeg"/>
  <Override PartName="/ppt/media/image30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43.jpeg" ContentType="image/jpeg"/>
  <Override PartName="/ppt/media/image46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A3-E9B2-493A-936B-C321F05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76E-CEE7-4D08-9A93-5875B29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300-6D71-42FB-A4F7-8784580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77E-A97D-4C72-9A55-67E1C0C2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B1E-8255-4A1F-BE99-3BA73A40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515-D899-407A-A0BE-56C71B9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AF24-38AD-4778-A7BB-DF5E411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2017-747C-463E-8E43-5AFB1B35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696-F6C6-4A63-A2B5-19A1310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386-1556-4BD9-A984-5169067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A87-C078-402C-9C6C-2686675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2FF-A079-4494-ACE3-8BD0965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322-198F-4D96-9585-C0D892E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C53-3E61-4ADE-9410-4000CC6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A54-8545-44C9-9BEF-80946849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2BB9-B415-4EE7-AD87-391C08FD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D8FD-C027-4E03-AC9B-6FE1CDB6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60C36-7CF5-4DD9-9192-6042B4B6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2D57-33CB-4939-BFAE-1B2D179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7174-A202-4970-9E19-6031796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E48F-DE44-4752-AF06-8B85FBF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8838-E125-4FC4-95BA-18B382C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1C7-8FB8-439E-92F1-BAA84B2D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0B75-1B88-4040-B618-E9D72DC0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D0F7-AB7B-4731-B740-BBE87D5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D664-335F-46DB-A219-CD695E4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404F-964B-4BB7-8F6E-3FA16C5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D8CF-3FB6-4C7B-9CB0-E03C58F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F44A-D99C-46D3-B840-FF1E9A79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3EDB-75F2-421F-8BBB-C6038F4A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697-2312-4A08-B800-F312653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7F0-9E12-4195-BF90-AB9ECA9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064-96F0-4F97-8D9B-51DA3A1B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85A-10C3-416E-BA42-71EDE64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B38-A52B-4E81-88E3-FF99EA7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61E-E1F0-4CCF-BE24-6390ADA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A4D-2F3F-452F-8E20-E0561E33B7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829-FCE1-4B55-8886-3A21279141AB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2CA-0F99-4551-A0F7-8B9CAC9AE4E4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john%20barry%20-%20the%20girl%20with%20the%20sun%20in%20her%20hai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796000" y="5157720"/>
            <a:ext cx="2663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est beau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11280" y="98100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Vu du ciel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5229360"/>
            <a:ext cx="2447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mond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5157720"/>
            <a:ext cx="20858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notr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 advTm="12000">
    <p:fade thruBlk="true"/>
    <p:sndAc>
      <p:stSnd>
        <p:snd r:embed="rId3" name="john%20barry%20-%20the%20girl%20with%20the%20sun%20in%20her%20ha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5640" y="981000"/>
            <a:ext cx="374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TRICHE - LAC FÜ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76500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VENEZUELA - RIO CA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981000"/>
            <a:ext cx="403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STRALIE - QUEEN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0" y="549360"/>
            <a:ext cx="338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aiandra GD"/>
              </a:rPr>
              <a:t>JORDANIE - SAF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35640" y="4508640"/>
            <a:ext cx="244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ICILE - E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27640" y="486900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64000" y="57340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NTAR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42920" y="549360"/>
            <a:ext cx="309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NA - éru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2000" y="549360"/>
            <a:ext cx="230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EROU - 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0" y="76500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IBERIE - O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71640" y="549360"/>
            <a:ext cx="5183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HIOPIE - source naturelle DAL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27640" y="620640"/>
            <a:ext cx="367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ARRIERE DE CO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280" y="620640"/>
            <a:ext cx="468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c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YELLOWSTONE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HEL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32000" y="1052640"/>
            <a:ext cx="151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12000" y="501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8360" y="549360"/>
            <a:ext cx="38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AHAMAS - LOS RO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49360"/>
            <a:ext cx="3025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ORSE - SCAN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27640" y="333360"/>
            <a:ext cx="338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RCHIPEL - CAR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50920" y="765000"/>
            <a:ext cx="15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AL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256536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ac Lé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1280" y="292428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476280"/>
            <a:ext cx="396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ATS UNIS - LAC P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800" y="403560"/>
            <a:ext cx="467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dc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WHITE ISLAND - ancien crat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907920"/>
            <a:ext cx="38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c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UATEMALA - PAC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04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NOUVELLE CALEDONIE - NU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76720" y="2997360"/>
            <a:ext cx="205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7e"/>
                </a:solidFill>
                <a:latin typeface="Maiandra GD"/>
              </a:rPr>
              <a:t>ARC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549360"/>
            <a:ext cx="241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VENISE - lag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6048720" cy="6048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0920" y="6165720"/>
            <a:ext cx="50421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Une aurore boréale sur l’AR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0" y="602136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UMIERES D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059280" y="3809880"/>
            <a:ext cx="3070080" cy="305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305928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0000" y="321300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uis le jour se lève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2"/>
            </a:gs>
            <a:gs pos="100000">
              <a:srgbClr val="00206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16000" y="692280"/>
            <a:ext cx="5005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DMIRABLE, notre planète bleu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7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7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3367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284720" cy="2317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26920" y="476280"/>
            <a:ext cx="49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réservons-la, ne la détruisons pas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8960" y="1197000"/>
            <a:ext cx="790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vant qu’elle ne devienne désert ou explosion de fe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80536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aiandra GD"/>
              </a:rPr>
              <a:t>Laissons un bel héritage à nos enfant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40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2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600"/>
                            </p:stCondLst>
                            <p:childTnLst>
                              <p:par>
                                <p:cTn id="3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5732640"/>
            <a:ext cx="8675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Mais la beauté de la terre se crée elle-même, à chaqu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La terre entière est notre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80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048280" cy="4991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 rot="21344400">
            <a:off x="7093080" y="5805360"/>
            <a:ext cx="14302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66cc"/>
                  </a:outerShdw>
                </a:effectLst>
                <a:latin typeface="Maiandra GD"/>
              </a:rPr>
              <a:t>A.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3366cc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404640"/>
            <a:ext cx="388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RESTONS VIGI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00" y="5804280"/>
            <a:ext cx="581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a  vie du présent tisse celle de l'aven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xit" presetID="28">
                                  <p:stCondLst>
                                    <p:cond delay="100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8" dur="3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15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92280"/>
            <a:ext cx="4465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ARAIBES - ÎLES PA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08000" y="2276640"/>
            <a:ext cx="34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GYPTE - vent de 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43280" y="692280"/>
            <a:ext cx="421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STRALIE - PARC KAK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230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ROË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907920"/>
            <a:ext cx="324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QUATEUR - 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836640"/>
            <a:ext cx="432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MAROC - SEBKHET-AR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4:01:50Z</dcterms:created>
  <dc:creator>Aline</dc:creator>
  <dc:description/>
  <dc:language>en-US</dc:language>
  <cp:lastModifiedBy>usuario</cp:lastModifiedBy>
  <dcterms:modified xsi:type="dcterms:W3CDTF">2008-01-30T21:32:05Z</dcterms:modified>
  <cp:revision>72</cp:revision>
  <dc:subject/>
  <dc:title>Diapositive 1</dc:title>
</cp:coreProperties>
</file>