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4.png" ContentType="image/png"/>
  <Override PartName="/ppt/media/image1.gif" ContentType="image/gif"/>
  <Override PartName="/ppt/media/image11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9.jpeg" ContentType="image/jpeg"/>
  <Override PartName="/ppt/media/john%20barry%20-%20the%20girl%20with%20the%20sun%20in%20her%20hair.WAV" ContentType="audio/x-wav"/>
  <Override PartName="/ppt/media/image36.jpeg" ContentType="image/jpeg"/>
  <Override PartName="/ppt/media/image30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41.png" ContentType="image/png"/>
  <Override PartName="/ppt/media/image43.jpeg" ContentType="image/jpeg"/>
  <Override PartName="/ppt/media/image46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382-6124-4CD0-8530-6C03F73B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97F-994B-4CE3-9BDC-75EB34F3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119-6CF1-4F22-90FA-E03B02E8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72F-7567-4E09-847C-74AE44D8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B80B-F5C4-4D8B-BF4B-B1C8C8CC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6902-0FFD-46E1-A6A3-67E4DF8B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4DEA-485B-4108-BA76-A85C53B4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2D9A-730D-4169-8FA5-DB0B5B98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9BBF-7B30-4B44-9330-07F0FC56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D14C-FB7D-4689-B87A-19630D1A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C08F-F88C-4C8D-9B21-85130DED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A9E-93D4-4398-8AED-A4CF7433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AB7A-61A2-492A-97D6-E034631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32DB-0746-4B42-AB26-0013D22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5EE8-FFD6-43F9-BAF7-3107D2D6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33B1-6CD8-4A55-BCB5-AD081B3B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F9E3-0015-4827-BA4A-E4AB05B1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66759-742D-4B2E-B888-1FF76F37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FA23-9F79-4896-80C6-5B61143A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0D9E-CFCD-40F6-BA54-7E2F50D5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BA68-7F2D-4A99-BA13-E0B703CB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6069-19F7-4FDE-87F6-CC7BDA74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5DA-0F70-4354-AB42-2568C1D3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089E-0D50-4463-BE66-AEA6FBEA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A5435-2F7F-4925-9B0B-3B3AB86F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FC37-32A7-41DF-BB68-2BC19F26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8BD1-D6FF-4C14-B5C0-D4BA8F2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B7F6-CE47-4968-9A62-9127D0FF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9FF0-19C1-4CEA-BA49-0B28B2AC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222F-9D4B-431B-A942-39F3E066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89D-D553-4FCB-A37D-C130BB54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B93-57A8-4E16-B686-82065ED0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BA8-2033-4F7A-9D3D-7C5A5463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C6D-E47E-4A74-A17A-6D06D1E5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7EF-284F-4EF7-B2AB-BC0DA3CB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DC0-5D00-4456-800C-CA08E2FF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A870-CF92-4861-AE8A-1AD730ACF54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A884-AE11-4F2D-9E5D-EB40493C0570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2982-076D-4BD5-8A13-8258CBA0464F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john%20barry%20-%20the%20girl%20with%20the%20sun%20in%20her%20hai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796000" y="5157720"/>
            <a:ext cx="266364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est beau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411280" y="981000"/>
            <a:ext cx="39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Vu du ciel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5229360"/>
            <a:ext cx="2447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mond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5157720"/>
            <a:ext cx="20858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notr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</p:spTree>
  </p:cSld>
  <p:transition spd="med" advTm="12000">
    <p:fade thruBlk="true"/>
    <p:sndAc>
      <p:stSnd>
        <p:snd r:embed="rId3" name="john%20barry%20-%20the%20girl%20with%20the%20sun%20in%20her%20hai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5640" y="981000"/>
            <a:ext cx="374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UTRICHE - LAC FÜ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765000"/>
            <a:ext cx="403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VENEZUELA - RIO CAR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981000"/>
            <a:ext cx="4033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USTRALIE - QUEEN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0" y="549360"/>
            <a:ext cx="3382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aiandra GD"/>
              </a:rPr>
              <a:t>JORDANIE - SAF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435640" y="4508640"/>
            <a:ext cx="244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ICILE - E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27640" y="4869000"/>
            <a:ext cx="792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1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64000" y="57340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NTARC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42920" y="549360"/>
            <a:ext cx="3097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TNA - éru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2000" y="549360"/>
            <a:ext cx="230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PEROU - 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0" y="76500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IBERIE - O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71640" y="549360"/>
            <a:ext cx="5183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THIOPIE - source naturelle DAL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27640" y="620640"/>
            <a:ext cx="367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ARRIERE DE CO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1280" y="620640"/>
            <a:ext cx="468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c2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YELLOWSTONE </a:t>
            </a: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HELL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332000" y="1052640"/>
            <a:ext cx="151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12000" y="501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C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68360" y="549360"/>
            <a:ext cx="381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BAHAMAS - LOS RO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49360"/>
            <a:ext cx="3025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CORSE - SCAN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427640" y="333360"/>
            <a:ext cx="3384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RCHIPEL - CAR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050920" y="765000"/>
            <a:ext cx="158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AL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2565360"/>
            <a:ext cx="201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Lac Lé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1280" y="2924280"/>
            <a:ext cx="792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1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476280"/>
            <a:ext cx="396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TATS UNIS - LAC P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800" y="403560"/>
            <a:ext cx="467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cdc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WHITE ISLAND - ancien cratè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907920"/>
            <a:ext cx="3816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c2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UATEMALA - PAC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260280"/>
            <a:ext cx="504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NOUVELLE CALEDONIE - NU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76720" y="2997360"/>
            <a:ext cx="205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a7e"/>
                </a:solidFill>
                <a:latin typeface="Maiandra GD"/>
              </a:rPr>
              <a:t>ARCT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549360"/>
            <a:ext cx="241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VENISE - lag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47640" y="189000"/>
            <a:ext cx="6048720" cy="6048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050920" y="6165720"/>
            <a:ext cx="50421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Une aurore boréale sur l’ARC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72000" y="6021360"/>
            <a:ext cx="403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LUMIERES DE LA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r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3048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3059280" cy="3048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3059280" y="3809880"/>
            <a:ext cx="3070080" cy="305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3059280" y="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40000" y="3213000"/>
            <a:ext cx="47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Puis le jour se lève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r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2"/>
            </a:gs>
            <a:gs pos="100000">
              <a:srgbClr val="00206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16000" y="692280"/>
            <a:ext cx="5005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DMIRABLE, notre planète bleu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843280" y="2997360"/>
            <a:ext cx="3672000" cy="3671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7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7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464000" cy="3367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4284720" cy="2317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26920" y="476280"/>
            <a:ext cx="496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Préservons-la, ne la détruisons pas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8960" y="1197000"/>
            <a:ext cx="7907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vant qu’elle ne devienne désert ou explosion de fe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805360"/>
            <a:ext cx="712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Maiandra GD"/>
              </a:rPr>
              <a:t>Laissons un bel héritage à nos enfant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ru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400"/>
                            </p:stCondLst>
                            <p:childTnLst>
                              <p:par>
                                <p:cTn id="3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20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600"/>
                            </p:stCondLst>
                            <p:childTnLst>
                              <p:par>
                                <p:cTn id="3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26920" y="54936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50920" y="5732640"/>
            <a:ext cx="8675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Mais la beauté de la terre se crée elle-même, à chaque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260280"/>
            <a:ext cx="712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La terre entière est notre ma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r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800"/>
                            </p:stCondLst>
                            <p:childTnLst>
                              <p:par>
                                <p:cTn id="3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908000" y="836640"/>
            <a:ext cx="5048280" cy="4991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 rot="21344400">
            <a:off x="7093080" y="5805360"/>
            <a:ext cx="14302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3366cc"/>
                  </a:outerShdw>
                </a:effectLst>
                <a:latin typeface="Maiandra GD"/>
              </a:rPr>
              <a:t>A.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3366cc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404640"/>
            <a:ext cx="388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RESTONS VIGI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200" y="5804280"/>
            <a:ext cx="5815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La  vie du présent tisse celle de l'aven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xit" presetID="28">
                                  <p:stCondLst>
                                    <p:cond delay="1000"/>
                                  </p:stCondLst>
                                  <p:iterate type="lt">
                                    <p:tmAbs val="21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8" dur="3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150"/>
                            </p:stCondLst>
                            <p:childTnLst>
                              <p:par>
                                <p:cTn id="392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692280"/>
            <a:ext cx="4465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CARAIBES - ÎLES PAL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08000" y="2276640"/>
            <a:ext cx="34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GYPTE - vent de 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43280" y="692280"/>
            <a:ext cx="421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AUSTRALIE - PARC KAK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2303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GROË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907920"/>
            <a:ext cx="324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QUATEUR - 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6920" y="836640"/>
            <a:ext cx="432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MAROC - SEBKHET-AR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4:01:50Z</dcterms:created>
  <dc:creator>Aline</dc:creator>
  <dc:description/>
  <dc:language>en-US</dc:language>
  <cp:lastModifiedBy>usuario</cp:lastModifiedBy>
  <dcterms:modified xsi:type="dcterms:W3CDTF">2008-01-30T21:32:05Z</dcterms:modified>
  <cp:revision>72</cp:revision>
  <dc:subject/>
  <dc:title>Diapositive 1</dc:title>
</cp:coreProperties>
</file>