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1E4-6CE6-4E7A-B01B-AC0CEF84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1D3C-B6B5-476E-87A1-595DD6B5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D11-7156-4568-9063-6A5E358F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BDA-A8FC-468E-82EE-B00BA931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F77-6831-4653-B5B8-081AB590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83F-E49D-42A1-AE61-C441635E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ED3-B7ED-4B76-AA48-42B65A8C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974-538B-482D-A3E8-CB88F382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20D-81C1-41C1-B8CA-5392317E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3D5-E4C0-4B0F-AB53-673375B5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36C-EA95-4612-8488-3864EF6D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1CB-1F88-4C73-B709-1EBA88D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3A6D-7D9A-4E61-8434-731427F30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Onedin Line Theme.wav" descr=""/>
          <p:cNvPicPr/>
          <p:nvPr/>
        </p:nvPicPr>
        <p:blipFill>
          <a:blip r:embed="rId2"/>
          <a:stretch/>
        </p:blipFill>
        <p:spPr>
          <a:xfrm>
            <a:off x="-838080" y="66135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5" descr=""/>
          <p:cNvPicPr/>
          <p:nvPr/>
        </p:nvPicPr>
        <p:blipFill>
          <a:blip r:embed="rId3"/>
          <a:stretch/>
        </p:blipFill>
        <p:spPr>
          <a:xfrm>
            <a:off x="3041640" y="5376960"/>
            <a:ext cx="5883120" cy="130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6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34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7.jpg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21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18.jpg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22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2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27.jpg"/>
          <p:cNvPicPr/>
          <p:nvPr/>
        </p:nvPicPr>
        <p:blipFill>
          <a:blip r:embed="rId1"/>
          <a:stretch/>
        </p:blipFill>
        <p:spPr>
          <a:xfrm>
            <a:off x="0" y="0"/>
            <a:ext cx="9372600" cy="6883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octop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32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35.jpg"/>
          <p:cNvPicPr/>
          <p:nvPr/>
        </p:nvPicPr>
        <p:blipFill>
          <a:blip r:embed="rId1"/>
          <a:stretch/>
        </p:blipFill>
        <p:spPr>
          <a:xfrm>
            <a:off x="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tortoise.jpg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304920" y="5867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sw-FR" sz="1800" spc="-1" strike="noStrike">
                <a:solidFill>
                  <a:srgbClr val="ffffff"/>
                </a:solidFill>
                <a:latin typeface="Monotype Corsiva"/>
              </a:rPr>
              <a:t>Imágenes: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sw-FR" sz="1800" spc="-1" strike="noStrike">
                <a:solidFill>
                  <a:srgbClr val="ffffff"/>
                </a:solidFill>
                <a:latin typeface="Monotype Corsiva"/>
              </a:rPr>
              <a:t>Music : “Onedin  Line The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7543800" y="6248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Fernan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8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21:04:51Z</dcterms:created>
  <dc:creator>Adriana Nastase</dc:creator>
  <dc:description/>
  <dc:language>en-US</dc:language>
  <cp:lastModifiedBy>Fernando</cp:lastModifiedBy>
  <dcterms:modified xsi:type="dcterms:W3CDTF">2010-01-16T15:59:13Z</dcterms:modified>
  <cp:revision>2</cp:revision>
  <dc:subject/>
  <dc:title>Slide 1</dc:title>
</cp:coreProperties>
</file>