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DA3-8DE9-46C2-9A3C-9D6630CB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142-2F83-45BB-B8DC-343ADF9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91B-76BA-4DEC-AACC-0291F8E0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786-A4DB-4F90-92CF-949779F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E39-BC1E-4E61-8A5C-87EDF3D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8FB-BEB9-4DDF-AADF-737B8E4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507-6203-41B7-BF33-611D99A6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309-E9BD-4753-9E06-D095730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43E-8A64-4251-9AE6-0CD2E45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2ED-6F06-45B2-8858-859A435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4AA-314B-4662-A8BD-7944AD2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A8D-3435-4E0A-9D4D-0587D23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27F-55F2-41F6-978D-695680EE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nedin Line Theme.wav" descr=""/>
          <p:cNvPicPr/>
          <p:nvPr/>
        </p:nvPicPr>
        <p:blipFill>
          <a:blip r:embed="rId2"/>
          <a:stretch/>
        </p:blipFill>
        <p:spPr>
          <a:xfrm>
            <a:off x="-83808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3041640" y="5376960"/>
            <a:ext cx="5883120" cy="130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34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7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2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27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octop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32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35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ortoise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92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sw-FR" sz="1800" spc="-1" strike="noStrike">
                <a:solidFill>
                  <a:srgbClr val="ffffff"/>
                </a:solidFill>
                <a:latin typeface="Monotype Corsiva"/>
              </a:rPr>
              <a:t>Imágene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sw-FR" sz="1800" spc="-1" strike="noStrike">
                <a:solidFill>
                  <a:srgbClr val="ffffff"/>
                </a:solidFill>
                <a:latin typeface="Monotype Corsiva"/>
              </a:rPr>
              <a:t>Music : “Onedin  Line The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54380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Fernan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1:04:51Z</dcterms:created>
  <dc:creator>Adriana Nastase</dc:creator>
  <dc:description/>
  <dc:language>en-US</dc:language>
  <cp:lastModifiedBy>Fernando</cp:lastModifiedBy>
  <dcterms:modified xsi:type="dcterms:W3CDTF">2010-01-16T15:59:13Z</dcterms:modified>
  <cp:revision>2</cp:revision>
  <dc:subject/>
  <dc:title>Slide 1</dc:title>
</cp:coreProperties>
</file>