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10-One%20of%20These%20Days.wav-MIX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60E-E2E4-48A4-8F5D-C9885016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813-AE7C-4D5A-894A-10296B0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D21-3FF9-473E-9FD3-C2B92685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34F-73BB-4C81-AB6F-30FA1B2E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272-6371-43B1-BA92-6520C40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5E5-3041-4BC1-B022-2321EF5B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DDC-6301-49BB-A826-75C42B9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8FA-30F1-4170-A492-843FBE7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7BD-B146-461C-BA32-46EA1DD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FD5-3B96-4B78-AE96-610B4E9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35F-A2EF-456A-BD63-4197452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956-E0FA-4CF1-9019-4E26B5D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BBD5-E407-41AA-8FDE-AF72A95D9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0-One%20of%20These%20Days.wav-MIX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ffcc"/>
                </a:solidFill>
                <a:latin typeface="Times New Roman"/>
              </a:rPr>
              <a:t>Importancia de la estrateg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91120" y="539424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sa el texto con el ra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10-One%20of%20These%20Days.wav-MIX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A las cuatro da mañana del día siguiente, una docena de agentes del FBI y de policías aparecieron y excavaron todo el jardín, sin encontrar ningún cuerpo.</a:t>
            </a: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onfuso, el anciano escribió una carta al hijo contando lo suced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Ésta fue la respuest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AHORA PUEDES PLANTAR EL JARDÍN, PAPÁ. ERA LO MÁXIMO QUE PODÍA HACER, EN ESTE MOMENTO”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cc"/>
                </a:solidFill>
                <a:latin typeface="Bookman Old Style"/>
              </a:rPr>
              <a:t>LA ESTRATEGIA LO ES TODO PARA UN BUEN GESTOR... Y PARA PROFESIONALES COMPETEN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14300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cc"/>
                </a:solidFill>
                <a:latin typeface="Bookman Old Style"/>
              </a:rPr>
              <a:t>"Tener problemas es inevitable... ser derrotado por ellos, es opcional".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¡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Piensa en esto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úsic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ffcc"/>
                </a:solidFill>
                <a:latin typeface="Garamond"/>
              </a:rPr>
              <a:t>One of these days ( Pink Floy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n hombre, ya de edad, vivía solo en Minnesota, USA.                           Quería dar vuelta a la tierra del jardín para plantar flores, pero era un trabajo pesado para su e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Su único hijo, que normalmente le ayudaba en este trabajo, estaba en la cárc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El anciano escribió la siguiente carta al hijo, contando su dificult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"Querido hijo, estoy triste porque este año no podré plantar el jardín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Odio no poder hacerlo, porque tu madre adoraba las flores, y éste es el momento propio para el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oy demasiado viejo para cavar la tierra. Si estuvieras aquí, no habría problema, pero sé que no me puedes ayudar estando preso, como estás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Con amor, tu padre.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Poco después el padre recibió el siguiente telegram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POR AMOR DE DIOS, PAPÁ, NO CAVES EL JARDÍ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FUE AHÍ DONDE ENTERRÉ LOS CADÁVERES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3:54:17Z</dcterms:created>
  <dc:creator>Nilsinho</dc:creator>
  <dc:description/>
  <dc:language>en-US</dc:language>
  <cp:lastModifiedBy>a</cp:lastModifiedBy>
  <dcterms:modified xsi:type="dcterms:W3CDTF">2008-01-15T18:20:34Z</dcterms:modified>
  <cp:revision>5</cp:revision>
  <dc:subject/>
  <dc:title>Estratégia é tudo</dc:title>
</cp:coreProperties>
</file>