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10-One%20of%20These%20Days.wav-MIX.wav" ContentType="audio/x-wav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697-D924-4382-A4ED-3920F0BD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AC5-08C2-4430-907F-23CAD9D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F5F-C599-49D3-ACC5-32E5A15C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C64-7994-4186-9302-48894BEE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77F-6CBA-4A7D-9919-D6226199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FCF-308B-4720-9EE4-71A73E7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1A2-B0FD-4F0E-A2B8-87F43E92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49F-2133-4020-B9D2-7A2E05F9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4BB-5999-488D-BD98-F9C47F4D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FAD-6712-4933-8736-DB019849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A00-235C-4FCA-87FC-E7C8910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D8D-3BF8-4EC3-8ADE-72E010C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7C0F-6B8F-4F68-BAC8-68DCBD9AE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0-One%20of%20These%20Days.wav-MIX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>
                <a:solidFill>
                  <a:srgbClr val="ffffcc"/>
                </a:solidFill>
                <a:latin typeface="Times New Roman"/>
              </a:rPr>
              <a:t>Importancia de la estrateg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91120" y="539424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sa el texto con el ra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10-One%20of%20These%20Days.wav-MIX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A las cuatro da mañana del día siguiente, una docena de agentes del FBI y de policías aparecieron y excavaron todo el jardín, sin encontrar ningún cuerpo.</a:t>
            </a: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onfuso, el anciano escribió una carta al hijo contando lo suced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Ésta fue la respuest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AHORA PUEDES PLANTAR EL JARDÍN, PAPÁ. ERA LO MÁXIMO QUE PODÍA HACER, EN ESTE MOMENTO”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cc"/>
                </a:solidFill>
                <a:latin typeface="Bookman Old Style"/>
              </a:rPr>
              <a:t>LA ESTRATEGIA LO ES TODO PARA UN BUEN GESTOR... Y PARA PROFESIONALES COMPETEN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14300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ffcc"/>
                </a:solidFill>
                <a:latin typeface="Bookman Old Style"/>
              </a:rPr>
              <a:t>"Tener problemas es inevitable... ser derrotado por ellos, es opcional".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¡</a:t>
            </a:r>
            <a:r>
              <a:rPr b="1" i="1" lang="es-ES" sz="6600" spc="-1" strike="noStrike">
                <a:solidFill>
                  <a:srgbClr val="ffffff"/>
                </a:solidFill>
                <a:latin typeface="Times New Roman"/>
              </a:rPr>
              <a:t>Piensa en esto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úsic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ffcc"/>
                </a:solidFill>
                <a:latin typeface="Garamond"/>
              </a:rPr>
              <a:t>One of these days ( Pink Floy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n hombre, ya de edad, vivía solo en Minnesota, USA.                           Quería dar vuelta a la tierra del jardín para plantar flores, pero era un trabajo pesado para su e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Su único hijo, que normalmente le ayudaba en este trabajo, estaba en la cárc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El anciano escribió la siguiente carta al hijo, contando su dificult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"Querido hijo, estoy triste porque este año no podré plantar el jardín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Odio no poder hacerlo, porque tu madre adoraba las flores, y éste es el momento propio para el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oy demasiado viejo para cavar la tierra. Si estuvieras aquí, no habría problema, pero sé que no me puedes ayudar estando preso, como estás.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Con amor, tu padre.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Poco después el padre recibió el siguiente telegram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POR AMOR DE DIOS, PAPÁ, NO CAVES EL JARDÍ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s-ES" sz="4400" spc="-1" strike="noStrike">
                <a:solidFill>
                  <a:srgbClr val="ccccff"/>
                </a:solidFill>
                <a:latin typeface="Times New Roman"/>
              </a:rPr>
              <a:t>FUE AHÍ DONDE ENTERRÉ LOS CADÁVERES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3:54:17Z</dcterms:created>
  <dc:creator>Nilsinho</dc:creator>
  <dc:description/>
  <dc:language>en-US</dc:language>
  <cp:lastModifiedBy>a</cp:lastModifiedBy>
  <dcterms:modified xsi:type="dcterms:W3CDTF">2008-01-15T18:20:34Z</dcterms:modified>
  <cp:revision>5</cp:revision>
  <dc:subject/>
  <dc:title>Estratégia é tudo</dc:title>
</cp:coreProperties>
</file>