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l%20est%20n%C3%AA%20le%20divin%20Enfant%20100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5D4D-0803-43E4-A079-5F24D141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1396-0C32-4279-8FFA-ACB3B36C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B441-EA1D-4F66-82E0-2CB58C1E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3F4-3769-46E2-85AD-A89B0D98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4BC-D715-49A3-874D-382DBF27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83DC-6F9D-4152-94B5-8EB44CAE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85E-2CDC-498E-87B0-69EC0D31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CD3-F1D6-4B06-B3CF-C99FE772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0EE-5395-4A78-A55D-ED97DAFF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A57-6149-4E10-9209-4774B17C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37F-74B9-4DF4-B58F-4E240B92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FD9-AD94-4EA3-9993-93295969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41E8-7D68-4C15-9660-1CB100CAE32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l%20est%20n&#234;%20le%20divin%20Enfant%20100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lor%20PASCU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solidFill>
            <a:srgbClr val="00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Si quieres, tú también puedes celebrar la Navidad siendo como eres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 siendo quien eres y no otro ni mejor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pues el Infinito de Dios está eternamente encarnado en tu estrecha finitud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Tú también eres de alguna forma Todo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También en ti quiere y puede encarnarse Dios como en el vientre de María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Dios quiere tener quien ame, quien se ame, quien le ame, quien le encarne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Cree en ti, quiérete y ama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Celebra la Nav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Monotype Corsiva"/>
              </a:rPr>
              <a:t>José Arre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19920"/>
            <a:ext cx="5562720" cy="8240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Juan 1, 1-18 - Natividad de Jesús. 25 diciembre 200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Autora: Asun Gutiérre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Música: Il est nê le divin Enfa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Il%20est%20n%C3%AA%20le%20divin%20Enfant%20100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ondo%20biblia%20LETR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52480" y="152280"/>
            <a:ext cx="5639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660033"/>
                </a:solidFill>
                <a:latin typeface="Georgia"/>
              </a:rPr>
              <a:t>1</a:t>
            </a:r>
            <a:r>
              <a:rPr b="0" lang="en-US" sz="1800" spc="-1" strike="noStrike">
                <a:solidFill>
                  <a:srgbClr val="660033"/>
                </a:solidFill>
                <a:latin typeface="Georgia"/>
              </a:rPr>
              <a:t>Al principio ya existía la Palabra.</a:t>
            </a:r>
            <a:br>
              <a:rPr sz="1800"/>
            </a:br>
            <a:r>
              <a:rPr b="0" lang="en-US" sz="1800" spc="-1" strike="noStrike">
                <a:solidFill>
                  <a:srgbClr val="660033"/>
                </a:solidFill>
                <a:latin typeface="Georgia"/>
              </a:rPr>
              <a:t>La Palabra estaba junto a Dios,</a:t>
            </a:r>
            <a:br>
              <a:rPr sz="1800"/>
            </a:br>
            <a:r>
              <a:rPr b="0" lang="en-US" sz="1800" spc="-1" strike="noStrike">
                <a:solidFill>
                  <a:srgbClr val="660033"/>
                </a:solidFill>
                <a:latin typeface="Georgia"/>
              </a:rPr>
              <a:t>y la Palabra era Dios.</a:t>
            </a:r>
            <a:br>
              <a:rPr sz="1800"/>
            </a:br>
            <a:r>
              <a:rPr b="0" lang="en-US" sz="1800" spc="-1" strike="noStrike" baseline="30000">
                <a:solidFill>
                  <a:srgbClr val="660033"/>
                </a:solidFill>
                <a:latin typeface="Georgia"/>
              </a:rPr>
              <a:t>2</a:t>
            </a:r>
            <a:r>
              <a:rPr b="0" lang="en-US" sz="1800" spc="-1" strike="noStrike">
                <a:solidFill>
                  <a:srgbClr val="660033"/>
                </a:solidFill>
                <a:latin typeface="Georgia"/>
              </a:rPr>
              <a:t> Ya al principio ella estaba junto a Dios.</a:t>
            </a:r>
            <a:br>
              <a:rPr sz="1800"/>
            </a:br>
            <a:r>
              <a:rPr b="0" lang="en-US" sz="1800" spc="-1" strike="noStrike" baseline="30000">
                <a:solidFill>
                  <a:srgbClr val="660033"/>
                </a:solidFill>
                <a:latin typeface="Georgia"/>
              </a:rPr>
              <a:t>3</a:t>
            </a:r>
            <a:r>
              <a:rPr b="0" lang="en-US" sz="1800" spc="-1" strike="noStrike">
                <a:solidFill>
                  <a:srgbClr val="660033"/>
                </a:solidFill>
                <a:latin typeface="Georgia"/>
              </a:rPr>
              <a:t> Todo fue hecho por ella</a:t>
            </a:r>
            <a:br>
              <a:rPr sz="1800"/>
            </a:br>
            <a:r>
              <a:rPr b="0" lang="en-US" sz="1800" spc="-1" strike="noStrike">
                <a:solidFill>
                  <a:srgbClr val="660033"/>
                </a:solidFill>
                <a:latin typeface="Georgia"/>
              </a:rPr>
              <a:t>y sin ella no se hizo nada</a:t>
            </a:r>
            <a:br>
              <a:rPr sz="1800"/>
            </a:br>
            <a:r>
              <a:rPr b="0" lang="en-US" sz="1800" spc="-1" strike="noStrike">
                <a:solidFill>
                  <a:srgbClr val="660033"/>
                </a:solidFill>
                <a:latin typeface="Georgia"/>
              </a:rPr>
              <a:t>de cuanto llegó a existi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0532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El Dios que se muestra al mundo en Jesús es Palabra, es comunicación, don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as palabras son importantes como puentes de comunicación y relación entre las personas.  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Tod@s tenemos necesidad de escuchar palabras de acogida, de aceptación, 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 ánimo, de estímulo, de cariño.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Tod@s podemos ofrecer una palabra que refleje la compañía cercana y afectuosa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a quien camina a nuestro l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Tenemos la Palabra repetida a lo largo de la historia para que cada persona pueda entenderla en su tiempo, en su situación, en las circunstancias de su vida. </a:t>
            </a:r>
            <a:br>
              <a:rPr sz="1800"/>
            </a:b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¿Qué personas tienen una palabra que decirme? ¿Qué palabras tengo para decir a l@s demá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OL%20centr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20920" y="228600"/>
            <a:ext cx="450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En ella estaba la vid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y la vida era la luz de los hombres;</a:t>
            </a:r>
            <a:br>
              <a:rPr sz="2000"/>
            </a:b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la luz resplandece en las tinieblas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y las tinieblas no la sofocar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55627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El Dios que se revela en la Palabra es LUZ y VIDA.</a:t>
            </a: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Todo lo que signifique iluminar, dar vida, es propio de los seguidores y seguidoras de Jesús.</a:t>
            </a: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Que con su Luz iluminemos otras vidas, entusiasmemos otras historias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ILUETA%20LU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15228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00"/>
                </a:solidFill>
                <a:latin typeface="Georgia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 Vino un hombre, enviado por Dios, que se llamaba Juan. </a:t>
            </a:r>
            <a:r>
              <a:rPr b="0" lang="en-US" sz="1800" spc="-1" strike="noStrike" baseline="30000">
                <a:solidFill>
                  <a:srgbClr val="ffff00"/>
                </a:solidFill>
                <a:latin typeface="Georgia"/>
              </a:rPr>
              <a:t>7</a:t>
            </a: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 Éste vino como testigo, para dar testimonio de la luz, a fin de que todos creyeran por él. </a:t>
            </a:r>
            <a:br>
              <a:rPr sz="1800"/>
            </a:br>
            <a:r>
              <a:rPr b="0" lang="en-US" sz="1800" spc="-1" strike="noStrike" baseline="30000">
                <a:solidFill>
                  <a:srgbClr val="ffff00"/>
                </a:solidFill>
                <a:latin typeface="Georgia"/>
              </a:rPr>
              <a:t>8</a:t>
            </a: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 No era él la luz, sino testigo de la luz.</a:t>
            </a:r>
            <a:br>
              <a:rPr sz="1800"/>
            </a:br>
            <a:r>
              <a:rPr b="0" lang="en-US" sz="1800" spc="-1" strike="noStrike" baseline="30000">
                <a:solidFill>
                  <a:srgbClr val="ffff00"/>
                </a:solidFill>
                <a:latin typeface="Georgia"/>
              </a:rPr>
              <a:t>9</a:t>
            </a: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 La Palabra era la luz verdadera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que con su venida al mund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ilumina a todo hombre.</a:t>
            </a:r>
            <a:br>
              <a:rPr sz="1800"/>
            </a:br>
            <a:r>
              <a:rPr b="0" lang="en-US" sz="1800" spc="-1" strike="noStrike" baseline="30000">
                <a:solidFill>
                  <a:srgbClr val="ffff00"/>
                </a:solidFill>
                <a:latin typeface="Georgia"/>
              </a:rPr>
              <a:t>10</a:t>
            </a: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 Estaba en el mundo, pero el mundo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Georgia"/>
              </a:rPr>
              <a:t>aunque fue hecho por ella, no la reconoció.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5715000"/>
            <a:ext cx="8763120" cy="106740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se puede ser testigo de lo que no se ha experimentad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 testigo recibe y acoge la claridad necesaria para ayudar a l@s demás a iluminar el camino que conduce a Jesús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 luz de Jesús ilumina nuestra vida, ella es más fuerte que todas las sombr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0"/>
            <a:ext cx="4800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cc"/>
                </a:solidFill>
                <a:latin typeface="Georgia"/>
              </a:rPr>
              <a:t>11</a:t>
            </a:r>
            <a:r>
              <a:rPr b="0" lang="en-US" sz="1800" spc="-1" strike="noStrike">
                <a:solidFill>
                  <a:srgbClr val="3333cc"/>
                </a:solidFill>
                <a:latin typeface="Georgia"/>
              </a:rPr>
              <a:t> Vino a los suyos, pero los suyos 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Georgia"/>
              </a:rPr>
              <a:t>no la recibieron.</a:t>
            </a:r>
            <a:br>
              <a:rPr sz="1800"/>
            </a:br>
            <a:r>
              <a:rPr b="0" lang="en-US" sz="1800" spc="-1" strike="noStrike" baseline="30000">
                <a:solidFill>
                  <a:srgbClr val="3333cc"/>
                </a:solidFill>
                <a:latin typeface="Georgia"/>
              </a:rPr>
              <a:t>12</a:t>
            </a:r>
            <a:r>
              <a:rPr b="0" lang="en-US" sz="1800" spc="-1" strike="noStrike">
                <a:solidFill>
                  <a:srgbClr val="3333cc"/>
                </a:solidFill>
                <a:latin typeface="Georgia"/>
              </a:rPr>
              <a:t> A cuantos la recibieron,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Georgia"/>
              </a:rPr>
              <a:t>a todos aquellos que creen 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Georgia"/>
              </a:rPr>
              <a:t>en su nombre, les dio poder para ser 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Georgia"/>
              </a:rPr>
              <a:t>hijos de Dios.</a:t>
            </a:r>
            <a:br>
              <a:rPr sz="1800"/>
            </a:br>
            <a:r>
              <a:rPr b="0" lang="en-US" sz="1800" spc="-1" strike="noStrike" baseline="30000">
                <a:solidFill>
                  <a:srgbClr val="3333cc"/>
                </a:solidFill>
                <a:latin typeface="Georgia"/>
              </a:rPr>
              <a:t>13</a:t>
            </a:r>
            <a:r>
              <a:rPr b="0" lang="en-US" sz="1800" spc="-1" strike="noStrike">
                <a:solidFill>
                  <a:srgbClr val="3333cc"/>
                </a:solidFill>
                <a:latin typeface="Georgia"/>
              </a:rPr>
              <a:t> Estos son los que no nacen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Georgia"/>
              </a:rPr>
              <a:t>por vía de generación humana,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Georgia"/>
              </a:rPr>
              <a:t>ni porque el hombre lo desee,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Georgia"/>
              </a:rPr>
              <a:t>sino que nacen de D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733920"/>
            <a:ext cx="44956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Celebrar la Navidad es hacer sitio al amor 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de Dios en nuestr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programa de vida. 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Dios nos capacita para ser sus hij@s,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 para anhelar la felicidad, 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para soñar con la fraternidad, 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para construir un mundo más humano. </a:t>
            </a:r>
            <a:br>
              <a:rPr sz="1600"/>
            </a:b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El plan de Dios es hacernos sus hij@s, llevarnos a la plenitu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Nace Dios, para que la vida sea diferente, porque la Vida es diferente.</a:t>
            </a: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43560" y="304920"/>
            <a:ext cx="4600440" cy="6264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ENDA%20en%20el%20desier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0"/>
            <a:ext cx="8381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Y la Palabra se hizo car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 acampó entre nosotro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 hemos visto su gloria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a gloria propia del Hijo único del Padr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leno de gracia y de verdad.</a:t>
            </a:r>
            <a:br>
              <a:rPr sz="2000"/>
            </a:b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Juan dio testimonio de él, proclamando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–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Éste es aquel de quien yo dij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«El que viene detrás de mí es superior a mí, porqu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existía antes que yo»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En efecto, de su plenitud todos hemos recibido gracia sobre gracia.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17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Porque la ley fue dada por medio de Moisés, pero la gracia y la verdad vinieron por Cristo Jesú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800600"/>
            <a:ext cx="8839080" cy="20142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campar” es distinto que instalarse, residir, asentarse. Quien acampa no ejerce derechos de propiedad, ni se protege con puertas blindadas. Una tienda es algo frágil, se instala casi sin herir la tierra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lguien ha venido a vivir así entre nosotr@s, no va a imponer nad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e oímos decir: “si quieres”, “estoy a la puerta y llamo”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o gritará ni se impondrá, pero nos hará decir con asombro y agradecimiento:           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“Sólo Tú tienes palabras de vida eterna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.%20niños.Heyman%2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18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A Dios nadie lo vio jamás; el Hijo único, que es Dios y que está en el seno del Padre, nos lo ha dado a conocer.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4876920"/>
            <a:ext cx="8839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A Dios lo conocemos viendo a Jesús.</a:t>
            </a: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Sabemos que Dios es médico, porque Jesús se dedica a curar. </a:t>
            </a: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Que es compasivo, porque vemos a Jesús emocionarse. Vemos qué clase de Juez es Dios, viendo cómo Jesús se juega la vida por poder perdonar.</a:t>
            </a: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Para saber cómo es Dios sólo hay que mirar a Jesús.</a:t>
            </a:r>
            <a:br>
              <a:rPr sz="1800"/>
            </a:br>
            <a:r>
              <a:rPr b="0" i="1" lang="en-US" sz="1800" spc="-1" strike="noStrike">
                <a:solidFill>
                  <a:srgbClr val="ffff66"/>
                </a:solidFill>
                <a:latin typeface="Comic Sans MS"/>
              </a:rPr>
              <a:t>“No os pido más que le miréis”.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ffff66"/>
                </a:solidFill>
                <a:latin typeface="Monotype Corsiva"/>
              </a:rPr>
              <a:t>(Santa Teres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ICA%20mirar%20ARRIB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1066680"/>
            <a:ext cx="876312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Comic Sans MS"/>
              </a:rPr>
              <a:t>Quedarse mirando al Niño.</a:t>
            </a:r>
            <a:br>
              <a:rPr sz="2400"/>
            </a:br>
            <a:r>
              <a:rPr b="0" lang="es-ES_tradnl" sz="2400" spc="-1" strike="noStrike">
                <a:solidFill>
                  <a:srgbClr val="ccecff"/>
                </a:solidFill>
                <a:latin typeface="Comic Sans MS"/>
              </a:rPr>
              <a:t>Verlo crecer, jugar, perderse en el Templo. </a:t>
            </a:r>
            <a:br>
              <a:rPr sz="2400"/>
            </a:br>
            <a:r>
              <a:rPr b="0" lang="es-ES_tradnl" sz="2400" spc="-1" strike="noStrike">
                <a:solidFill>
                  <a:srgbClr val="ccecff"/>
                </a:solidFill>
                <a:latin typeface="Comic Sans MS"/>
              </a:rPr>
              <a:t>Verlo empezar a predicar, ser rechazado en Nazaret, curar, enseñar, ser perseguido, morir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Comic Sans MS"/>
              </a:rPr>
              <a:t>Pasar la película de su vida...</a:t>
            </a:r>
            <a:br>
              <a:rPr sz="2400"/>
            </a:br>
            <a:r>
              <a:rPr b="0" lang="es-ES_tradnl" sz="2400" spc="-1" strike="noStrike">
                <a:solidFill>
                  <a:srgbClr val="ccecff"/>
                </a:solidFill>
                <a:latin typeface="Comic Sans MS"/>
              </a:rPr>
              <a:t>Sentir la enorme alegría de conocer a Jesús. </a:t>
            </a:r>
            <a:br>
              <a:rPr sz="2400"/>
            </a:br>
            <a:r>
              <a:rPr b="0" lang="es-ES_tradnl" sz="2400" spc="-1" strike="noStrike">
                <a:solidFill>
                  <a:srgbClr val="ccecff"/>
                </a:solidFill>
                <a:latin typeface="Comic Sans MS"/>
              </a:rPr>
              <a:t>Esto es lo mejor que nos ha pasado en la vida. </a:t>
            </a:r>
            <a:br>
              <a:rPr sz="2400"/>
            </a:br>
            <a:r>
              <a:rPr b="0" lang="es-ES_tradnl" sz="2400" spc="-1" strike="noStrike">
                <a:solidFill>
                  <a:srgbClr val="ccecff"/>
                </a:solidFill>
                <a:latin typeface="Comic Sans MS"/>
              </a:rPr>
              <a:t>Dar gracias, mirando el Niño, llorando de alegría </a:t>
            </a:r>
            <a:br>
              <a:rPr sz="2400"/>
            </a:br>
            <a:r>
              <a:rPr b="0" lang="es-ES_tradnl" sz="2400" spc="-1" strike="noStrike">
                <a:solidFill>
                  <a:srgbClr val="ccecff"/>
                </a:solidFill>
                <a:latin typeface="Comic Sans MS"/>
              </a:rPr>
              <a:t>ante este Regalo inimagi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ecff"/>
                </a:solidFill>
                <a:latin typeface="Comic Sans MS"/>
              </a:rPr>
              <a:t>Quedarse mirando. Que trabajen los ojos, la imaginación, los sentimientos. Sentir gratitud, sentir seguridad, </a:t>
            </a:r>
            <a:r>
              <a:rPr b="1" lang="es-ES_tradnl" sz="2400" spc="-1" strike="noStrike">
                <a:solidFill>
                  <a:srgbClr val="ccecff"/>
                </a:solidFill>
                <a:latin typeface="Comic Sans MS"/>
              </a:rPr>
              <a:t>sentir</a:t>
            </a:r>
            <a:r>
              <a:rPr b="0" lang="es-ES_tradnl" sz="2400" spc="-1" strike="noStrike">
                <a:solidFill>
                  <a:srgbClr val="ccecff"/>
                </a:solidFill>
                <a:latin typeface="Comic Sans MS"/>
              </a:rPr>
              <a:t>, que ya pensamos demasiado. </a:t>
            </a:r>
            <a:br>
              <a:rPr sz="2400"/>
            </a:br>
            <a:r>
              <a:rPr b="0" lang="es-ES_tradnl" sz="2400" spc="-1" strike="noStrike">
                <a:solidFill>
                  <a:srgbClr val="ccecff"/>
                </a:solidFill>
                <a:latin typeface="Comic Sans MS"/>
              </a:rPr>
              <a:t>Dejarse invadir por la seguridad de que hay un Dios Libertador.            </a:t>
            </a:r>
            <a:r>
              <a:rPr b="0" i="1" lang="es-ES_tradnl" sz="1800" spc="-1" strike="noStrike">
                <a:solidFill>
                  <a:srgbClr val="ccecff"/>
                </a:solidFill>
                <a:latin typeface="Monotype Corsiva"/>
              </a:rPr>
              <a:t>José Enrique Ruiz de Galarre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81080" y="380880"/>
            <a:ext cx="2762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ecf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NTEMPLAR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0:53:50Z</dcterms:created>
  <dc:creator> Asun Gutiérrez</dc:creator>
  <dc:description/>
  <dc:language>en-US</dc:language>
  <cp:lastModifiedBy>Usuario</cp:lastModifiedBy>
  <dcterms:modified xsi:type="dcterms:W3CDTF">2009-12-21T14:23:38Z</dcterms:modified>
  <cp:revision>8</cp:revision>
  <dc:subject>jeasam@gmail.com</dc:subject>
  <dc:title>Natividad de Jesús 25 diciembre 2009</dc:title>
</cp:coreProperties>
</file>