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l%20est%20n%C3%AA%20le%20divin%20Enfant%20100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B02-90BD-479F-98C6-FFB1C593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0B4-398F-421F-B99E-71081F3C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937-63C7-48DF-84F6-6FAE8263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D15-9853-45BD-8E92-59702F2D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584-A2CE-4094-92CE-08C7E31A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24E-8E70-4760-8D7A-AA441BD6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361-DD02-40C9-ABFB-4C768B8D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77A-EC2A-4EDC-851F-ED53E708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543-8EA5-415D-8B6C-3588FFD1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94B-C474-4891-A351-68ECD135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819-8344-4616-88EB-C6887C40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5F5-9680-41CD-B7C2-7328E9F8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E08A-6EBA-44BE-A7B0-81EFC81D43E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l%20est%20n&#234;%20le%20divin%20Enfant%20100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lor%20PASCU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solidFill>
            <a:srgbClr val="00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Si quieres, tú también puedes celebrar la Navidad siendo como ere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 siendo quien eres y no otro ni mejor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ues el Infinito de Dios está eternamente encarnado en tu estrecha finitud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Tú también eres de alguna forma Todo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También en ti quiere y puede encarnarse Dios como en el vientre de María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Dios quiere tener quien ame, quien se ame, quien le ame, quien le encarne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ree en ti, quiérete y ama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elebra la Na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Monotype Corsiva"/>
              </a:rPr>
              <a:t>José Arr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19920"/>
            <a:ext cx="5562720" cy="8240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Juan 1, 1-18 - Natividad de Jesús. 25 diciembre 200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Autora: Asun Gutiér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Música: Il est nê le divin Enfa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Il%20est%20n%C3%AA%20le%20divin%20Enfant%20100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ondo%20biblia%20LETR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152280"/>
            <a:ext cx="5639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660033"/>
                </a:solidFill>
                <a:latin typeface="Georgia"/>
              </a:rPr>
              <a:t>1</a:t>
            </a: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Al principio ya existía la Palabra.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La Palabra estaba junto a Dios,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y la Palabra era Dios.</a:t>
            </a:r>
            <a:br>
              <a:rPr sz="1800"/>
            </a:br>
            <a:r>
              <a:rPr b="0" lang="en-US" sz="1800" spc="-1" strike="noStrike" baseline="30000">
                <a:solidFill>
                  <a:srgbClr val="660033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 Ya al principio ella estaba junto a Dios.</a:t>
            </a:r>
            <a:br>
              <a:rPr sz="1800"/>
            </a:br>
            <a:r>
              <a:rPr b="0" lang="en-US" sz="1800" spc="-1" strike="noStrike" baseline="30000">
                <a:solidFill>
                  <a:srgbClr val="660033"/>
                </a:solidFill>
                <a:latin typeface="Georgia"/>
              </a:rPr>
              <a:t>3</a:t>
            </a: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 Todo fue hecho por ella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y sin ella no se hizo nada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de cuanto llegó a existi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0532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l Dios que se muestra al mundo en Jesús es Palabra, es comunicación, don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as palabras son importantes como puentes de comunicación y relación entre las personas.  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Tod@s tenemos necesidad de escuchar palabras de acogida, de aceptación, 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 ánimo, de estímulo, de cariño.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Tod@s podemos ofrecer una palabra que refleje la compañía cercana y afectuosa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 quien camina a nuestro l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Tenemos la Palabra repetida a lo largo de la historia para que cada persona pueda entenderla en su tiempo, en su situación, en las circunstancias de su vida. </a:t>
            </a:r>
            <a:br>
              <a:rPr sz="1800"/>
            </a:b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¿Qué personas tienen una palabra que decirme? ¿Qué palabras tengo para decir a l@s demá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OL%20cent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20920" y="228600"/>
            <a:ext cx="450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En ella estaba la vid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 la vida era la luz de los hombres;</a:t>
            </a:r>
            <a:br>
              <a:rPr sz="2000"/>
            </a:b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la luz resplandece en las tinieblas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 las tinieblas no la sofocar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5627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El Dios que se revela en la Palabra es LUZ y VIDA.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odo lo que signifique iluminar, dar vida, es propio de los seguidores y seguidoras de Jesús.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Que con su Luz iluminemos otras vidas, entusiasmemos otras historias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LUETA%20LU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1522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00"/>
                </a:solidFill>
                <a:latin typeface="Georgia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 Vino un hombre, enviado por Dios, que se llamaba Juan. </a:t>
            </a:r>
            <a:r>
              <a:rPr b="0" lang="en-US" sz="1800" spc="-1" strike="noStrike" baseline="30000">
                <a:solidFill>
                  <a:srgbClr val="ffff00"/>
                </a:solidFill>
                <a:latin typeface="Georgia"/>
              </a:rPr>
              <a:t>7</a:t>
            </a: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 Éste vino como testigo, para dar testimonio de la luz, a fin de que todos creyeran por él. </a:t>
            </a:r>
            <a:br>
              <a:rPr sz="1800"/>
            </a:br>
            <a:r>
              <a:rPr b="0" lang="en-US" sz="1800" spc="-1" strike="noStrike" baseline="30000">
                <a:solidFill>
                  <a:srgbClr val="ffff00"/>
                </a:solidFill>
                <a:latin typeface="Georgia"/>
              </a:rPr>
              <a:t>8</a:t>
            </a: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 No era él la luz, sino testigo de la luz.</a:t>
            </a:r>
            <a:br>
              <a:rPr sz="1800"/>
            </a:br>
            <a:r>
              <a:rPr b="0" lang="en-US" sz="1800" spc="-1" strike="noStrike" baseline="30000">
                <a:solidFill>
                  <a:srgbClr val="ffff00"/>
                </a:solidFill>
                <a:latin typeface="Georgia"/>
              </a:rPr>
              <a:t>9</a:t>
            </a: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 La Palabra era la luz verdadera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que con su venida al mund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ilumina a todo hombre.</a:t>
            </a:r>
            <a:br>
              <a:rPr sz="1800"/>
            </a:br>
            <a:r>
              <a:rPr b="0" lang="en-US" sz="1800" spc="-1" strike="noStrike" baseline="30000">
                <a:solidFill>
                  <a:srgbClr val="ffff00"/>
                </a:solidFill>
                <a:latin typeface="Georgia"/>
              </a:rPr>
              <a:t>10</a:t>
            </a: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 Estaba en el mundo, pero el mundo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aunque fue hecho por ella, no la reconoció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715000"/>
            <a:ext cx="8763120" cy="106740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se puede ser testigo de lo que no se ha experimentad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 testigo recibe y acoge la claridad necesaria para ayudar a l@s demás a iluminar el camino que conduce a Jesús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luz de Jesús ilumina nuestra vida, ella es más fuerte que todas las somb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0"/>
            <a:ext cx="480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Georgia"/>
              </a:rPr>
              <a:t>11</a:t>
            </a: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 Vino a los suyos, pero los suyos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no la recibieron.</a:t>
            </a:r>
            <a:br>
              <a:rPr sz="1800"/>
            </a:br>
            <a:r>
              <a:rPr b="0" lang="en-US" sz="1800" spc="-1" strike="noStrike" baseline="30000">
                <a:solidFill>
                  <a:srgbClr val="3333cc"/>
                </a:solidFill>
                <a:latin typeface="Georgia"/>
              </a:rPr>
              <a:t>12</a:t>
            </a: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 A cuantos la recibieron,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a todos aquellos que creen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en su nombre, les dio poder para ser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hijos de Dios.</a:t>
            </a:r>
            <a:br>
              <a:rPr sz="1800"/>
            </a:br>
            <a:r>
              <a:rPr b="0" lang="en-US" sz="1800" spc="-1" strike="noStrike" baseline="30000">
                <a:solidFill>
                  <a:srgbClr val="3333cc"/>
                </a:solidFill>
                <a:latin typeface="Georgia"/>
              </a:rPr>
              <a:t>13</a:t>
            </a: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 Estos son los que no nace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por vía de generación humana,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ni porque el hombre lo desee,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sino que nacen de D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33920"/>
            <a:ext cx="4495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Celebrar la Navidad es hacer sitio al amor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de Dios en nuestr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programa de vida.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Dios nos capacita para ser sus hij@s,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 para anhelar la felicidad,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para soñar con la fraternidad,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para construir un mundo más humano.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El plan de Dios es hacernos sus hij@s, llevarnos a la plenitu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Nace Dios, para que la vida sea diferente, porque la Vida es diferente.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43560" y="304920"/>
            <a:ext cx="4600440" cy="626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ENDA%20en%20el%20desier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0"/>
            <a:ext cx="8381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Y la Palabra se hizo car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 acampó entre nosotro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 hemos visto su gloria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 gloria propia del Hijo único del Padr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leno de gracia y de verdad.</a:t>
            </a:r>
            <a:br>
              <a:rPr sz="2000"/>
            </a:b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Juan dio testimonio de él, proclamando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Éste es aquel de quien yo dij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«El que viene detrás de mí es superior a mí, porqu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xistía antes que yo»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En efecto, de su plenitud todos hemos recibido gracia sobre gracia.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Porque la ley fue dada por medio de Moisés, pero la gracia y la verdad vinieron por Cristo Jesú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800600"/>
            <a:ext cx="8839080" cy="20142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campar” es distinto que instalarse, residir, asentarse. Quien acampa no ejerce derechos de propiedad, ni se protege con puertas blindadas. Una tienda es algo frágil, se instala casi sin herir la tierr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lguien ha venido a vivir así entre nosotr@s, no va a imponer nad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e oímos decir: “si quieres”, “estoy a la puerta y llamo”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gritará ni se impondrá, pero nos hará decir con asombro y agradecimiento:           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“Sólo Tú tienes palabras de vida eterna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.%20niños.Heyman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18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A Dios nadie lo vio jamás; el Hijo único, que es Dios y que está en el seno del Padre, nos lo ha dado a conocer.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876920"/>
            <a:ext cx="8839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A Dios lo conocemos viendo a Jesús.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Sabemos que Dios es médico, porque Jesús se dedica a curar. 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Que es compasivo, porque vemos a Jesús emocionarse. Vemos qué clase de Juez es Dios, viendo cómo Jesús se juega la vida por poder perdonar.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Para saber cómo es Dios sólo hay que mirar a Jesús.</a:t>
            </a:r>
            <a:br>
              <a:rPr sz="1800"/>
            </a:br>
            <a:r>
              <a:rPr b="0" i="1" lang="en-US" sz="1800" spc="-1" strike="noStrike">
                <a:solidFill>
                  <a:srgbClr val="ffff66"/>
                </a:solidFill>
                <a:latin typeface="Comic Sans MS"/>
              </a:rPr>
              <a:t>“No os pido más que le miréis”.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66"/>
                </a:solidFill>
                <a:latin typeface="Monotype Corsiva"/>
              </a:rPr>
              <a:t>(Santa Teres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ICA%20mirar%20ARRIB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1066680"/>
            <a:ext cx="876312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Comic Sans MS"/>
              </a:rPr>
              <a:t>Quedarse mirando al Niño.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Verlo crecer, jugar, perderse en el Templo. 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Verlo empezar a predicar, ser rechazado en Nazaret, curar, enseñar, ser perseguido, morir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Pasar la película de su vida...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Sentir la enorme alegría de conocer a Jesús. 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Esto es lo mejor que nos ha pasado en la vida. 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Dar gracias, mirando el Niño, llorando de alegría 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ante este Regalo inimagi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Quedarse mirando. Que trabajen los ojos, la imaginación, los sentimientos. Sentir gratitud, sentir seguridad, </a:t>
            </a:r>
            <a:r>
              <a:rPr b="1" lang="es-ES_tradnl" sz="2400" spc="-1" strike="noStrike">
                <a:solidFill>
                  <a:srgbClr val="ccecff"/>
                </a:solidFill>
                <a:latin typeface="Comic Sans MS"/>
              </a:rPr>
              <a:t>sentir</a:t>
            </a: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, que ya pensamos demasiado. 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Dejarse invadir por la seguridad de que hay un Dios Libertador.            </a:t>
            </a:r>
            <a:r>
              <a:rPr b="0" i="1" lang="es-ES_tradnl" sz="1800" spc="-1" strike="noStrike">
                <a:solidFill>
                  <a:srgbClr val="ccecff"/>
                </a:solidFill>
                <a:latin typeface="Monotype Corsiva"/>
              </a:rPr>
              <a:t>José Enrique Ruiz de Galarr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81080" y="380880"/>
            <a:ext cx="2762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TEMPLAR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0:53:50Z</dcterms:created>
  <dc:creator> Asun Gutiérrez</dc:creator>
  <dc:description/>
  <dc:language>en-US</dc:language>
  <cp:lastModifiedBy>Usuario</cp:lastModifiedBy>
  <dcterms:modified xsi:type="dcterms:W3CDTF">2009-12-21T14:23:38Z</dcterms:modified>
  <cp:revision>8</cp:revision>
  <dc:subject>jeasam@gmail.com</dc:subject>
  <dc:title>Natividad de Jesús 25 diciembre 2009</dc:title>
</cp:coreProperties>
</file>