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9F0-B694-4C6F-9F16-8C64CC0E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840-72B5-4442-8A35-0D85E69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AD6-099D-416A-889B-E14DA957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9E0-C639-45D5-AC88-D24EFE0F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3F7-F08E-42C7-8C71-ACCB2A9A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1D7-83AF-4A9F-8013-F5AE975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086-73C3-464E-9703-9B91AAC7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74B-3430-4DC2-88F6-B5C9821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0BA-C7B2-455F-8792-43D1970D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B20-24F3-40BF-8A04-375DBB30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072-A404-46BE-ADF2-C289099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122-8527-4120-A1D9-2F5355CB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D77D-05CB-475C-8877-980952A516FD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1"/>
          <a:stretch/>
        </p:blipFill>
        <p:spPr>
          <a:xfrm>
            <a:off x="-6480" y="2305080"/>
            <a:ext cx="91569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pro.corbis.com/images/42-21940083.jpg?size=572&amp;uid=%7beade32eb-862b-4826-885a-6e08fd0997d2%7d"/>
          <p:cNvPicPr/>
          <p:nvPr/>
        </p:nvPicPr>
        <p:blipFill>
          <a:blip r:embed="rId1"/>
          <a:stretch/>
        </p:blipFill>
        <p:spPr>
          <a:xfrm>
            <a:off x="0" y="0"/>
            <a:ext cx="928692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3 CuadroTexto"/>
          <p:cNvSpPr/>
          <p:nvPr/>
        </p:nvSpPr>
        <p:spPr>
          <a:xfrm>
            <a:off x="357120" y="285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Japón, donde se consumen muy pocas grasas, el índice de ataques al corazón es menor que en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ro.corbis.com/images/42-15121234.jpg?size=67&amp;uid=%7bc8690601-7406-4443-841d-ac5cbecce20d%7d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3 CuadroTexto"/>
          <p:cNvSpPr/>
          <p:nvPr/>
        </p:nvSpPr>
        <p:spPr>
          <a:xfrm>
            <a:off x="64296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En Francia, donde se consumen b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antes grasas</a:t>
            </a: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, también el índice de at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s</a:t>
            </a:r>
            <a:r>
              <a:rPr b="0" lang="es-ES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Rectángulo"/>
          <p:cNvSpPr/>
          <p:nvPr/>
        </p:nvSpPr>
        <p:spPr>
          <a:xfrm>
            <a:off x="0" y="0"/>
            <a:ext cx="4429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pro.corbis.com/images/42-20002795.jpg?size=67&amp;uid=%7b99a1890b-66cf-4f05-a80f-b48deb2370d8%7d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642960" y="1500120"/>
            <a:ext cx="300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n la India, donde a penas se bebe vino tinto, el índice de ataques al corazón es menor que en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Rectángulo"/>
          <p:cNvSpPr/>
          <p:nvPr/>
        </p:nvSpPr>
        <p:spPr>
          <a:xfrm>
            <a:off x="0" y="0"/>
            <a:ext cx="450072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ro.corbis.com/images/42-18592194.jpg?size=67&amp;uid=%7b267f3c33-9be8-4fb9-98ca-7f48194e1858%7d"/>
          <p:cNvPicPr/>
          <p:nvPr/>
        </p:nvPicPr>
        <p:blipFill>
          <a:blip r:embed="rId1"/>
          <a:srcRect l="12553" t="0" r="16333" b="0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500040" y="1928880"/>
            <a:ext cx="3500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n España, donde se bebe muchísimo vino tinto y se come demasiado chorizo, el índice de ataques 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ttp://pro.corbis.com/images/42-16912721.jpg?size=67&amp;uid=%7b227eb2e9-4c94-4a16-8a5b-5e6e2e4b1aa1%7d"/>
          <p:cNvPicPr/>
          <p:nvPr/>
        </p:nvPicPr>
        <p:blipFill>
          <a:blip r:embed="rId1"/>
          <a:stretch/>
        </p:blipFill>
        <p:spPr>
          <a:xfrm>
            <a:off x="0" y="0"/>
            <a:ext cx="9245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500040" y="285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Argelia, donde apenas se hace el amor, el índice de ataques al corazón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 menor que en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glaterra y Estados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pro.corbis.com/images/42-19770455.jpg?size=67&amp;uid=%7be9ddaabc-30f7-4e0d-b61a-2fa45ff05d65%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3 CuadroTexto"/>
          <p:cNvSpPr/>
          <p:nvPr/>
        </p:nvSpPr>
        <p:spPr>
          <a:xfrm>
            <a:off x="500040" y="357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Brasil, donde se hace mucho el amor, el índice de ataques al corazón es menor al de Inglaterra y Estados u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pro.corbis.com/images/CRBR003652.jpg?size=67&amp;uid=%7bcb504961-72e0-45e8-8b6e-fb34448447bd%7d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5 Rectángulo" descr=""/>
          <p:cNvPicPr/>
          <p:nvPr/>
        </p:nvPicPr>
        <p:blipFill>
          <a:blip r:embed="rId2"/>
          <a:stretch/>
        </p:blipFill>
        <p:spPr>
          <a:xfrm>
            <a:off x="2066760" y="1103400"/>
            <a:ext cx="517536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6 Rectángulo" descr=""/>
          <p:cNvPicPr/>
          <p:nvPr/>
        </p:nvPicPr>
        <p:blipFill>
          <a:blip r:embed="rId3"/>
          <a:stretch/>
        </p:blipFill>
        <p:spPr>
          <a:xfrm>
            <a:off x="189000" y="2762280"/>
            <a:ext cx="8766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9:50:40Z</dcterms:created>
  <dc:creator>Jose</dc:creator>
  <dc:description/>
  <dc:language>en-US</dc:language>
  <cp:lastModifiedBy>Win Evolution V2</cp:lastModifiedBy>
  <dcterms:modified xsi:type="dcterms:W3CDTF">2009-04-28T19:01:48Z</dcterms:modified>
  <cp:revision>9</cp:revision>
  <dc:subject/>
  <dc:title>Diapositiva 1</dc:title>
</cp:coreProperties>
</file>