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6F5-B1ED-4694-A85A-97A03718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D40-BC84-4792-A490-FEBFDAD1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A3D-E37A-4221-BA04-2E807830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39C-3898-4D09-97F1-BAE2F9F1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CC2-A8DE-45E2-AE25-57FA944E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70A-BFEF-4E3E-8631-00114C5D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834-1157-48AD-A3AD-1D76514E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EFB-5EC2-4012-B53E-E5389756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C86-E6B2-4F99-AA53-3AB931B9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77D-302A-4042-BBD5-7E8A368F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2B9-1C7B-4C1E-9D00-891DD67F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6DD-5131-45F8-ABD0-4BF066DE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39BD-B878-4CE8-88DA-FB76DBF4C7A0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5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3 Rectángulo" descr=""/>
          <p:cNvPicPr/>
          <p:nvPr/>
        </p:nvPicPr>
        <p:blipFill>
          <a:blip r:embed="rId1"/>
          <a:stretch/>
        </p:blipFill>
        <p:spPr>
          <a:xfrm>
            <a:off x="-6480" y="2305080"/>
            <a:ext cx="91569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http://pro.corbis.com/images/42-21940083.jpg?size=572&amp;uid=%7beade32eb-862b-4826-885a-6e08fd0997d2%7d"/>
          <p:cNvPicPr/>
          <p:nvPr/>
        </p:nvPicPr>
        <p:blipFill>
          <a:blip r:embed="rId1"/>
          <a:stretch/>
        </p:blipFill>
        <p:spPr>
          <a:xfrm>
            <a:off x="0" y="0"/>
            <a:ext cx="9286920" cy="7000920"/>
          </a:xfrm>
          <a:prstGeom prst="rect">
            <a:avLst/>
          </a:prstGeom>
          <a:ln w="0">
            <a:noFill/>
          </a:ln>
        </p:spPr>
      </p:pic>
      <p:sp>
        <p:nvSpPr>
          <p:cNvPr id="44" name="3 CuadroTexto"/>
          <p:cNvSpPr/>
          <p:nvPr/>
        </p:nvSpPr>
        <p:spPr>
          <a:xfrm>
            <a:off x="357120" y="285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 Japón, donde se consumen muy pocas grasas, el índice de ataques al corazón es menor que en Inglaterra y Estados U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pro.corbis.com/images/42-15121234.jpg?size=67&amp;uid=%7bc8690601-7406-4443-841d-ac5cbecce20d%7d"/>
          <p:cNvPicPr/>
          <p:nvPr/>
        </p:nvPicPr>
        <p:blipFill>
          <a:blip r:embed="rId1"/>
          <a:stretch/>
        </p:blipFill>
        <p:spPr>
          <a:xfrm>
            <a:off x="-63360" y="0"/>
            <a:ext cx="9207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3 CuadroTexto"/>
          <p:cNvSpPr/>
          <p:nvPr/>
        </p:nvSpPr>
        <p:spPr>
          <a:xfrm>
            <a:off x="642960" y="35712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2f2f2"/>
                </a:solidFill>
                <a:latin typeface="Calibri"/>
              </a:rPr>
              <a:t>En Francia, donde se consumen b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a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antes grasas</a:t>
            </a:r>
            <a:r>
              <a:rPr b="0" lang="es-ES" sz="2800" spc="-1" strike="noStrike">
                <a:solidFill>
                  <a:srgbClr val="f2f2f2"/>
                </a:solidFill>
                <a:latin typeface="Calibri"/>
              </a:rPr>
              <a:t>, también el índice de at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ques</a:t>
            </a:r>
            <a:r>
              <a:rPr b="0" lang="es-ES" sz="2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l corazón es menor al de Inglaterra y Estados u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5 Rectángulo"/>
          <p:cNvSpPr/>
          <p:nvPr/>
        </p:nvSpPr>
        <p:spPr>
          <a:xfrm>
            <a:off x="0" y="0"/>
            <a:ext cx="4429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pro.corbis.com/images/42-20002795.jpg?size=67&amp;uid=%7b99a1890b-66cf-4f05-a80f-b48deb2370d8%7d"/>
          <p:cNvPicPr/>
          <p:nvPr/>
        </p:nvPicPr>
        <p:blipFill>
          <a:blip r:embed="rId1"/>
          <a:stretch/>
        </p:blipFill>
        <p:spPr>
          <a:xfrm>
            <a:off x="4314960" y="0"/>
            <a:ext cx="4829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3 CuadroTexto"/>
          <p:cNvSpPr/>
          <p:nvPr/>
        </p:nvSpPr>
        <p:spPr>
          <a:xfrm>
            <a:off x="642960" y="1500120"/>
            <a:ext cx="3000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n la India, donde a penas se bebe vino tinto, el índice de ataques al corazón es menor que en Inglaterra y Estados U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4 Rectángulo"/>
          <p:cNvSpPr/>
          <p:nvPr/>
        </p:nvSpPr>
        <p:spPr>
          <a:xfrm>
            <a:off x="0" y="0"/>
            <a:ext cx="450072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pro.corbis.com/images/42-18592194.jpg?size=67&amp;uid=%7b267f3c33-9be8-4fb9-98ca-7f48194e1858%7d"/>
          <p:cNvPicPr/>
          <p:nvPr/>
        </p:nvPicPr>
        <p:blipFill>
          <a:blip r:embed="rId1"/>
          <a:srcRect l="12553" t="0" r="16333" b="0"/>
          <a:stretch/>
        </p:blipFill>
        <p:spPr>
          <a:xfrm>
            <a:off x="4286160" y="0"/>
            <a:ext cx="4857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1 CuadroTexto"/>
          <p:cNvSpPr/>
          <p:nvPr/>
        </p:nvSpPr>
        <p:spPr>
          <a:xfrm>
            <a:off x="500040" y="1928880"/>
            <a:ext cx="3500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n España, donde se bebe muchísimo vino tinto y se come demasiado chorizo, el índice de ataques al corazón es menor al de Inglaterra y Estados u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http://pro.corbis.com/images/42-16912721.jpg?size=67&amp;uid=%7b227eb2e9-4c94-4a16-8a5b-5e6e2e4b1aa1%7d"/>
          <p:cNvPicPr/>
          <p:nvPr/>
        </p:nvPicPr>
        <p:blipFill>
          <a:blip r:embed="rId1"/>
          <a:stretch/>
        </p:blipFill>
        <p:spPr>
          <a:xfrm>
            <a:off x="0" y="0"/>
            <a:ext cx="92455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3 CuadroTexto"/>
          <p:cNvSpPr/>
          <p:nvPr/>
        </p:nvSpPr>
        <p:spPr>
          <a:xfrm>
            <a:off x="500040" y="285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 Argelia, donde apenas se hace el amor, el índice de ataques al corazón 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s menor que e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glaterra y Estados 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U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pro.corbis.com/images/42-19770455.jpg?size=67&amp;uid=%7be9ddaabc-30f7-4e0d-b61a-2fa45ff05d65%7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3 CuadroTexto"/>
          <p:cNvSpPr/>
          <p:nvPr/>
        </p:nvSpPr>
        <p:spPr>
          <a:xfrm>
            <a:off x="500040" y="35712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 Brasil, donde se hace mucho el amor, el índice de ataques al corazón es menor al de Inglaterra y Estados u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http://pro.corbis.com/images/CRBR003652.jpg?size=67&amp;uid=%7bcb504961-72e0-45e8-8b6e-fb34448447bd%7d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5 Rectángulo" descr=""/>
          <p:cNvPicPr/>
          <p:nvPr/>
        </p:nvPicPr>
        <p:blipFill>
          <a:blip r:embed="rId2"/>
          <a:stretch/>
        </p:blipFill>
        <p:spPr>
          <a:xfrm>
            <a:off x="2066760" y="1103400"/>
            <a:ext cx="517536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6 Rectángulo" descr=""/>
          <p:cNvPicPr/>
          <p:nvPr/>
        </p:nvPicPr>
        <p:blipFill>
          <a:blip r:embed="rId3"/>
          <a:stretch/>
        </p:blipFill>
        <p:spPr>
          <a:xfrm>
            <a:off x="189000" y="2762280"/>
            <a:ext cx="8766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9:50:40Z</dcterms:created>
  <dc:creator>Jose</dc:creator>
  <dc:description/>
  <dc:language>en-US</dc:language>
  <cp:lastModifiedBy>Win Evolution V2</cp:lastModifiedBy>
  <dcterms:modified xsi:type="dcterms:W3CDTF">2009-04-28T19:01:48Z</dcterms:modified>
  <cp:revision>9</cp:revision>
  <dc:subject/>
  <dc:title>Diapositiva 1</dc:title>
</cp:coreProperties>
</file>