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NST-castelosdepaz.wav" ContentType="audio/x-wav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790-02CB-45F3-AC40-162F2128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984-306E-46DF-B0F7-01502A2E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C17-BA24-40A8-BEBC-7C6A0CFD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215-9251-4E71-B614-E6DDA30F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207-F629-4D29-9E42-E8B78471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D19-B269-45EB-821B-1E48E883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804-3F64-40A4-8B23-97E34ED1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022-815C-4459-B6F1-8D85D662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42C-0EEF-42D1-B885-44FF6E07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FE1-725F-4044-851B-17E8233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C2D-CC28-45EE-95CE-5EC0303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88B-5F9E-49FD-B477-3060EFC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35B9-3733-40D7-97F1-4D609D7A3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INST-castelosdepaz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audio" Target="../media/INST-castelosdepaz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decaturdaily.com/decaturdaily/livingtoday/060413/one.jpg&amp;imgrefurl=http://www.decaturdaily.com/decaturdaily/livingtoday/060413/one.shtml&amp;h=346&amp;w=400&amp;sz=101&amp;hl=es&amp;start=26&amp;tbnid=yJ1J1mR7YcuH-M:&amp;tbnh=107&amp;tbnw=124&amp;prev=/images%3Fq%3DCharlie%2BBrown%26start%3D20%26gbv%3D2%26ndsp%3D20%26svnum%3D10%26hl%3Des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.mx/imgres?imgurl=http://www.woolsock.ca/geeklove/images/meet_charlie_brown_big.gif&amp;imgrefurl=http://www.woolsock.ca/geeklove/musings/index.html&amp;h=294&amp;w=200&amp;sz=21&amp;hl=es&amp;start=49&amp;tbnid=aWi_HoikxQiY2M:&amp;tbnh=115&amp;tbnw=78&amp;prev=/images%3Fq%3DCharlie%2BBrown%26start%3D40%26gbv%3D2%26ndsp%3D20%26svnum%3D10%26hl%3Des%26sa%3D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credimail.com/index.asp?lang=10&amp;version=5312740&amp;setup_id=10000007&amp;aff_id=101&amp;addon=IncrediMail&amp;id=95202&amp;guid=BCC596D9-51EC-47F2-A741-FFBEE05F148D" TargetMode="External"/><Relationship Id="rId2" Type="http://schemas.openxmlformats.org/officeDocument/2006/relationships/image" Target="../media/image7.gif"/><Relationship Id="rId3" Type="http://schemas.openxmlformats.org/officeDocument/2006/relationships/hyperlink" Target="http://images.google.es/imgres?imgurl=http://www.sinosrealestate.com/casa%2520santa%2520ana11/ventanas.jpg&amp;imgrefurl=http://www.sinosrealestate.com/casa%2520santa%2520ana11/casa%2520santa%2520ana11%2520antigua%2520guatemala.htm&amp;h=337&amp;w=449&amp;sz=14&amp;hl=es&amp;start=173&amp;tbnid=5F7xdRQ5VaxXvM:&amp;tbnh=95&amp;tbnw=127&amp;prev=/images%3Fq%3DVentanas%2B%26start%3D160%26gbv%3D2%26ndsp%3D20%26svnum%3D10%26hl%3Des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horre.com/autos/images/Honda%20Accord%20Sedan%20200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webshots.com/g/61/td-sh/61314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-76320"/>
            <a:ext cx="6348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ndFlowers"/>
              </a:rPr>
              <a:t>Quiero volver a confi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-1219320" y="-22860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248360" cy="338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4032000" cy="458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7848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6698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 baseline="4000">
                <a:solidFill>
                  <a:srgbClr val="ffffff"/>
                </a:solidFill>
                <a:latin typeface="Comic Sans MS"/>
              </a:rPr>
              <a:t>¿Qué tenemos que dar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600" spc="-1" strike="noStrike" baseline="4000">
                <a:solidFill>
                  <a:srgbClr val="ffffff"/>
                </a:solidFill>
                <a:latin typeface="Comic Sans MS"/>
              </a:rPr>
              <a:t>para recibir un abraz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89744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40360" y="4648320"/>
            <a:ext cx="50036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 baseline="4000">
                <a:solidFill>
                  <a:srgbClr val="ffffff"/>
                </a:solidFill>
                <a:latin typeface="Comic Sans MS"/>
              </a:rPr>
              <a:t>Más vale pare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 baseline="4000">
                <a:solidFill>
                  <a:srgbClr val="ffffff"/>
                </a:solidFill>
                <a:latin typeface="Comic Sans MS"/>
              </a:rPr>
              <a:t>que s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95640" y="2852640"/>
            <a:ext cx="4680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Más vale un coche caro que u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amistad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a toda prue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1700280"/>
            <a:ext cx="5580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Más vale una pantalla gigante que una convers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765000"/>
            <a:ext cx="4608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Más vale un Armani que un dipl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4360" y="404640"/>
            <a:ext cx="7788240" cy="593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ff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¿CUANDO FUE QUE SER CORRECTO DESAPARECIÓ</a:t>
            </a:r>
            <a:endParaRPr b="0" lang="en-US" sz="2400" spc="1" strike="noStrike">
              <a:ln w="9360">
                <a:solidFill>
                  <a:srgbClr val="ff99ff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ff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O</a:t>
            </a:r>
            <a:endParaRPr b="0" lang="en-US" sz="2400" spc="1" strike="noStrike">
              <a:ln w="9360">
                <a:solidFill>
                  <a:srgbClr val="ff99ff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ff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SE HIZO RIDICULO?</a:t>
            </a:r>
            <a:endParaRPr b="0" lang="en-US" sz="2400" spc="1" strike="noStrike">
              <a:ln w="9360">
                <a:solidFill>
                  <a:srgbClr val="ff99ff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92160"/>
            <a:ext cx="5508720" cy="6950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84720" y="1989000"/>
            <a:ext cx="395928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¡¡Quiero qui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as rejas de mi ventana para tocar las flores!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715000"/>
            <a:ext cx="8915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Quiero sentarme en el camino y tener la puerta abierta en las noches 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58880" y="2206800"/>
            <a:ext cx="5826240" cy="2393640"/>
            <a:chOff x="1658880" y="2206800"/>
            <a:chExt cx="5826240" cy="2393640"/>
          </a:xfrm>
        </p:grpSpPr>
        <p:sp>
          <p:nvSpPr>
            <p:cNvPr id="85" name=""/>
            <p:cNvSpPr/>
            <p:nvPr/>
          </p:nvSpPr>
          <p:spPr>
            <a:xfrm>
              <a:off x="1658880" y="2206800"/>
              <a:ext cx="3200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58880" y="2206800"/>
              <a:ext cx="5826240" cy="23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3311280" cy="3443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04920"/>
            <a:ext cx="266688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Quiero la honestidad como motivo de orgu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228600"/>
            <a:ext cx="378288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Quiero la rectitud de caráct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la cara limpia</a:t>
            </a:r>
            <a:br>
              <a:rPr sz="3200"/>
            </a:b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y la mirada a los oj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4329000"/>
            <a:ext cx="304812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 baseline="4000">
                <a:solidFill>
                  <a:srgbClr val="ffffff"/>
                </a:solidFill>
                <a:latin typeface="Comic Sans MS"/>
              </a:rPr>
              <a:t>Quier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 baseline="4000">
                <a:solidFill>
                  <a:srgbClr val="ffffff"/>
                </a:solidFill>
                <a:latin typeface="Comic Sans MS"/>
              </a:rPr>
              <a:t>la esperanza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 baseline="4000">
                <a:solidFill>
                  <a:srgbClr val="ffffff"/>
                </a:solidFill>
                <a:latin typeface="Comic Sans MS"/>
              </a:rPr>
              <a:t>la alegría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 baseline="4000">
                <a:solidFill>
                  <a:srgbClr val="ffffff"/>
                </a:solidFill>
                <a:latin typeface="Comic Sans MS"/>
              </a:rPr>
              <a:t>la confianza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 baseline="4000">
                <a:solidFill>
                  <a:srgbClr val="ffffff"/>
                </a:solidFill>
                <a:latin typeface="Comic Sans MS"/>
              </a:rPr>
              <a:t>la fe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373720"/>
            <a:ext cx="35434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Quiero la verguenza, </a:t>
            </a:r>
            <a:br>
              <a:rPr sz="3200"/>
            </a:b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y la solidari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708280"/>
            <a:ext cx="27367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Quiero volver a enorgullecerme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 nuestros líderes polític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476280"/>
            <a:ext cx="4397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Quiero que la “palabra de hombre” vuelva a ser sinónimo de jur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924280"/>
            <a:ext cx="46116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5400" spc="-1" strike="noStrike" baseline="4000">
                <a:solidFill>
                  <a:srgbClr val="ff0000"/>
                </a:solidFill>
                <a:latin typeface="Comic Sans MS"/>
              </a:rPr>
              <a:t>¡Abajo el  “TENER”!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5400" spc="-1" strike="noStrike" baseline="4000">
                <a:solidFill>
                  <a:srgbClr val="ff0000"/>
                </a:solidFill>
                <a:latin typeface="Comic Sans MS"/>
              </a:rPr>
              <a:t>¡Viva el  SER”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1557360"/>
            <a:ext cx="511488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Comic Sans MS"/>
              </a:rPr>
              <a:t>Quiero  el retorno  de la verdadera vida,</a:t>
            </a:r>
            <a:br>
              <a:rPr sz="2800"/>
            </a:br>
            <a:r>
              <a:rPr b="1" lang="en-GB" sz="2800" spc="-1" strike="noStrike" baseline="30000">
                <a:solidFill>
                  <a:srgbClr val="ffffff"/>
                </a:solidFill>
                <a:latin typeface="Comic Sans MS"/>
              </a:rPr>
              <a:t>simple como la lluvi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Comic Sans MS"/>
              </a:rPr>
              <a:t>limpia como un cielo de abr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Comic Sans MS"/>
              </a:rPr>
              <a:t>leve como la brisa de la mañana!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300640"/>
            <a:ext cx="7920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 baseline="4000">
                <a:solidFill>
                  <a:srgbClr val="ffffff"/>
                </a:solidFill>
                <a:latin typeface="Comic Sans MS"/>
              </a:rPr>
              <a:t>Y definitivamente común, como yo o como t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84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84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&quot;Baby Blue Eyes&quot; © SuperStock, Inc."/>
          <p:cNvPicPr/>
          <p:nvPr/>
        </p:nvPicPr>
        <p:blipFill>
          <a:blip r:embed="rId1"/>
          <a:stretch/>
        </p:blipFill>
        <p:spPr>
          <a:xfrm>
            <a:off x="5905440" y="228600"/>
            <a:ext cx="1257480" cy="93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84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&quot;Golden Opportunity&quot; © SuperStock"/>
          <p:cNvPicPr/>
          <p:nvPr/>
        </p:nvPicPr>
        <p:blipFill>
          <a:blip r:embed="rId2"/>
          <a:stretch/>
        </p:blipFill>
        <p:spPr>
          <a:xfrm>
            <a:off x="5105520" y="3343320"/>
            <a:ext cx="175248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3960"/>
            <a:ext cx="4114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Adoro un mundo simple y comú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1557360"/>
            <a:ext cx="435600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Tener el amor, la caridad, la solidaridad como bases de vida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5099040"/>
            <a:ext cx="85341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Me indigno delante de la corrupción, la falta de ética,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 moral, de respeto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2881440" cy="271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84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&quot;I'll Never Tell&quot; © SuperStock, Inc."/>
          <p:cNvPicPr/>
          <p:nvPr/>
        </p:nvPicPr>
        <p:blipFill>
          <a:blip r:embed="rId2"/>
          <a:stretch/>
        </p:blipFill>
        <p:spPr>
          <a:xfrm>
            <a:off x="5619600" y="2960640"/>
            <a:ext cx="18478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05120" y="533520"/>
            <a:ext cx="5362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 baseline="4000">
                <a:solidFill>
                  <a:srgbClr val="ffffff"/>
                </a:solidFill>
                <a:latin typeface="Comic Sans MS"/>
              </a:rPr>
              <a:t>Vamos a volver a ser “gente”, a recuperar la “tribu” perd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029200"/>
            <a:ext cx="718164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 baseline="4000">
                <a:solidFill>
                  <a:srgbClr val="ffffff"/>
                </a:solidFill>
                <a:latin typeface="Comic Sans MS"/>
              </a:rPr>
              <a:t>Vamos a construir un mundo mejor, más justo,</a:t>
            </a:r>
            <a:br>
              <a:rPr sz="3600"/>
            </a:br>
            <a:r>
              <a:rPr b="1" lang="en-GB" sz="3600" spc="-1" strike="noStrike" baseline="4000">
                <a:solidFill>
                  <a:srgbClr val="ffffff"/>
                </a:solidFill>
                <a:latin typeface="Comic Sans MS"/>
              </a:rPr>
              <a:t>donde las personas respeten a las personas, con tolerancia y sin permisivi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089160" cy="32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380880"/>
            <a:ext cx="25905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6600" spc="-1" strike="noStrike" baseline="4000">
                <a:solidFill>
                  <a:srgbClr val="ff99ff"/>
                </a:solidFill>
                <a:latin typeface="Comic Sans MS"/>
              </a:rPr>
              <a:t>¿Utopia?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67280" y="380880"/>
            <a:ext cx="2104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6600" spc="-1" strike="noStrike" baseline="4000">
                <a:solidFill>
                  <a:srgbClr val="66ff66"/>
                </a:solidFill>
                <a:latin typeface="Comic Sans MS"/>
              </a:rPr>
              <a:t>¿No...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05680" y="380880"/>
            <a:ext cx="316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6600" spc="-1" strike="noStrike" baseline="4000">
                <a:solidFill>
                  <a:srgbClr val="99ccff"/>
                </a:solidFill>
                <a:latin typeface="Comic Sans MS"/>
              </a:rPr>
              <a:t>¿...Si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989000"/>
            <a:ext cx="50292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6600" spc="-1" strike="noStrike" baseline="4000">
                <a:solidFill>
                  <a:srgbClr val="ffffff"/>
                </a:solidFill>
                <a:latin typeface="Comic Sans MS"/>
              </a:rPr>
              <a:t>¿Quién sabe?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92720" y="3357720"/>
            <a:ext cx="542628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baseline="4000">
                <a:solidFill>
                  <a:srgbClr val="ffffff"/>
                </a:solidFill>
                <a:latin typeface="Comic Sans MS"/>
              </a:rPr>
              <a:t>Por lo menos,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 baseline="4000">
                <a:solidFill>
                  <a:srgbClr val="ffffff"/>
                </a:solidFill>
                <a:latin typeface="Comic Sans MS"/>
              </a:rPr>
              <a:t>hagamos el intento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248360" cy="338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476280"/>
            <a:ext cx="8459640" cy="80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Fuimos criados con principios morales comu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Cuando erámos niños,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madres, padres, profesores, abuelos, tíos, vec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eran autoridades  dignas de respeto y consid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Cuanto más próximos o más viejos, más afecto nos dieron</a:t>
            </a:r>
            <a:r>
              <a:rPr b="1" i="1" lang="en-GB" sz="2800" spc="-1" strike="noStrike" baseline="4000">
                <a:solidFill>
                  <a:srgbClr val="ffffff"/>
                </a:solidFill>
                <a:latin typeface="Comic Sans MS"/>
              </a:rPr>
              <a:t>.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inimaginable responder mal a los más ancian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800" spc="-1" strike="noStrike" baseline="4000">
                <a:solidFill>
                  <a:srgbClr val="ffffff"/>
                </a:solidFill>
                <a:latin typeface="Comic Sans MS"/>
              </a:rPr>
              <a:t>a maestros o autoridades…HABÍA RESP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1557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Empecemos a contaminar el mundo pasando este mens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3284640"/>
            <a:ext cx="686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Nuestros hijos se lo merecen y nuestros nietos nos lo agradece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458136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Times New Roman"/>
              </a:rPr>
              <a:t>Seguramente a muchos de tus amigos también les agradaría recibirlo y constatar que somos muchos los que pensamos así.</a:t>
            </a:r>
            <a:r>
              <a:rPr b="1" lang="es-MX" sz="2800" spc="-1" strike="noStrike">
                <a:solidFill>
                  <a:srgbClr val="cc66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¡ Seamos má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052640"/>
            <a:ext cx="360036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Confiábamos en  los adultos porque todos eran padres, madres o familiares de todos los ch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 la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calle,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l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barrio,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 la ciuda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5157720"/>
            <a:ext cx="363528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Teníamos miedo apenas de lo oscuro, de los sapos, de los ratones o  de las películas de terr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032000" cy="45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533520"/>
            <a:ext cx="74674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Hoy tengo una tristeza infinita </a:t>
            </a:r>
            <a:br>
              <a:rPr sz="3200"/>
            </a:b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por todo  lo que hemos perdi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82436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905120"/>
            <a:ext cx="247176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 baseline="4000">
                <a:solidFill>
                  <a:srgbClr val="ffffff"/>
                </a:solidFill>
                <a:latin typeface="Comic Sans MS"/>
              </a:rPr>
              <a:t>Por todo lo que mis nietos  un día temerá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018040"/>
            <a:ext cx="693432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Por el miedo en la mirada de los niños, jóvenes, viejos y adultos</a:t>
            </a:r>
            <a:r>
              <a:rPr b="1" lang="en-GB" sz="4000" spc="-1" strike="noStrike" baseline="4000">
                <a:solidFill>
                  <a:srgbClr val="ffff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16360" y="333360"/>
            <a:ext cx="4535280" cy="41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533520"/>
            <a:ext cx="72961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Derechos humanos para criminales..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?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deberes ilimitados para ciudadanos honestos…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3032280"/>
            <a:ext cx="55800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Pagar las deudas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es ser tonto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amnistía para los estafadores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Los honestos son imbéciles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789120" y="5638680"/>
            <a:ext cx="65041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No tomar ventaja es ser necio..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708280"/>
            <a:ext cx="1871640" cy="165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4581360"/>
            <a:ext cx="1269720" cy="18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87680" y="380880"/>
            <a:ext cx="577980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6000" spc="-1" strike="noStrike" baseline="4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¿Qué pasó con nosotros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205000"/>
            <a:ext cx="8350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Profesores maltratados en las aul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comerciantes amenazados por traficant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corruptos pavoneándose de su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pod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rejas en nuestras ventanas y puertas</a:t>
            </a:r>
            <a:r>
              <a:rPr b="0" lang="en-GB" sz="2800" spc="-1" strike="noStrike" baseline="4000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da uno encerrado en su mu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n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197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4869000"/>
            <a:ext cx="232560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14400" y="2209680"/>
            <a:ext cx="74674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99ff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 </a:t>
            </a:r>
            <a:r>
              <a:rPr b="0" lang="en-US" sz="4000" spc="1" strike="noStrike">
                <a:ln w="19080">
                  <a:solidFill>
                    <a:srgbClr val="ff99ff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xotc350 Bd BT"/>
              </a:rPr>
              <a:t>¿QUE VALORES SON ESTOS?</a:t>
            </a:r>
            <a:endParaRPr b="0" lang="en-US" sz="4000" spc="1" strike="noStrike">
              <a:ln w="19080">
                <a:solidFill>
                  <a:srgbClr val="ff99ff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xotc350 Bd BT"/>
              <a:ea typeface="Exotc350 Bd BT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6560" y="692280"/>
            <a:ext cx="55609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Coches que valen más que abraz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852640"/>
            <a:ext cx="62150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hijos queriendo regalos por pasar de 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257800"/>
            <a:ext cx="38862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Teléfonos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móviles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en las mochilas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 baseline="4000">
                <a:solidFill>
                  <a:srgbClr val="ffffff"/>
                </a:solidFill>
                <a:latin typeface="Comic Sans MS"/>
              </a:rPr>
              <a:t>de los recién salidos de los  pañ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75040" y="1600200"/>
            <a:ext cx="1920960" cy="1197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846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&quot;Summer Friends&quot; © SuperStock, Inc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1871640" cy="150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705720" y="4581360"/>
            <a:ext cx="1447560" cy="18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16:39:44Z</dcterms:created>
  <dc:creator>Jorge Ferrer</dc:creator>
  <dc:description/>
  <dc:language>en-US</dc:language>
  <cp:lastModifiedBy>ingres</cp:lastModifiedBy>
  <dcterms:modified xsi:type="dcterms:W3CDTF">2009-09-28T17:10:31Z</dcterms:modified>
  <cp:revision>7</cp:revision>
  <dc:subject/>
  <dc:title>Quiero que seamos más</dc:title>
</cp:coreProperties>
</file>