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9725-9500-4210-91C3-1888368DC34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11B1-ED9D-404C-8FDD-C3FC44C5ED8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771-6456-4C46-8CA7-7E90F880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771-1167-4855-87CA-8DD7B945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5DB-A58B-4BAE-B401-7B0A8307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AAE-65D8-4654-A1DA-2D5E128E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728A9-3837-4F52-8314-C42A8B236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B9B42-1D19-4233-BEE6-0335ADDD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4E5D1-68ED-4340-B5D0-BD5096DA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F324C-0D9E-4EFB-B2E3-8AB7867F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68F60-F644-4F98-8EA2-247BC09E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77782-4D36-4A8F-909B-12F04983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96892-CAB9-49D6-996E-FFF50A16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D12-8322-47B4-80AB-BABCE66B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CDD6C-37BF-4C28-AEAD-653E9C39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9E322-89AB-480F-B7D6-DEAA4C63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EE7BD-CEF9-4440-BB4B-BC85907E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DCBD8-C59D-4472-8894-37920630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F544A-A07D-46C0-829D-049579E05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074-68CE-42CB-B38C-FC0CF492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789-DD1F-40C3-8549-1165DA42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39D-CF30-4A95-91C5-D8532C0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405-6F1B-4E00-B432-CDC8F283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2B1-EE1B-4C36-ABE1-515762D4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E91-E30E-4981-A431-B6585FD7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4DE-1E14-40EB-9363-EE298977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608-2193-4F48-B39E-D2CCB39DF6A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7 Conector recto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5" descr="soporte2008"/>
          <p:cNvPicPr/>
          <p:nvPr/>
        </p:nvPicPr>
        <p:blipFill>
          <a:blip r:embed="rId2"/>
          <a:stretch/>
        </p:blipFill>
        <p:spPr>
          <a:xfrm>
            <a:off x="0" y="0"/>
            <a:ext cx="162072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8 Rectángulo"/>
          <p:cNvSpPr/>
          <p:nvPr/>
        </p:nvSpPr>
        <p:spPr>
          <a:xfrm>
            <a:off x="2591640" y="214200"/>
            <a:ext cx="62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Arial"/>
              </a:rPr>
              <a:t>HABITOS QUE DAÑAN EL CEREBRO Y TU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9 Rectángulo"/>
          <p:cNvSpPr/>
          <p:nvPr/>
        </p:nvSpPr>
        <p:spPr>
          <a:xfrm>
            <a:off x="3231360" y="6286680"/>
            <a:ext cx="27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www.soporteycalidad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96E7-FFCC-4338-8BDE-647AC1A4A71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10 Rectángulo"/>
          <p:cNvSpPr/>
          <p:nvPr/>
        </p:nvSpPr>
        <p:spPr>
          <a:xfrm>
            <a:off x="0" y="857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Existen hábitos en la vida diaria que dañan al cerebro, prácticamente se destruyen las neuronas disminuyendo  sensiblemente la cantidad de las mis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1 Rectángulo"/>
          <p:cNvSpPr/>
          <p:nvPr/>
        </p:nvSpPr>
        <p:spPr>
          <a:xfrm>
            <a:off x="285840" y="2214720"/>
            <a:ext cx="414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No Desayunar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La gente que no desayuna tiene bajo nivel de azúcar en la sangre. Esto genera insuficiente suministro de nutrientes al cerebro causando su degeneración paulatina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http://3.bp.blogspot.com/_G5tq-foG4KM/SSeFKHq5MKI/AAAAAAAAACw/v6yzCXDoZHc/s400/cerebro.jpg"/>
          <p:cNvPicPr/>
          <p:nvPr/>
        </p:nvPicPr>
        <p:blipFill>
          <a:blip r:embed="rId1"/>
          <a:stretch/>
        </p:blipFill>
        <p:spPr>
          <a:xfrm>
            <a:off x="4857840" y="2143080"/>
            <a:ext cx="3571920" cy="43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9 Rectángulo"/>
          <p:cNvSpPr/>
          <p:nvPr/>
        </p:nvSpPr>
        <p:spPr>
          <a:xfrm>
            <a:off x="214200" y="1214280"/>
            <a:ext cx="41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2.- Comer de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sto causa el endurecimiento de las arterias del cerebro, causando además  baja capacidad men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Rectángulo"/>
          <p:cNvSpPr/>
          <p:nvPr/>
        </p:nvSpPr>
        <p:spPr>
          <a:xfrm>
            <a:off x="357120" y="400068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3.- Fum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ausa la dismin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l tamaño cerebral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promueve además Alzhei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http://files.nireblog.com/blogs1/date/files/smoke3ci.jpg"/>
          <p:cNvPicPr/>
          <p:nvPr/>
        </p:nvPicPr>
        <p:blipFill>
          <a:blip r:embed="rId1"/>
          <a:stretch/>
        </p:blipFill>
        <p:spPr>
          <a:xfrm>
            <a:off x="5214960" y="3643200"/>
            <a:ext cx="2857320" cy="225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http://imblog.aufeminin.com/blog/D20090217/364595_372779488_obesidad-gordura_H192658_L.jpg"/>
          <p:cNvPicPr/>
          <p:nvPr/>
        </p:nvPicPr>
        <p:blipFill>
          <a:blip r:embed="rId2"/>
          <a:stretch/>
        </p:blipFill>
        <p:spPr>
          <a:xfrm>
            <a:off x="5143680" y="100008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4 Rectángulo"/>
          <p:cNvSpPr/>
          <p:nvPr/>
        </p:nvSpPr>
        <p:spPr>
          <a:xfrm>
            <a:off x="4643280" y="928800"/>
            <a:ext cx="45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4.-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nsumir altas cantidades de azú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l alto consumo de azú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interrumpe la absor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proteínas y nut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ausando mala nutri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puede interferir en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sarrollo del cereb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5 Rectángulo"/>
          <p:cNvSpPr/>
          <p:nvPr/>
        </p:nvSpPr>
        <p:spPr>
          <a:xfrm>
            <a:off x="0" y="3643200"/>
            <a:ext cx="5143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5.-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ontaminación del 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l cerebro es el más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onsumidor de oxígen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uerpo. Inhalar aire conta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sminuye su oxige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generando una dismin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 la eficiencia cereb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3397320" cy="2352960"/>
          </a:xfrm>
          <a:prstGeom prst="rect">
            <a:avLst/>
          </a:prstGeom>
          <a:ln w="0">
            <a:noFill/>
          </a:ln>
        </p:spPr>
      </p:pic>
      <p:pic>
        <p:nvPicPr>
          <p:cNvPr id="102" name="19 Imagen" descr="contaminaciom.jpg"/>
          <p:cNvPicPr/>
          <p:nvPr/>
        </p:nvPicPr>
        <p:blipFill>
          <a:blip r:embed="rId2"/>
          <a:stretch/>
        </p:blipFill>
        <p:spPr>
          <a:xfrm>
            <a:off x="5000760" y="4214880"/>
            <a:ext cx="3367080" cy="188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9 Rectángulo"/>
          <p:cNvSpPr/>
          <p:nvPr/>
        </p:nvSpPr>
        <p:spPr>
          <a:xfrm>
            <a:off x="4000680" y="857160"/>
            <a:ext cx="485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6.-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 Dormir po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l dormir permite al ce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scansar. La falta de sue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por periodos prolong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acelera la pérdida de célu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el cereb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4000680" y="3929040"/>
            <a:ext cx="51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7.-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Dormir con la cabeza cubier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l dormir así aument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oncentración de dióxid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arbono y disminuye el oxíg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causando efectos adverso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nuestro cereb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13 Imagen" descr="MUSICA4.jpg"/>
          <p:cNvPicPr/>
          <p:nvPr/>
        </p:nvPicPr>
        <p:blipFill>
          <a:blip r:embed="rId1"/>
          <a:stretch/>
        </p:blipFill>
        <p:spPr>
          <a:xfrm>
            <a:off x="198360" y="1071720"/>
            <a:ext cx="380232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2 Rectángulo"/>
          <p:cNvSpPr/>
          <p:nvPr/>
        </p:nvSpPr>
        <p:spPr>
          <a:xfrm>
            <a:off x="0" y="857160"/>
            <a:ext cx="44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8. Hacer trabajar al cereb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uando estamos enfer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Trabajar y estudiar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stás enfermo además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ificultad del cerebr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responder en ese estado,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dañ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3 Rectángulo"/>
          <p:cNvSpPr/>
          <p:nvPr/>
        </p:nvSpPr>
        <p:spPr>
          <a:xfrm>
            <a:off x="4000680" y="3929040"/>
            <a:ext cx="51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9. Falta de estimul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Pensar es la mejor maner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estimular nuestro cerebro,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hacerlo provoca que el ce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disminuya su tamaño y por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tanto su capac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http://chocolatelabial.com/wp-content/uploads/2008/04/pensar-en-uno.jpg"/>
          <p:cNvPicPr/>
          <p:nvPr/>
        </p:nvPicPr>
        <p:blipFill>
          <a:blip r:embed="rId1"/>
          <a:stretch/>
        </p:blipFill>
        <p:spPr>
          <a:xfrm>
            <a:off x="285840" y="3429000"/>
            <a:ext cx="2428920" cy="3132000"/>
          </a:xfrm>
          <a:prstGeom prst="rect">
            <a:avLst/>
          </a:prstGeom>
          <a:ln w="0">
            <a:noFill/>
          </a:ln>
        </p:spPr>
      </p:pic>
      <p:pic>
        <p:nvPicPr>
          <p:cNvPr id="109" name="16 Imagen" descr="MUSIC6.jpg"/>
          <p:cNvPicPr/>
          <p:nvPr/>
        </p:nvPicPr>
        <p:blipFill>
          <a:blip r:embed="rId2"/>
          <a:stretch/>
        </p:blipFill>
        <p:spPr>
          <a:xfrm>
            <a:off x="5286240" y="85716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3 Imagen" descr="MUSICA2.jpg"/>
          <p:cNvPicPr/>
          <p:nvPr/>
        </p:nvPicPr>
        <p:blipFill>
          <a:blip r:embed="rId1"/>
          <a:stretch/>
        </p:blipFill>
        <p:spPr>
          <a:xfrm>
            <a:off x="357120" y="3143160"/>
            <a:ext cx="3835440" cy="3357720"/>
          </a:xfrm>
          <a:prstGeom prst="rect">
            <a:avLst/>
          </a:prstGeom>
          <a:ln w="0">
            <a:noFill/>
          </a:ln>
        </p:spPr>
      </p:pic>
      <p:sp>
        <p:nvSpPr>
          <p:cNvPr id="111" name="6 Rectángulo"/>
          <p:cNvSpPr/>
          <p:nvPr/>
        </p:nvSpPr>
        <p:spPr>
          <a:xfrm>
            <a:off x="0" y="92880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10. Practicar la conversación  inteligente  y  memoriza   nombres y cantantes de  canciones de va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épocas. </a:t>
            </a:r>
            <a:r>
              <a:rPr b="1" i="1" lang="es-MX" sz="2400" spc="-1" strike="noStrike">
                <a:solidFill>
                  <a:srgbClr val="0000ff"/>
                </a:solidFill>
                <a:latin typeface="Arial"/>
              </a:rPr>
              <a:t>Conversaciones profundas o intelectuales promueven la eficiencia cerebral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http://us.123rf.com/400wm/400/400/logos/logos0902/logos090200089/4328241.jpg"/>
          <p:cNvPicPr/>
          <p:nvPr/>
        </p:nvPicPr>
        <p:blipFill>
          <a:blip r:embed="rId2"/>
          <a:stretch/>
        </p:blipFill>
        <p:spPr>
          <a:xfrm>
            <a:off x="4857840" y="2357280"/>
            <a:ext cx="3686040" cy="3810240"/>
          </a:xfrm>
          <a:prstGeom prst="rect">
            <a:avLst/>
          </a:prstGeom>
          <a:ln w="0">
            <a:noFill/>
          </a:ln>
        </p:spPr>
      </p:pic>
      <p:pic>
        <p:nvPicPr>
          <p:cNvPr id="113" name="12 Imagen" descr="MUSICA1.jpg"/>
          <p:cNvPicPr/>
          <p:nvPr/>
        </p:nvPicPr>
        <p:blipFill>
          <a:blip r:embed="rId3"/>
          <a:stretch/>
        </p:blipFill>
        <p:spPr>
          <a:xfrm>
            <a:off x="214200" y="2428920"/>
            <a:ext cx="250056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14 Imagen" descr="MUSICA3.png"/>
          <p:cNvPicPr/>
          <p:nvPr/>
        </p:nvPicPr>
        <p:blipFill>
          <a:blip r:embed="rId4"/>
          <a:stretch/>
        </p:blipFill>
        <p:spPr>
          <a:xfrm>
            <a:off x="3571920" y="3714840"/>
            <a:ext cx="828720" cy="239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50007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Estos oxidantes en los humanos causan estrés oxidativo y matan células. Este efecto se ha asociado con muchas enfermedades humanas . La vitamina C, y  E son usadas como suplementos dietéticos con la esperanza de prevenir enfermedades tales como el cánc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1141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Un antioxidante es capaz de retardar o prevenir la oxidación. Es una  reacción química de transferencia de electrones.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Un oxidante (humo del cigarro, contaminación y estrés) 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producen radicales libres que causan  reacciones en cadena que dañan las células huma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genoma"/>
          <p:cNvPicPr/>
          <p:nvPr/>
        </p:nvPicPr>
        <p:blipFill>
          <a:blip r:embed="rId1"/>
          <a:stretch/>
        </p:blipFill>
        <p:spPr>
          <a:xfrm>
            <a:off x="147600" y="2571840"/>
            <a:ext cx="1806480" cy="2462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radicaleslibres"/>
          <p:cNvPicPr/>
          <p:nvPr/>
        </p:nvPicPr>
        <p:blipFill>
          <a:blip r:embed="rId2"/>
          <a:stretch/>
        </p:blipFill>
        <p:spPr>
          <a:xfrm>
            <a:off x="2214720" y="2482920"/>
            <a:ext cx="4643280" cy="2509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narot%7E1"/>
          <p:cNvPicPr/>
          <p:nvPr/>
        </p:nvPicPr>
        <p:blipFill>
          <a:blip r:embed="rId3"/>
          <a:stretch/>
        </p:blipFill>
        <p:spPr>
          <a:xfrm>
            <a:off x="7786800" y="2417760"/>
            <a:ext cx="928440" cy="2516040"/>
          </a:xfrm>
          <a:prstGeom prst="rect">
            <a:avLst/>
          </a:prstGeom>
          <a:ln w="0">
            <a:noFill/>
          </a:ln>
        </p:spPr>
      </p:pic>
      <p:sp>
        <p:nvSpPr>
          <p:cNvPr id="120" name="9 CuadroTexto"/>
          <p:cNvSpPr/>
          <p:nvPr/>
        </p:nvSpPr>
        <p:spPr>
          <a:xfrm>
            <a:off x="0" y="78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¿PORQUE DEBEMOS DE CONSUMIR ANTIOXIDANT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9 Grupo"/>
          <p:cNvGrpSpPr/>
          <p:nvPr/>
        </p:nvGrpSpPr>
        <p:grpSpPr>
          <a:xfrm>
            <a:off x="0" y="1463760"/>
            <a:ext cx="4929120" cy="4834800"/>
            <a:chOff x="0" y="1463760"/>
            <a:chExt cx="4929120" cy="4834800"/>
          </a:xfrm>
        </p:grpSpPr>
        <p:grpSp>
          <p:nvGrpSpPr>
            <p:cNvPr id="122" name="8 Rectángulo"/>
            <p:cNvGrpSpPr/>
            <p:nvPr/>
          </p:nvGrpSpPr>
          <p:grpSpPr>
            <a:xfrm>
              <a:off x="0" y="1463760"/>
              <a:ext cx="4415760" cy="1085400"/>
              <a:chOff x="0" y="1463760"/>
              <a:chExt cx="4415760" cy="1085400"/>
            </a:xfrm>
          </p:grpSpPr>
          <p:pic>
            <p:nvPicPr>
              <p:cNvPr id="123" name="8 Rectángulo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463760"/>
                <a:ext cx="4415760" cy="10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7760" y="1542240"/>
                <a:ext cx="4257720" cy="94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0000"/>
                    </a:solidFill>
                    <a:latin typeface="Arial"/>
                  </a:rPr>
                  <a:t>Toma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Con </a:t>
                </a:r>
                <a:r>
                  <a:rPr b="1" lang="es-ES" sz="1800" spc="-1" strike="noStrike">
                    <a:solidFill>
                      <a:srgbClr val="00b050"/>
                    </a:solidFill>
                    <a:latin typeface="Arial"/>
                  </a:rPr>
                  <a:t>antioxidantes</a:t>
                </a: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 </a:t>
                </a: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que ayudan en 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ff"/>
                    </a:solidFill>
                    <a:latin typeface="Arial"/>
                  </a:rPr>
                  <a:t>Prevención del cánce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3 Rectángulo"/>
            <p:cNvSpPr/>
            <p:nvPr/>
          </p:nvSpPr>
          <p:spPr>
            <a:xfrm>
              <a:off x="77760" y="2498040"/>
              <a:ext cx="44294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ceite de oliva</a:t>
              </a:r>
              <a:br>
                <a:rPr sz="2000"/>
              </a:b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Principal componente de la dieta    “ Mediterráneo” ayuda al coraz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4 Rectángulo"/>
            <p:cNvSpPr/>
            <p:nvPr/>
          </p:nvSpPr>
          <p:spPr>
            <a:xfrm>
              <a:off x="77760" y="3561480"/>
              <a:ext cx="46404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Uvas rojas y vino tinto</a:t>
              </a:r>
              <a:br>
                <a:rPr sz="2000"/>
              </a:b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Con </a:t>
              </a:r>
              <a:r>
                <a:rPr b="1" lang="es-ES" sz="1800" spc="-1" strike="noStrike">
                  <a:solidFill>
                    <a:srgbClr val="00b050"/>
                  </a:solidFill>
                  <a:latin typeface="Arial"/>
                </a:rPr>
                <a:t>antioxidantes</a:t>
              </a: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y flavonoides 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Tiene efectos saludables en el coraz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5 Rectángulo"/>
            <p:cNvSpPr/>
            <p:nvPr/>
          </p:nvSpPr>
          <p:spPr>
            <a:xfrm>
              <a:off x="77760" y="4517280"/>
              <a:ext cx="43948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Aj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Con evidencias altas de efectos muy saludables en corazón y cánc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6 Rectángulo"/>
            <p:cNvSpPr/>
            <p:nvPr/>
          </p:nvSpPr>
          <p:spPr>
            <a:xfrm>
              <a:off x="77760" y="5351040"/>
              <a:ext cx="48513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Espinac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Con muy altos beneficios de efecto de los  </a:t>
              </a:r>
              <a:r>
                <a:rPr b="1" lang="es-ES" sz="1800" spc="-1" strike="noStrike">
                  <a:solidFill>
                    <a:srgbClr val="00b050"/>
                  </a:solidFill>
                  <a:latin typeface="Arial"/>
                </a:rPr>
                <a:t>antioxidantes</a:t>
              </a:r>
              <a:r>
                <a:rPr b="1" lang="es-ES" sz="1800" spc="-1" strike="noStrike">
                  <a:solidFill>
                    <a:srgbClr val="00b050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que combate el cánc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8 Rectángulo"/>
          <p:cNvSpPr/>
          <p:nvPr/>
        </p:nvSpPr>
        <p:spPr>
          <a:xfrm>
            <a:off x="4643280" y="1535040"/>
            <a:ext cx="4326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os granos 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Contienen agentes contra el cáncer y el azúcar en la  sangre mejora  el transito intest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Rectángulo"/>
          <p:cNvSpPr/>
          <p:nvPr/>
        </p:nvSpPr>
        <p:spPr>
          <a:xfrm>
            <a:off x="4643280" y="2687760"/>
            <a:ext cx="4500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alm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Alto de  omega-3, alivia    muchas de    las enfermedades crónica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Rectángulo"/>
          <p:cNvSpPr/>
          <p:nvPr/>
        </p:nvSpPr>
        <p:spPr>
          <a:xfrm>
            <a:off x="4643280" y="3551400"/>
            <a:ext cx="4465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u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Almendras y nueces disminuyen  el colesterol en sangre. la grasa del tipo monoinsaturado y / o omega-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 Rectángulo"/>
          <p:cNvSpPr/>
          <p:nvPr/>
        </p:nvSpPr>
        <p:spPr>
          <a:xfrm>
            <a:off x="4678200" y="4703760"/>
            <a:ext cx="44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ránd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Alto contenido de </a:t>
            </a:r>
            <a:r>
              <a:rPr b="1" lang="es-ES" sz="2000" spc="-1" strike="noStrike">
                <a:solidFill>
                  <a:srgbClr val="00b050"/>
                </a:solidFill>
                <a:latin typeface="Arial"/>
              </a:rPr>
              <a:t>antioxidantes.</a:t>
            </a: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6 Rectángulo"/>
          <p:cNvSpPr/>
          <p:nvPr/>
        </p:nvSpPr>
        <p:spPr>
          <a:xfrm>
            <a:off x="4643280" y="535140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EL verde y negro tienen ef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33ff"/>
                </a:solidFill>
                <a:latin typeface="Arial"/>
              </a:rPr>
              <a:t>positivo de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antioxid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CuadroTexto"/>
          <p:cNvSpPr/>
          <p:nvPr/>
        </p:nvSpPr>
        <p:spPr>
          <a:xfrm>
            <a:off x="0" y="928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OS 10 ALIMENTOS   QUE FAVORECEN  LA LONGE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8 Rectángulo"/>
          <p:cNvGrpSpPr/>
          <p:nvPr/>
        </p:nvGrpSpPr>
        <p:grpSpPr>
          <a:xfrm>
            <a:off x="-189000" y="938160"/>
            <a:ext cx="4559400" cy="1176480"/>
            <a:chOff x="-189000" y="938160"/>
            <a:chExt cx="4559400" cy="1176480"/>
          </a:xfrm>
        </p:grpSpPr>
        <p:pic>
          <p:nvPicPr>
            <p:cNvPr id="136" name="8 Rectángulo" descr=""/>
            <p:cNvPicPr/>
            <p:nvPr/>
          </p:nvPicPr>
          <p:blipFill>
            <a:blip r:embed="rId1"/>
            <a:stretch/>
          </p:blipFill>
          <p:spPr>
            <a:xfrm>
              <a:off x="-189000" y="938160"/>
              <a:ext cx="45594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-71280" y="1052640"/>
              <a:ext cx="43257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00"/>
                  </a:solidFill>
                  <a:latin typeface="Arial"/>
                </a:rPr>
                <a:t>Estrés</a:t>
              </a:r>
              <a:br>
                <a:rPr sz="2000"/>
              </a:br>
              <a:r>
                <a:rPr b="1" lang="es-ES" sz="1800" spc="-1" strike="noStrike">
                  <a:solidFill>
                    <a:srgbClr val="3333ff"/>
                  </a:solidFill>
                  <a:latin typeface="Arial"/>
                </a:rPr>
                <a:t>Obesidad, insomnio, problemas del corazón y el sistema inmunológico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3 Rectángulo"/>
          <p:cNvSpPr/>
          <p:nvPr/>
        </p:nvSpPr>
        <p:spPr>
          <a:xfrm>
            <a:off x="-71280" y="2247840"/>
            <a:ext cx="4500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Falta de ejercicio físico</a:t>
            </a:r>
            <a:br>
              <a:rPr sz="2000"/>
            </a:br>
            <a:r>
              <a:rPr b="1" lang="es-ES" sz="20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fectos acumulativos  en el cuerpo y problemas de salud como diabe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Rectángulo"/>
          <p:cNvSpPr/>
          <p:nvPr/>
        </p:nvSpPr>
        <p:spPr>
          <a:xfrm>
            <a:off x="-71280" y="3324240"/>
            <a:ext cx="446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 ejercitar el cerebro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“El cerebro necesita desarrollar nuevos caminos  cada día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5 Rectángulo"/>
          <p:cNvSpPr/>
          <p:nvPr/>
        </p:nvSpPr>
        <p:spPr>
          <a:xfrm>
            <a:off x="-71280" y="4292640"/>
            <a:ext cx="446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Mala nutrición y exceso de peso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La falta de nutrientes balanceados  y exceso de peso causan mala sal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6 Rectángulo"/>
          <p:cNvSpPr/>
          <p:nvPr/>
        </p:nvSpPr>
        <p:spPr>
          <a:xfrm>
            <a:off x="-71280" y="5137200"/>
            <a:ext cx="4929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Fu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Causa Enfisema, cáncer, rápido  envejecimiento de la piel, problemas cardía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 Rectángulo"/>
          <p:cNvSpPr/>
          <p:nvPr/>
        </p:nvSpPr>
        <p:spPr>
          <a:xfrm>
            <a:off x="4286160" y="135108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Actitud pesimista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Debilita el sistema inmunológico, “Solo hay mirar el lado bueno de las cosa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0 Rectángulo"/>
          <p:cNvSpPr/>
          <p:nvPr/>
        </p:nvSpPr>
        <p:spPr>
          <a:xfrm>
            <a:off x="4286160" y="2208240"/>
            <a:ext cx="4857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 tener una relación estable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 Los que se divorcian tienen un riesgo 40 % mayor de tener una muerte prem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1 Rectángulo"/>
          <p:cNvSpPr/>
          <p:nvPr/>
        </p:nvSpPr>
        <p:spPr>
          <a:xfrm>
            <a:off x="4286160" y="3065400"/>
            <a:ext cx="5143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cohol</a:t>
            </a:r>
            <a:br>
              <a:rPr sz="2000"/>
            </a:br>
            <a:r>
              <a:rPr b="1" lang="es-MX" sz="1800" spc="-1" strike="noStrike">
                <a:solidFill>
                  <a:srgbClr val="3333ff"/>
                </a:solidFill>
                <a:latin typeface="Arial"/>
              </a:rPr>
              <a:t>1 o 2 vasos al día ayudan a  prevenir varios  problemas del corazón. Mas del límite, las  ventajas se  pi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2 Rectángulo"/>
          <p:cNvSpPr/>
          <p:nvPr/>
        </p:nvSpPr>
        <p:spPr>
          <a:xfrm>
            <a:off x="4286160" y="4208400"/>
            <a:ext cx="4857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stilo de vida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Los excesos en ejercicio físico y trabajo, la falta de  sueño nocturno y el estrés, causan deterioro en la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3 Rectángulo"/>
          <p:cNvSpPr/>
          <p:nvPr/>
        </p:nvSpPr>
        <p:spPr>
          <a:xfrm>
            <a:off x="4286160" y="5351400"/>
            <a:ext cx="4857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 intentar cambiar para mejorar</a:t>
            </a:r>
            <a:br>
              <a:rPr sz="2000"/>
            </a:br>
            <a:r>
              <a:rPr b="1" lang="es-ES" sz="1800" spc="-1" strike="noStrike">
                <a:solidFill>
                  <a:srgbClr val="3333ff"/>
                </a:solidFill>
                <a:latin typeface="Arial"/>
              </a:rPr>
              <a:t>Toma tiempo cambiar malos hábitos, si no se logra, no rendirse: empezar otra ve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9 CuadroTexto"/>
          <p:cNvSpPr/>
          <p:nvPr/>
        </p:nvSpPr>
        <p:spPr>
          <a:xfrm>
            <a:off x="0" y="857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S 10 COSAS QUE MAS ENVEJE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2:49:23Z</dcterms:created>
  <dc:creator>Julian  Alvarez</dc:creator>
  <dc:description/>
  <dc:language>en-US</dc:language>
  <cp:lastModifiedBy>Julian  Alvarez</cp:lastModifiedBy>
  <dcterms:modified xsi:type="dcterms:W3CDTF">2009-09-30T23:39:25Z</dcterms:modified>
  <cp:revision>287</cp:revision>
  <dc:subject/>
  <dc:title>Diapositiva 1</dc:title>
</cp:coreProperties>
</file>