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B57-8B2F-4DD1-993C-FCAA77588AC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43E3-EEEC-4626-AB59-D5E9453781A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D30-E768-4E66-B65F-C04AB986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FE3-C0A2-4A1E-9DB9-7041557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583-7699-4E3D-A668-F3B1BD36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700-2DFC-4C87-98AD-7C3DB9E4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C72B9-AC9A-4799-9B54-A1A3F9AC9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D72A-1372-406B-8F28-0A4C3B42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F3F1-1F54-4E43-A3EC-A8D318D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67A97-A679-43DF-8510-795C1C5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E7A70-FCE3-48D9-B51C-19023CCB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D165-7CD7-44FE-8767-6FD63784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C43AF-EAEC-4F6D-A9FA-64C2A4C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B1C-42D0-4357-B9AD-86B222E2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B34A8-7DB7-4C59-8B98-9AD6C80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E7DA8-5E49-40D4-ABAF-8FB0C5C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6A307-183E-41E2-9499-CA331371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2989-C6ED-4F1C-84C9-060CFA9B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334D-0F29-4A59-A81D-385297849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F7C-FFC0-45A4-A102-782A465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4E7-E56E-4B9F-BDF0-8FC4960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CA8-5509-434D-A424-E8E58A0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1CC-7C4F-4689-BF1C-669803F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B93-68F0-42A0-99E6-89DEEF7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F54-2AF0-494C-97F1-91355BF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3BF-7432-4C1B-AEAE-9C878F4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A1B-7741-45AC-AD30-7F83B20A94C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 Conector recto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soporte2008"/>
          <p:cNvPicPr/>
          <p:nvPr/>
        </p:nvPicPr>
        <p:blipFill>
          <a:blip r:embed="rId2"/>
          <a:stretch/>
        </p:blipFill>
        <p:spPr>
          <a:xfrm>
            <a:off x="0" y="0"/>
            <a:ext cx="162072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8 Rectángulo"/>
          <p:cNvSpPr/>
          <p:nvPr/>
        </p:nvSpPr>
        <p:spPr>
          <a:xfrm>
            <a:off x="2591640" y="21420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HABITOS QUE DAÑAN EL CEREBRO Y TU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3231360" y="628668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www.soporteycalida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6AE-4F35-434D-AEDE-923E1403A9D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0 Rectángulo"/>
          <p:cNvSpPr/>
          <p:nvPr/>
        </p:nvSpPr>
        <p:spPr>
          <a:xfrm>
            <a:off x="0" y="857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xisten hábitos en la vida diaria que dañan al cerebro, prácticamente se destruyen las neuronas disminuyendo  sensiblemente la cantidad de las mis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Rectángulo"/>
          <p:cNvSpPr/>
          <p:nvPr/>
        </p:nvSpPr>
        <p:spPr>
          <a:xfrm>
            <a:off x="285840" y="2214720"/>
            <a:ext cx="414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No Desayunar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a gente que no desayuna tiene bajo nivel de azúcar en la sangre. Esto genera insuficiente suministro de nutrientes al cerebro causando su degeneración paulatina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http://3.bp.blogspot.com/_G5tq-foG4KM/SSeFKHq5MKI/AAAAAAAAACw/v6yzCXDoZHc/s400/cerebro.jpg"/>
          <p:cNvPicPr/>
          <p:nvPr/>
        </p:nvPicPr>
        <p:blipFill>
          <a:blip r:embed="rId1"/>
          <a:stretch/>
        </p:blipFill>
        <p:spPr>
          <a:xfrm>
            <a:off x="4857840" y="2143080"/>
            <a:ext cx="3571920" cy="43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9 Rectángulo"/>
          <p:cNvSpPr/>
          <p:nvPr/>
        </p:nvSpPr>
        <p:spPr>
          <a:xfrm>
            <a:off x="214200" y="1214280"/>
            <a:ext cx="41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2.- Comer de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sto causa el endurecimiento de las arterias del cerebro, causando además  baja capacidad men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Rectángulo"/>
          <p:cNvSpPr/>
          <p:nvPr/>
        </p:nvSpPr>
        <p:spPr>
          <a:xfrm>
            <a:off x="357120" y="40006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3.- Fum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 la dismin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l tamaño cerebral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romueve además Alzhei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http://files.nireblog.com/blogs1/date/files/smoke3ci.jpg"/>
          <p:cNvPicPr/>
          <p:nvPr/>
        </p:nvPicPr>
        <p:blipFill>
          <a:blip r:embed="rId1"/>
          <a:stretch/>
        </p:blipFill>
        <p:spPr>
          <a:xfrm>
            <a:off x="5214960" y="3643200"/>
            <a:ext cx="2857320" cy="225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imblog.aufeminin.com/blog/D20090217/364595_372779488_obesidad-gordura_H192658_L.jpg"/>
          <p:cNvPicPr/>
          <p:nvPr/>
        </p:nvPicPr>
        <p:blipFill>
          <a:blip r:embed="rId2"/>
          <a:stretch/>
        </p:blipFill>
        <p:spPr>
          <a:xfrm>
            <a:off x="5143680" y="10000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4 Rectángulo"/>
          <p:cNvSpPr/>
          <p:nvPr/>
        </p:nvSpPr>
        <p:spPr>
          <a:xfrm>
            <a:off x="4643280" y="928800"/>
            <a:ext cx="45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4.-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sumir altas cantidades de azú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alto consumo de azú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interrumpe la absor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roteínas y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ndo mala nutri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uede interferir e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sarrollo del ce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5 Rectángulo"/>
          <p:cNvSpPr/>
          <p:nvPr/>
        </p:nvSpPr>
        <p:spPr>
          <a:xfrm>
            <a:off x="0" y="3643200"/>
            <a:ext cx="51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5.-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taminación del 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cerebro es el más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onsumidor de oxígen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uerpo. Inhalar aire conta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minuye su oxig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generando una dismin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 la eficiencia cereb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3397320" cy="2352960"/>
          </a:xfrm>
          <a:prstGeom prst="rect">
            <a:avLst/>
          </a:prstGeom>
          <a:ln w="0">
            <a:noFill/>
          </a:ln>
        </p:spPr>
      </p:pic>
      <p:pic>
        <p:nvPicPr>
          <p:cNvPr id="102" name="19 Imagen" descr="contaminaciom.jpg"/>
          <p:cNvPicPr/>
          <p:nvPr/>
        </p:nvPicPr>
        <p:blipFill>
          <a:blip r:embed="rId2"/>
          <a:stretch/>
        </p:blipFill>
        <p:spPr>
          <a:xfrm>
            <a:off x="5000760" y="4214880"/>
            <a:ext cx="336708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9 Rectángulo"/>
          <p:cNvSpPr/>
          <p:nvPr/>
        </p:nvSpPr>
        <p:spPr>
          <a:xfrm>
            <a:off x="4000680" y="857160"/>
            <a:ext cx="485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6.-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Dormir po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dormir permite a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scansar. La falta de sue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or periodos prolong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celera la pérdida de célu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l cereb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4000680" y="392904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7.-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ormir con la cabeza cubier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dormir así aument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oncentración de dióxid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rbono y disminuye el oxí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ndo efectos adverso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uestro cereb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3 Imagen" descr="MUSICA4.jpg"/>
          <p:cNvPicPr/>
          <p:nvPr/>
        </p:nvPicPr>
        <p:blipFill>
          <a:blip r:embed="rId1"/>
          <a:stretch/>
        </p:blipFill>
        <p:spPr>
          <a:xfrm>
            <a:off x="198360" y="1071720"/>
            <a:ext cx="380232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2 Rectángulo"/>
          <p:cNvSpPr/>
          <p:nvPr/>
        </p:nvSpPr>
        <p:spPr>
          <a:xfrm>
            <a:off x="0" y="85716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8. Hacer trabajar al cereb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uando estamos enfer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Trabajar y estudiar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stás enfermo además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ficultad del cerebr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responder en ese estado,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añ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Rectángulo"/>
          <p:cNvSpPr/>
          <p:nvPr/>
        </p:nvSpPr>
        <p:spPr>
          <a:xfrm>
            <a:off x="4000680" y="392904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9. Falta de estimul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Pensar es la mejor maner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estimular nuestro cerebro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hacerlo provoca que e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disminuya su tamaño y por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tanto su capac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http://chocolatelabial.com/wp-content/uploads/2008/04/pensar-en-uno.jpg"/>
          <p:cNvPicPr/>
          <p:nvPr/>
        </p:nvPicPr>
        <p:blipFill>
          <a:blip r:embed="rId1"/>
          <a:stretch/>
        </p:blipFill>
        <p:spPr>
          <a:xfrm>
            <a:off x="285840" y="3429000"/>
            <a:ext cx="2428920" cy="3132000"/>
          </a:xfrm>
          <a:prstGeom prst="rect">
            <a:avLst/>
          </a:prstGeom>
          <a:ln w="0">
            <a:noFill/>
          </a:ln>
        </p:spPr>
      </p:pic>
      <p:pic>
        <p:nvPicPr>
          <p:cNvPr id="109" name="16 Imagen" descr="MUSIC6.jpg"/>
          <p:cNvPicPr/>
          <p:nvPr/>
        </p:nvPicPr>
        <p:blipFill>
          <a:blip r:embed="rId2"/>
          <a:stretch/>
        </p:blipFill>
        <p:spPr>
          <a:xfrm>
            <a:off x="5286240" y="85716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3 Imagen" descr="MUSICA2.jpg"/>
          <p:cNvPicPr/>
          <p:nvPr/>
        </p:nvPicPr>
        <p:blipFill>
          <a:blip r:embed="rId1"/>
          <a:stretch/>
        </p:blipFill>
        <p:spPr>
          <a:xfrm>
            <a:off x="357120" y="3143160"/>
            <a:ext cx="3835440" cy="3357720"/>
          </a:xfrm>
          <a:prstGeom prst="rect">
            <a:avLst/>
          </a:prstGeom>
          <a:ln w="0">
            <a:noFill/>
          </a:ln>
        </p:spPr>
      </p:pic>
      <p:sp>
        <p:nvSpPr>
          <p:cNvPr id="111" name="6 Rectángulo"/>
          <p:cNvSpPr/>
          <p:nvPr/>
        </p:nvSpPr>
        <p:spPr>
          <a:xfrm>
            <a:off x="0" y="9288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10. Practicar la conversación  inteligente  y  memoriza   nombres y cantantes de  canciones de va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épocas.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Conversaciones profundas o intelectuales promueven la eficiencia cerebral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http://us.123rf.com/400wm/400/400/logos/logos0902/logos090200089/4328241.jpg"/>
          <p:cNvPicPr/>
          <p:nvPr/>
        </p:nvPicPr>
        <p:blipFill>
          <a:blip r:embed="rId2"/>
          <a:stretch/>
        </p:blipFill>
        <p:spPr>
          <a:xfrm>
            <a:off x="4857840" y="2357280"/>
            <a:ext cx="3686040" cy="3810240"/>
          </a:xfrm>
          <a:prstGeom prst="rect">
            <a:avLst/>
          </a:prstGeom>
          <a:ln w="0">
            <a:noFill/>
          </a:ln>
        </p:spPr>
      </p:pic>
      <p:pic>
        <p:nvPicPr>
          <p:cNvPr id="113" name="12 Imagen" descr="MUSICA1.jpg"/>
          <p:cNvPicPr/>
          <p:nvPr/>
        </p:nvPicPr>
        <p:blipFill>
          <a:blip r:embed="rId3"/>
          <a:stretch/>
        </p:blipFill>
        <p:spPr>
          <a:xfrm>
            <a:off x="214200" y="2428920"/>
            <a:ext cx="250056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14 Imagen" descr="MUSICA3.png"/>
          <p:cNvPicPr/>
          <p:nvPr/>
        </p:nvPicPr>
        <p:blipFill>
          <a:blip r:embed="rId4"/>
          <a:stretch/>
        </p:blipFill>
        <p:spPr>
          <a:xfrm>
            <a:off x="3571920" y="3714840"/>
            <a:ext cx="828720" cy="239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50007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Estos oxidantes en los humanos causan estrés oxidativo y matan células. Este efecto se ha asociado con muchas enfermedades humanas . La vitamina C, y  E son usadas como suplementos dietéticos con la esperanza de prevenir enfermedades tales como el cánc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141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Un antioxidante es capaz de retardar o prevenir la oxidación. Es una  reacción química de transferencia de electrone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Un oxidante (humo del cigarro, contaminación y estrés)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producen radicales libres que causan  reacciones en cadena que dañan las células huma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genoma"/>
          <p:cNvPicPr/>
          <p:nvPr/>
        </p:nvPicPr>
        <p:blipFill>
          <a:blip r:embed="rId1"/>
          <a:stretch/>
        </p:blipFill>
        <p:spPr>
          <a:xfrm>
            <a:off x="147600" y="2571840"/>
            <a:ext cx="1806480" cy="246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radicaleslibres"/>
          <p:cNvPicPr/>
          <p:nvPr/>
        </p:nvPicPr>
        <p:blipFill>
          <a:blip r:embed="rId2"/>
          <a:stretch/>
        </p:blipFill>
        <p:spPr>
          <a:xfrm>
            <a:off x="2214720" y="2482920"/>
            <a:ext cx="4643280" cy="250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narot%7E1"/>
          <p:cNvPicPr/>
          <p:nvPr/>
        </p:nvPicPr>
        <p:blipFill>
          <a:blip r:embed="rId3"/>
          <a:stretch/>
        </p:blipFill>
        <p:spPr>
          <a:xfrm>
            <a:off x="7786800" y="2417760"/>
            <a:ext cx="928440" cy="2516040"/>
          </a:xfrm>
          <a:prstGeom prst="rect">
            <a:avLst/>
          </a:prstGeom>
          <a:ln w="0">
            <a:noFill/>
          </a:ln>
        </p:spPr>
      </p:pic>
      <p:sp>
        <p:nvSpPr>
          <p:cNvPr id="120" name="9 CuadroTexto"/>
          <p:cNvSpPr/>
          <p:nvPr/>
        </p:nvSpPr>
        <p:spPr>
          <a:xfrm>
            <a:off x="0" y="78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¿PORQUE DEBEMOS DE CONSUMIR ANTIOXIDANT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9 Grupo"/>
          <p:cNvGrpSpPr/>
          <p:nvPr/>
        </p:nvGrpSpPr>
        <p:grpSpPr>
          <a:xfrm>
            <a:off x="0" y="1463760"/>
            <a:ext cx="4929120" cy="4834800"/>
            <a:chOff x="0" y="1463760"/>
            <a:chExt cx="4929120" cy="4834800"/>
          </a:xfrm>
        </p:grpSpPr>
        <p:grpSp>
          <p:nvGrpSpPr>
            <p:cNvPr id="122" name="8 Rectángulo"/>
            <p:cNvGrpSpPr/>
            <p:nvPr/>
          </p:nvGrpSpPr>
          <p:grpSpPr>
            <a:xfrm>
              <a:off x="0" y="1463760"/>
              <a:ext cx="4415760" cy="1085400"/>
              <a:chOff x="0" y="1463760"/>
              <a:chExt cx="4415760" cy="1085400"/>
            </a:xfrm>
          </p:grpSpPr>
          <p:pic>
            <p:nvPicPr>
              <p:cNvPr id="123" name="8 Rectángulo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463760"/>
                <a:ext cx="441576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7760" y="1542240"/>
                <a:ext cx="4257720" cy="9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0000"/>
                    </a:solidFill>
                    <a:latin typeface="Arial"/>
                  </a:rPr>
                  <a:t>Tom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Con </a:t>
                </a:r>
                <a:r>
                  <a:rPr b="1" lang="es-ES" sz="1800" spc="-1" strike="noStrike">
                    <a:solidFill>
                      <a:srgbClr val="00b050"/>
                    </a:solidFill>
                    <a:latin typeface="Arial"/>
                  </a:rPr>
                  <a:t>antioxidantes</a:t>
                </a: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 </a:t>
                </a: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que ayudan en 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Prevención del cánce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3 Rectángulo"/>
            <p:cNvSpPr/>
            <p:nvPr/>
          </p:nvSpPr>
          <p:spPr>
            <a:xfrm>
              <a:off x="77760" y="2498040"/>
              <a:ext cx="44294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ceite de oliva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Principal componente de la dieta    “ Mediterráneo” ayuda al coraz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4 Rectángulo"/>
            <p:cNvSpPr/>
            <p:nvPr/>
          </p:nvSpPr>
          <p:spPr>
            <a:xfrm>
              <a:off x="77760" y="3561480"/>
              <a:ext cx="4640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Uvas rojas y vino tinto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antioxidantes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y flavonoides 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Tiene efectos saludables en el coraz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5 Rectángulo"/>
            <p:cNvSpPr/>
            <p:nvPr/>
          </p:nvSpPr>
          <p:spPr>
            <a:xfrm>
              <a:off x="77760" y="4517280"/>
              <a:ext cx="4394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evidencias altas de efectos muy saludables en corazón y cánc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6 Rectángulo"/>
            <p:cNvSpPr/>
            <p:nvPr/>
          </p:nvSpPr>
          <p:spPr>
            <a:xfrm>
              <a:off x="77760" y="5351040"/>
              <a:ext cx="48513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Espina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muy altos beneficios de efecto de los  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antioxidantes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que combate el cánc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8 Rectángulo"/>
          <p:cNvSpPr/>
          <p:nvPr/>
        </p:nvSpPr>
        <p:spPr>
          <a:xfrm>
            <a:off x="4643280" y="1535040"/>
            <a:ext cx="4326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os granos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Contienen agentes contra el cáncer y el azúcar en la  sangre mejora  el transito intest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4643280" y="2687760"/>
            <a:ext cx="450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alm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Alto de  omega-3, alivia    muchas de    las enfermedades crónica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Rectángulo"/>
          <p:cNvSpPr/>
          <p:nvPr/>
        </p:nvSpPr>
        <p:spPr>
          <a:xfrm>
            <a:off x="4643280" y="3551400"/>
            <a:ext cx="4465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u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Almendras y nueces disminuyen  el colesterol en sangre. la grasa del tipo monoinsaturado y / o omega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Rectángulo"/>
          <p:cNvSpPr/>
          <p:nvPr/>
        </p:nvSpPr>
        <p:spPr>
          <a:xfrm>
            <a:off x="4678200" y="470376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ránd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Alto contenido de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ntioxidantes.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 Rectángulo"/>
          <p:cNvSpPr/>
          <p:nvPr/>
        </p:nvSpPr>
        <p:spPr>
          <a:xfrm>
            <a:off x="4643280" y="53514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EL verde y negro tienen ef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positivo de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antioxid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CuadroTexto"/>
          <p:cNvSpPr/>
          <p:nvPr/>
        </p:nvSpPr>
        <p:spPr>
          <a:xfrm>
            <a:off x="0" y="9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OS 10 ALIMENTOS   QUE FAVORECEN  LA LONGE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8 Rectángulo"/>
          <p:cNvGrpSpPr/>
          <p:nvPr/>
        </p:nvGrpSpPr>
        <p:grpSpPr>
          <a:xfrm>
            <a:off x="-189000" y="938160"/>
            <a:ext cx="4559400" cy="1176480"/>
            <a:chOff x="-189000" y="938160"/>
            <a:chExt cx="4559400" cy="1176480"/>
          </a:xfrm>
        </p:grpSpPr>
        <p:pic>
          <p:nvPicPr>
            <p:cNvPr id="136" name="8 Rectángulo" descr=""/>
            <p:cNvPicPr/>
            <p:nvPr/>
          </p:nvPicPr>
          <p:blipFill>
            <a:blip r:embed="rId1"/>
            <a:stretch/>
          </p:blipFill>
          <p:spPr>
            <a:xfrm>
              <a:off x="-189000" y="938160"/>
              <a:ext cx="45594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-71280" y="1052640"/>
              <a:ext cx="43257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Estrés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Obesidad, insomnio, problemas del corazón y el sistema inmunológico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3 Rectángulo"/>
          <p:cNvSpPr/>
          <p:nvPr/>
        </p:nvSpPr>
        <p:spPr>
          <a:xfrm>
            <a:off x="-71280" y="2247840"/>
            <a:ext cx="4500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alta de ejercicio físico</a:t>
            </a:r>
            <a:br>
              <a:rPr sz="2000"/>
            </a:b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fectos acumulativos  en el cuerpo y problemas de salud como diabe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Rectángulo"/>
          <p:cNvSpPr/>
          <p:nvPr/>
        </p:nvSpPr>
        <p:spPr>
          <a:xfrm>
            <a:off x="-71280" y="3324240"/>
            <a:ext cx="44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ejercitar el cerebro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“El cerebro necesita desarrollar nuevos caminos  cada dí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 Rectángulo"/>
          <p:cNvSpPr/>
          <p:nvPr/>
        </p:nvSpPr>
        <p:spPr>
          <a:xfrm>
            <a:off x="-71280" y="4292640"/>
            <a:ext cx="44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Mala nutrición y exceso de peso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La falta de nutrientes balanceados  y exceso de peso causan mala sal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6 Rectángulo"/>
          <p:cNvSpPr/>
          <p:nvPr/>
        </p:nvSpPr>
        <p:spPr>
          <a:xfrm>
            <a:off x="-71280" y="5137200"/>
            <a:ext cx="4929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u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ausa Enfisema, cáncer, rápido  envejecimiento de la piel, problemas cardía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 Rectángulo"/>
          <p:cNvSpPr/>
          <p:nvPr/>
        </p:nvSpPr>
        <p:spPr>
          <a:xfrm>
            <a:off x="4286160" y="1351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Actitud pesimista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Debilita el sistema inmunológico, “Solo hay mirar el lado bueno de las cosa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0 Rectángulo"/>
          <p:cNvSpPr/>
          <p:nvPr/>
        </p:nvSpPr>
        <p:spPr>
          <a:xfrm>
            <a:off x="4286160" y="220824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tener una relación estable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 Los que se divorcian tienen un riesgo 40 % mayor de tener una muerte prem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1 Rectángulo"/>
          <p:cNvSpPr/>
          <p:nvPr/>
        </p:nvSpPr>
        <p:spPr>
          <a:xfrm>
            <a:off x="4286160" y="3065400"/>
            <a:ext cx="5143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cohol</a:t>
            </a:r>
            <a:br>
              <a:rPr sz="2000"/>
            </a:b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1 o 2 vasos al día ayudan a  prevenir varios  problemas del corazón. Mas del límite, las  ventajas se  pi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2 Rectángulo"/>
          <p:cNvSpPr/>
          <p:nvPr/>
        </p:nvSpPr>
        <p:spPr>
          <a:xfrm>
            <a:off x="4286160" y="4208400"/>
            <a:ext cx="4857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stilo de vida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Los excesos en ejercicio físico y trabajo, la falta de  sueño nocturno y el estrés, causan deterioro en la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3 Rectángulo"/>
          <p:cNvSpPr/>
          <p:nvPr/>
        </p:nvSpPr>
        <p:spPr>
          <a:xfrm>
            <a:off x="4286160" y="535140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intentar cambiar para mejorar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Toma tiempo cambiar malos hábitos, si no se logra, no rendirse: empezar otra v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 CuadroTexto"/>
          <p:cNvSpPr/>
          <p:nvPr/>
        </p:nvSpPr>
        <p:spPr>
          <a:xfrm>
            <a:off x="0" y="857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S 10 COSAS QUE MAS ENVEJE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2:49:23Z</dcterms:created>
  <dc:creator>Julian  Alvarez</dc:creator>
  <dc:description/>
  <dc:language>en-US</dc:language>
  <cp:lastModifiedBy>Julian  Alvarez</cp:lastModifiedBy>
  <dcterms:modified xsi:type="dcterms:W3CDTF">2009-09-30T23:39:25Z</dcterms:modified>
  <cp:revision>287</cp:revision>
  <dc:subject/>
  <dc:title>Diapositiva 1</dc:title>
</cp:coreProperties>
</file>