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Moonlight%20Sonata.wav" ContentType="audio/x-wav"/>
  <Override PartName="/ppt/media/image14.jpeg" ContentType="image/jpeg"/>
  <Override PartName="/ppt/media/image18.jpeg" ContentType="image/jpeg"/>
  <Override PartName="/ppt/media/image33.gif" ContentType="image/gif"/>
  <Override PartName="/ppt/media/image3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3F6-45CB-4858-98A9-EC2FDCCD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00D-AD0F-4B5F-A35D-98B48A88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5D0-FB83-4072-A1F9-51995A2A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CDC-6865-45EF-B64A-5C242D4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251-D9D3-4506-9917-778D716C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7AB-CEEF-4439-98FC-E8381F55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B75-23E4-496E-9743-B8FC5D94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C0D-12A8-4CB4-8851-FAE3B6A6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501-00C3-4991-9849-2E016233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320-CC18-4AC3-A241-14936689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834-73C5-4AE6-A2B6-00E8928B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D61-0C3C-40CB-BF4E-4FB09AF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94C-C607-4D3F-A5DB-8A46732E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1E0-3357-4B7C-AD4D-1C7DFB2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B88C-9225-4790-BDFE-C3EEE172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Moonlight%20Sonata.wav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ixdaus.com/single.php?id=106287" TargetMode="External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Papyrus"/>
              </a:rPr>
              <a:t>EL   VALIOSO   TIEMPO</a:t>
            </a:r>
            <a:r>
              <a:rPr b="1" lang="hu-HU" sz="3200" spc="-1" strike="noStrike">
                <a:solidFill>
                  <a:srgbClr val="ffffff"/>
                </a:solidFill>
                <a:latin typeface="Papyru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pyrus"/>
              </a:rPr>
              <a:t>DE  LOS   MAD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891360" y="623736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Papyrus"/>
              </a:rPr>
              <a:t>Beethoven:  Mondscheinsonate – </a:t>
            </a:r>
            <a:r>
              <a:rPr b="0" lang="en-US" sz="2000" spc="-1" strike="noStrike">
                <a:solidFill>
                  <a:srgbClr val="ffffff"/>
                </a:solidFill>
                <a:latin typeface="Papyrus"/>
              </a:rPr>
              <a:t>Sonata de la Luz de la L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zongora_klaviatura"/>
          <p:cNvPicPr/>
          <p:nvPr/>
        </p:nvPicPr>
        <p:blipFill>
          <a:blip r:embed="rId2"/>
          <a:stretch/>
        </p:blipFill>
        <p:spPr>
          <a:xfrm>
            <a:off x="6156360" y="5734080"/>
            <a:ext cx="885960" cy="21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68640"/>
            <a:ext cx="30592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pyrus"/>
              </a:rPr>
              <a:t>Mensaj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Papyrus"/>
              </a:rPr>
              <a:t>Mario And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pyrus"/>
              </a:rPr>
              <a:t>(Poeta, novelista, ensayista y musicólogo brasileñ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4941360"/>
            <a:ext cx="187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Papyrus"/>
              </a:rPr>
              <a:t>AVANCE AUTOMÁTICO O  MAN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84780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/>
    <p:sndAc>
      <p:stSnd>
        <p:snd r:embed="rId4" name="Moonlight%20Sona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Simply The Moon"/>
          <p:cNvPicPr/>
          <p:nvPr/>
        </p:nvPicPr>
        <p:blipFill>
          <a:blip r:embed="rId1"/>
          <a:stretch/>
        </p:blipFill>
        <p:spPr>
          <a:xfrm>
            <a:off x="-108000" y="333360"/>
            <a:ext cx="9252000" cy="677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54936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Detesto, si soy testigo, los efectos que genera la lucha por un cargo importante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Moonlight fishing by Karlis Keisters"/>
          <p:cNvPicPr/>
          <p:nvPr/>
        </p:nvPicPr>
        <p:blipFill>
          <a:blip r:embed="rId1"/>
          <a:stretch/>
        </p:blipFill>
        <p:spPr>
          <a:xfrm>
            <a:off x="0" y="0"/>
            <a:ext cx="9290160" cy="689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67280" y="90792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Las personas no discuten contenidos, apenas los títulos, si acaso..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84360" y="836640"/>
            <a:ext cx="7772400" cy="51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580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i tiempo es escaso como para discutir  títu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Moon on Costa Brava by Oscar Vall Gallen"/>
          <p:cNvPicPr/>
          <p:nvPr/>
        </p:nvPicPr>
        <p:blipFill>
          <a:blip r:embed="rId1"/>
          <a:stretch/>
        </p:blipFill>
        <p:spPr>
          <a:xfrm>
            <a:off x="684360" y="907920"/>
            <a:ext cx="7810200" cy="5203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508464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iero la esencia, mi alma tiene prisa…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feel so tiny when the Moon look at me"/>
          <p:cNvPicPr/>
          <p:nvPr/>
        </p:nvPicPr>
        <p:blipFill>
          <a:blip r:embed="rId1"/>
          <a:stretch/>
        </p:blipFill>
        <p:spPr>
          <a:xfrm>
            <a:off x="539640" y="404640"/>
            <a:ext cx="8048880" cy="6039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40000" y="51577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Con pocos caramelos en la bols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Athonite moonlight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8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0836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iero vivir al lado de gente humana, muy human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Moon-Bright "/>
          <p:cNvPicPr/>
          <p:nvPr/>
        </p:nvPicPr>
        <p:blipFill>
          <a:blip r:embed="rId1"/>
          <a:stretch/>
        </p:blipFill>
        <p:spPr>
          <a:xfrm>
            <a:off x="2050920" y="333360"/>
            <a:ext cx="5410440" cy="652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981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sepa reirse de sus errore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581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869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no se vanaglorie con sus triunfo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4360" y="836640"/>
            <a:ext cx="7772400" cy="517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421000"/>
            <a:ext cx="51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no se considere elegida antes de tiempo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onrise by veteran"/>
          <p:cNvPicPr/>
          <p:nvPr/>
        </p:nvPicPr>
        <p:blipFill>
          <a:blip r:embed="rId1"/>
          <a:stretch/>
        </p:blipFill>
        <p:spPr>
          <a:xfrm>
            <a:off x="1476360" y="0"/>
            <a:ext cx="669456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564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no eluda sus responsabilidade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opernicus Crater, Moon"/>
          <p:cNvPicPr/>
          <p:nvPr/>
        </p:nvPicPr>
        <p:blipFill>
          <a:blip r:embed="rId1"/>
          <a:stretch/>
        </p:blipFill>
        <p:spPr>
          <a:xfrm>
            <a:off x="1054080" y="0"/>
            <a:ext cx="8089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692280"/>
            <a:ext cx="46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He contado mis años y he descubierto que tengo menos tiempo para vivir de aquí en adelante, que el que he vivido hasta ahora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Red full moon"/>
          <p:cNvPicPr/>
          <p:nvPr/>
        </p:nvPicPr>
        <p:blipFill>
          <a:blip r:embed="rId1"/>
          <a:stretch/>
        </p:blipFill>
        <p:spPr>
          <a:xfrm>
            <a:off x="539640" y="654120"/>
            <a:ext cx="8280360" cy="6203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37372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defienda la dignidad human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86320" cy="6372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56000" y="2276280"/>
            <a:ext cx="403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Papyrus"/>
              </a:rPr>
              <a:t>Y que desee únicamente caminar al lado de la verdad y de la honrad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Landscape with Moon III"/>
          <p:cNvPicPr/>
          <p:nvPr/>
        </p:nvPicPr>
        <p:blipFill>
          <a:blip r:embed="rId1"/>
          <a:stretch/>
        </p:blipFill>
        <p:spPr>
          <a:xfrm>
            <a:off x="250920" y="54936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87280" y="573408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Lo esencial es lo que hace que la vida valga la pena vivirl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Full moon risin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827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45813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iero rodearme de gente que sepa tocar el corazón de las persona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moon"/>
          <p:cNvPicPr/>
          <p:nvPr/>
        </p:nvPicPr>
        <p:blipFill>
          <a:blip r:embed="rId1"/>
          <a:stretch/>
        </p:blipFill>
        <p:spPr>
          <a:xfrm>
            <a:off x="900000" y="9810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43280" y="494172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Gente a quien los duros golpes de la vida, le han enseñado a crecer con suaves carícias a su alm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835280" y="692280"/>
            <a:ext cx="54864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5229360"/>
            <a:ext cx="47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Sí… tengo prisa… para vivir con la intensidad que nada mas que la madurez puede d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Wulff: Moonlight Blue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19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157720"/>
            <a:ext cx="63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Pretendo no malemplear ni tan solo uno de los caramelos que me quedan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826920" y="692280"/>
            <a:ext cx="743436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7340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Estoy seguro que seran más exquisitos que los que me he comido hasta ahor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836640"/>
            <a:ext cx="7772400" cy="51944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805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i meta es llegar al final satisfecho y en paz con mis seres estimados, y con mi conciencia. 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225080" cy="7718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59280" y="3716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Deseo que la tuya sea la misma, porque, de cualquier manera, también llegaras..."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e moon and stars light up Mount Everest, also known as Qomolangma, as seen from near Everest Base "/>
          <p:cNvPicPr/>
          <p:nvPr/>
        </p:nvPicPr>
        <p:blipFill>
          <a:blip r:embed="rId1"/>
          <a:stretch/>
        </p:blipFill>
        <p:spPr>
          <a:xfrm>
            <a:off x="0" y="-31680"/>
            <a:ext cx="9325080" cy="68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84720" y="2349360"/>
            <a:ext cx="410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e siento como aquel niño al que regalan una bolsa de caramelos: los primeros se los come feliz, pero, cuando se percata de que  quedan pocos, comienza a saborearlos profundamente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Dancing in the Moonl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989000"/>
            <a:ext cx="5151600" cy="2979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54936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Y  yo  di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797360"/>
            <a:ext cx="828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Papyrus"/>
              </a:rPr>
              <a:t>Original: ¿? (Brasil) || Al catalán: Regina || Al español: Tasm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05264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Papyrus"/>
              </a:rPr>
              <a:t>¡De verdad lo espero…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17080" y="595008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By the Light of the Full Moon - by Oscar"/>
          <p:cNvPicPr/>
          <p:nvPr/>
        </p:nvPicPr>
        <p:blipFill>
          <a:blip r:embed="rId1"/>
          <a:stretch/>
        </p:blipFill>
        <p:spPr>
          <a:xfrm>
            <a:off x="1979640" y="-458640"/>
            <a:ext cx="5076720" cy="7619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00360" y="242100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Ya no tengo tiempo para  reuniones interminables, en las que se discuten estatutos, normas, procedimientos y reglamentos internos, sabiendo que no se conseguira nad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MOONLIGHT MAGIC!!!!"/>
          <p:cNvPicPr/>
          <p:nvPr/>
        </p:nvPicPr>
        <p:blipFill>
          <a:blip r:embed="rId1"/>
          <a:srcRect l="0" t="-2145" r="0" b="19749"/>
          <a:stretch/>
        </p:blipFill>
        <p:spPr>
          <a:xfrm>
            <a:off x="0" y="-387360"/>
            <a:ext cx="9325080" cy="724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414972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Ya no tengo tiempo para soportar personas absurdas que, a pesar de su edad cronológica, no han crecid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Moon ri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378936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Ya no tengo tiempo para perderlo con mediocridade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Harvest moon"/>
          <p:cNvPicPr/>
          <p:nvPr/>
        </p:nvPicPr>
        <p:blipFill>
          <a:blip r:embed="rId1"/>
          <a:stretch/>
        </p:blipFill>
        <p:spPr>
          <a:xfrm>
            <a:off x="0" y="0"/>
            <a:ext cx="9325080" cy="492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53737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No quiero estar en reuniones donde desfilan ‘egos’ inflado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unset wiyh moon"/>
          <p:cNvPicPr/>
          <p:nvPr/>
        </p:nvPicPr>
        <p:blipFill>
          <a:blip r:embed="rId1"/>
          <a:stretch/>
        </p:blipFill>
        <p:spPr>
          <a:xfrm>
            <a:off x="250920" y="476280"/>
            <a:ext cx="8893080" cy="608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92360" y="198900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No tolero a los manipuladores ni a los aprovech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Marin Marinov: On the Moonlight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576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43657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e molestan los envidiosos, que tratan de desacreditar a los más capaces, para apropiarse de sus puestos, sus talentos y sus éxito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8:39:13Z</dcterms:created>
  <dc:creator>Regina || Traducción al español: Tasmania.</dc:creator>
  <dc:description/>
  <dc:language>en-US</dc:language>
  <cp:lastModifiedBy>Tasmania</cp:lastModifiedBy>
  <dcterms:modified xsi:type="dcterms:W3CDTF">2009-10-25T15:10:15Z</dcterms:modified>
  <cp:revision>71</cp:revision>
  <dc:subject/>
  <dc:title>A HOLD || El valuós temps dels madurs || El valioso tiempo de los maduros.</dc:title>
</cp:coreProperties>
</file>