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32.gif" ContentType="image/gif"/>
  <Override PartName="/ppt/media/image2.gif" ContentType="image/gif"/>
  <Override PartName="/ppt/media/image31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Moonlight%20Sonata.wav" ContentType="audio/x-wav"/>
  <Override PartName="/ppt/media/image14.jpeg" ContentType="image/jpeg"/>
  <Override PartName="/ppt/media/image18.jpeg" ContentType="image/jpeg"/>
  <Override PartName="/ppt/media/image33.gif" ContentType="image/gif"/>
  <Override PartName="/ppt/media/image3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0D59-03EA-462C-A75E-AD1909EF1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384C-B3E2-4F2D-812B-CD7BBF819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4C0-9214-49B7-8FA0-196A268C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3F6-54B0-49C3-AEB6-E3DA1DDF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8A1-8665-46AE-A146-B8FC3A07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74E-8730-43D8-BB8D-39470FDA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5EC-C74A-47C0-BA30-3F908EF2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299-5136-4E4E-AFE1-B87CA16D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3FF-89A2-443F-A178-1D8976EC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4AF-2FD4-4B64-A771-99CF0C69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DDCF-589A-4FDC-9551-D74D88E5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B03-4772-403D-A986-F6C56783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FA5-33D1-43FE-B497-28C53D90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E1D-DA3A-4C94-8A69-CCE7D599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96FC-05A5-4C1B-9776-CBAEAA8E3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Moonlight%20Sonata.wav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pixdaus.com/single.php?id=106287" TargetMode="External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0"/>
            <a:ext cx="9144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Papyrus"/>
              </a:rPr>
              <a:t>EL   VALIOSO   TIEMPO</a:t>
            </a:r>
            <a:r>
              <a:rPr b="1" lang="hu-HU" sz="3200" spc="-1" strike="noStrike">
                <a:solidFill>
                  <a:srgbClr val="ffffff"/>
                </a:solidFill>
                <a:latin typeface="Papyru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Papyrus"/>
              </a:rPr>
              <a:t>DE  LOS   MAD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891360" y="6237360"/>
            <a:ext cx="74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Papyrus"/>
              </a:rPr>
              <a:t>Beethoven:  Mondscheinsonate – </a:t>
            </a:r>
            <a:r>
              <a:rPr b="0" lang="en-US" sz="2000" spc="-1" strike="noStrike">
                <a:solidFill>
                  <a:srgbClr val="ffffff"/>
                </a:solidFill>
                <a:latin typeface="Papyrus"/>
              </a:rPr>
              <a:t>Sonata de la Luz de la L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zongora_klaviatura"/>
          <p:cNvPicPr/>
          <p:nvPr/>
        </p:nvPicPr>
        <p:blipFill>
          <a:blip r:embed="rId2"/>
          <a:stretch/>
        </p:blipFill>
        <p:spPr>
          <a:xfrm>
            <a:off x="6156360" y="5734080"/>
            <a:ext cx="885960" cy="214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068640"/>
            <a:ext cx="305928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pyrus"/>
              </a:rPr>
              <a:t>Mensaj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Papyrus"/>
              </a:rPr>
              <a:t>Mario And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apyrus"/>
              </a:rPr>
              <a:t>(Poeta, novelista, ensayista y musicólogo brasileñ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4941360"/>
            <a:ext cx="187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c00"/>
                </a:solidFill>
                <a:latin typeface="Papyrus"/>
              </a:rPr>
              <a:t>AVANCE AUTOMÁTICO O  MAN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028000" y="4941720"/>
            <a:ext cx="847800" cy="1143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fade/>
    <p:sndAc>
      <p:stSnd>
        <p:snd r:embed="rId4" name="Moonlight%20Sonat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Simply The Moon"/>
          <p:cNvPicPr/>
          <p:nvPr/>
        </p:nvPicPr>
        <p:blipFill>
          <a:blip r:embed="rId1"/>
          <a:stretch/>
        </p:blipFill>
        <p:spPr>
          <a:xfrm>
            <a:off x="-108000" y="333360"/>
            <a:ext cx="9252000" cy="6777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54936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Detesto, si soy testigo, los efectos que genera la lucha por un cargo importante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Moonlight fishing by Karlis Keisters"/>
          <p:cNvPicPr/>
          <p:nvPr/>
        </p:nvPicPr>
        <p:blipFill>
          <a:blip r:embed="rId1"/>
          <a:stretch/>
        </p:blipFill>
        <p:spPr>
          <a:xfrm>
            <a:off x="0" y="0"/>
            <a:ext cx="9290160" cy="689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067280" y="90792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Las personas no discuten contenidos, apenas los títulos, si acaso..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684360" y="836640"/>
            <a:ext cx="7772400" cy="51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58053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Mi tiempo es escaso como para discutir  títu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Moon on Costa Brava by Oscar Vall Gallen"/>
          <p:cNvPicPr/>
          <p:nvPr/>
        </p:nvPicPr>
        <p:blipFill>
          <a:blip r:embed="rId1"/>
          <a:stretch/>
        </p:blipFill>
        <p:spPr>
          <a:xfrm>
            <a:off x="684360" y="907920"/>
            <a:ext cx="7810200" cy="5203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6920" y="508464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Quiero la esencia, mi alma tiene prisa…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feel so tiny when the Moon look at me"/>
          <p:cNvPicPr/>
          <p:nvPr/>
        </p:nvPicPr>
        <p:blipFill>
          <a:blip r:embed="rId1"/>
          <a:stretch/>
        </p:blipFill>
        <p:spPr>
          <a:xfrm>
            <a:off x="539640" y="404640"/>
            <a:ext cx="8048880" cy="6039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40000" y="515772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Con pocos caramelos en la bolsa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Athonite moonlight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8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708360" y="4292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Quiero vivir al lado de gente humana, muy humana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Moon-Bright "/>
          <p:cNvPicPr/>
          <p:nvPr/>
        </p:nvPicPr>
        <p:blipFill>
          <a:blip r:embed="rId1"/>
          <a:stretch/>
        </p:blipFill>
        <p:spPr>
          <a:xfrm>
            <a:off x="2050920" y="333360"/>
            <a:ext cx="5410440" cy="6524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981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Que sepa reirse de sus errores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0"/>
            <a:ext cx="9144000" cy="581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486900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Que no se vanaglorie con sus triunfos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84360" y="836640"/>
            <a:ext cx="7772400" cy="517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2421000"/>
            <a:ext cx="51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Que no se considere elegida antes de tiempo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Moonrise by veteran"/>
          <p:cNvPicPr/>
          <p:nvPr/>
        </p:nvPicPr>
        <p:blipFill>
          <a:blip r:embed="rId1"/>
          <a:stretch/>
        </p:blipFill>
        <p:spPr>
          <a:xfrm>
            <a:off x="1476360" y="0"/>
            <a:ext cx="6694560" cy="688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95640" y="328464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Que no eluda sus responsabilidades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Copernicus Crater, Moon"/>
          <p:cNvPicPr/>
          <p:nvPr/>
        </p:nvPicPr>
        <p:blipFill>
          <a:blip r:embed="rId1"/>
          <a:stretch/>
        </p:blipFill>
        <p:spPr>
          <a:xfrm>
            <a:off x="1054080" y="0"/>
            <a:ext cx="80899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692280"/>
            <a:ext cx="468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“</a:t>
            </a: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He contado mis años y he descubierto que tengo menos tiempo para vivir de aquí en adelante, que el que he vivido hasta ahora..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Red full moon"/>
          <p:cNvPicPr/>
          <p:nvPr/>
        </p:nvPicPr>
        <p:blipFill>
          <a:blip r:embed="rId1"/>
          <a:stretch/>
        </p:blipFill>
        <p:spPr>
          <a:xfrm>
            <a:off x="539640" y="654120"/>
            <a:ext cx="8280360" cy="6203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5373720"/>
            <a:ext cx="43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Que defienda la dignidad humana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486320" cy="6372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56000" y="2276280"/>
            <a:ext cx="403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Papyrus"/>
              </a:rPr>
              <a:t>Y que desee únicamente caminar al lado de la verdad y de la honrad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Landscape with Moon III"/>
          <p:cNvPicPr/>
          <p:nvPr/>
        </p:nvPicPr>
        <p:blipFill>
          <a:blip r:embed="rId1"/>
          <a:stretch/>
        </p:blipFill>
        <p:spPr>
          <a:xfrm>
            <a:off x="250920" y="54936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87280" y="5734080"/>
            <a:ext cx="71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Lo esencial es lo que hace que la vida valga la pena vivirla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Full moon risin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827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458136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Quiero rodearme de gente que sepa tocar el corazón de las personas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moon"/>
          <p:cNvPicPr/>
          <p:nvPr/>
        </p:nvPicPr>
        <p:blipFill>
          <a:blip r:embed="rId1"/>
          <a:stretch/>
        </p:blipFill>
        <p:spPr>
          <a:xfrm>
            <a:off x="900000" y="98100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43280" y="4941720"/>
            <a:ext cx="56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Gente a quien los duros golpes de la vida, le han enseñado a crecer con suaves carícias a su alma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835280" y="692280"/>
            <a:ext cx="54864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27640" y="5229360"/>
            <a:ext cx="47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Sí… tengo prisa… para vivir con la intensidad que nada mas que la madurez puede d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Wulff: Moonlight Blue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19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5157720"/>
            <a:ext cx="63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Pretendo no malemplear ni tan solo uno de los caramelos que me quedan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826920" y="692280"/>
            <a:ext cx="743436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57340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Estoy seguro que seran más exquisitos que los que me he comido hasta ahora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836640"/>
            <a:ext cx="7772400" cy="51944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5805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Mi meta es llegar al final satisfecho y en paz con mis seres estimados, y con mi conciencia. 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225080" cy="7718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59280" y="3716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Deseo que la tuya sea la misma, porque, de cualquier manera, también llegaras..."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The moon and stars light up Mount Everest, also known as Qomolangma, as seen from near Everest Base "/>
          <p:cNvPicPr/>
          <p:nvPr/>
        </p:nvPicPr>
        <p:blipFill>
          <a:blip r:embed="rId1"/>
          <a:stretch/>
        </p:blipFill>
        <p:spPr>
          <a:xfrm>
            <a:off x="0" y="-31680"/>
            <a:ext cx="9325080" cy="6889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84720" y="2349360"/>
            <a:ext cx="410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Me siento como aquel niño al que regalan una bolsa de caramelos: los primeros se los come feliz, pero, cuando se percata de que  quedan pocos, comienza a saborearlos profundamente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Dancing in the Moonligh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1989000"/>
            <a:ext cx="5151600" cy="2979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71640" y="54936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Y  yo  di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4797360"/>
            <a:ext cx="8280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Papyrus"/>
              </a:rPr>
              <a:t>Original: ¿? (Brasil) || Al catalán: Regina || Al español: Tasm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105264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Papyrus"/>
              </a:rPr>
              <a:t>¡De verdad lo espero…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317080" y="5950080"/>
            <a:ext cx="43812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By the Light of the Full Moon - by Oscar"/>
          <p:cNvPicPr/>
          <p:nvPr/>
        </p:nvPicPr>
        <p:blipFill>
          <a:blip r:embed="rId1"/>
          <a:stretch/>
        </p:blipFill>
        <p:spPr>
          <a:xfrm>
            <a:off x="1979640" y="-458640"/>
            <a:ext cx="5076720" cy="7619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00360" y="2421000"/>
            <a:ext cx="396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Ya no tengo tiempo para  reuniones interminables, en las que se discuten estatutos, normas, procedimientos y reglamentos internos, sabiendo que no se conseguira nada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MOONLIGHT MAGIC!!!!"/>
          <p:cNvPicPr/>
          <p:nvPr/>
        </p:nvPicPr>
        <p:blipFill>
          <a:blip r:embed="rId1"/>
          <a:srcRect l="0" t="-2145" r="0" b="19749"/>
          <a:stretch/>
        </p:blipFill>
        <p:spPr>
          <a:xfrm>
            <a:off x="0" y="-387360"/>
            <a:ext cx="9325080" cy="724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40" y="414972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Ya no tengo tiempo para soportar personas absurdas que, a pesar de su edad cronológica, no han crecid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Moon ri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378936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Ya no tengo tiempo para perderlo con mediocridades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Harvest moon"/>
          <p:cNvPicPr/>
          <p:nvPr/>
        </p:nvPicPr>
        <p:blipFill>
          <a:blip r:embed="rId1"/>
          <a:stretch/>
        </p:blipFill>
        <p:spPr>
          <a:xfrm>
            <a:off x="0" y="0"/>
            <a:ext cx="9325080" cy="492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87280" y="537372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No quiero estar en reuniones donde desfilan ‘egos’ inflados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Sunset wiyh moon"/>
          <p:cNvPicPr/>
          <p:nvPr/>
        </p:nvPicPr>
        <p:blipFill>
          <a:blip r:embed="rId1"/>
          <a:stretch/>
        </p:blipFill>
        <p:spPr>
          <a:xfrm>
            <a:off x="250920" y="476280"/>
            <a:ext cx="8893080" cy="6080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92360" y="198900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No tolero a los manipuladores ni a los aprovech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Marin Marinov: On the Moonlight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5761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436572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Papyrus"/>
              </a:rPr>
              <a:t>Me molestan los envidiosos, que tratan de desacreditar a los más capaces, para apropiarse de sus puestos, sus talentos y sus éxitos.</a:t>
            </a:r>
            <a:r>
              <a:rPr b="0" lang="es-ES" sz="20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8:39:13Z</dcterms:created>
  <dc:creator>Regina || Traducción al español: Tasmania.</dc:creator>
  <dc:description/>
  <dc:language>en-US</dc:language>
  <cp:lastModifiedBy>Tasmania</cp:lastModifiedBy>
  <dcterms:modified xsi:type="dcterms:W3CDTF">2009-10-25T15:10:15Z</dcterms:modified>
  <cp:revision>71</cp:revision>
  <dc:subject/>
  <dc:title>A HOLD || El valuós temps dels madurs || El valioso tiempo de los maduros.</dc:title>
</cp:coreProperties>
</file>