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WINTER~1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220" r="0" b="0"/>
          <a:stretch/>
        </p:blipFill>
        <p:spPr>
          <a:xfrm>
            <a:off x="0" y="76212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TER~1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666880" y="632448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Comic Sans MS"/>
              </a:rPr>
              <a:t>Con Son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406440" y="30621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lgo para que reflex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  <p:sndAc>
      <p:stSnd>
        <p:snd r:embed="rId1" name="WINTER~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75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" dur="1" fill="hold"/>
                                  <p:tgtEl>
                                    <p:spTgt spid="4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23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La vida está llena de cosas imperfectas y gente imperfecta. Aprender a aceptar los defectos y decidir celebrar cada una de las diferencias de los demás, es una de las cosas más importantes para crear una relación sana y duradera</a:t>
            </a: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6668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424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Un pan tostado quemado no debe romper un corazón.</a:t>
            </a: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0" dur="75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La comprensión y la tolerancia es la base de cualquier buena relación</a:t>
            </a:r>
            <a:r>
              <a:rPr b="1" lang="es-ES" sz="4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Sé más amable de lo que tú creas necesario, porque todas las personas, en éste momento, están librando algún tipo de batall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413000"/>
            <a:ext cx="914400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Todos tenemos problemas y </a:t>
            </a:r>
            <a:r>
              <a:rPr b="1" lang="es-E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odos estamos aprendiendo a vivir</a:t>
            </a: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 y lo más probable es que no nos alcance la vida para aprender lo necesario.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Times New Roman"/>
              </a:rPr>
              <a:t>"El camino a la felicidad no es recto. Existen curvas llamadas EQUIVOCACIONES,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3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Times New Roman"/>
              </a:rPr>
              <a:t>existen semáforos llamados AMIGOS, luces de precaución llamadas FAMILIA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8" dur="75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557000"/>
            <a:ext cx="8991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Times New Roman"/>
              </a:rPr>
              <a:t>y todo se logra si tienes: Una llanta de repuesto llamada DECISION, un potente motor llamado COMPRENSION, un buen seguro llamado FE,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052640"/>
            <a:ext cx="784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bundante combustible llamado PACIENCIA, pero sobre todo un experto conductor llamado AMOR!!!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19920" y="5867280"/>
            <a:ext cx="28954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3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75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83664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899640"/>
            <a:ext cx="7345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Hay dos maneras de difundir la luz, ser la lámpara que la emite, o el espejo que la refleja"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Lin Yuta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Reenvía este email a tus amigo(a)s y que pases un buen día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60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Después de un largo y duro día en el trabajo, mi mamá puso un plato de salchichas y pan tostado muy quemado frente a mi papá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Recuerdo estar esperando ver si alguien lo notaba… Sin embargo, aunque mi padre lo notó, alcanzó un pan tostado, sonrió a mi madre y me preguntó cómo me había ido en la escuela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638360"/>
            <a:ext cx="9144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No recuerdo lo que le contesté, pero sí recuerdo verlo untándole mantequilla y mermelada al pan tostado y comérselo todo.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Cuando me levanté de la mesa esa noche, recuerdo haber oído a mi madre pedir disculpas a mi padre por los panes tostados muy quemados. 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Nunca voy a olvidar lo que le dijo: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"Cariño no te preocupes, a veces me gustan los panes tostados bien quemados."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19280" y="836280"/>
            <a:ext cx="5919840" cy="28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Más tarde esa noche, fui a dar el beso de las buenas noches a mi padre y le pregunté si a él le gustaban los panes tostados bien quemados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Él me abrazó y me dijo estas reflexiones: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483920"/>
            <a:ext cx="914400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"tu mamá tuvo un día muy duro en el trabajo, está muy cansada y, además , un pan tostado un poco quemado no le hace daño a nadie"…….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20:28:28Z</dcterms:created>
  <dc:creator>Adri</dc:creator>
  <dc:description/>
  <dc:language>en-US</dc:language>
  <cp:lastModifiedBy>pedrosoe</cp:lastModifiedBy>
  <dcterms:modified xsi:type="dcterms:W3CDTF">2011-09-22T14:48:01Z</dcterms:modified>
  <cp:revision>46</cp:revision>
  <dc:subject/>
  <dc:title>Ahorrar Vida</dc:title>
</cp:coreProperties>
</file>