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891-C42D-45BE-8B83-5D812382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0E1-705E-46A4-BDC6-0AD58B83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ED0-85E2-4145-B675-ED9E2FE7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186-3BE9-47A7-9A1E-50281732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653-CF0D-41C5-8116-80989912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99A-573C-4316-824D-1A73A3C5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7E3-93A7-48BB-9B96-B577947B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0B5-A39A-42A7-BA2D-5507A630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0D0-46DB-4D73-B27E-72B93078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EF9-0895-4938-9C6A-0213A883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4A7-C0C8-42D1-AC75-E77041E0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AD5-5676-4310-89F2-F0C09CDC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519A-05DD-4C1F-855E-40F0EEEC3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i5.com/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i5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CUIDADO CON EL CHAT Y EL HI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1704240"/>
            <a:ext cx="184320" cy="6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cá les dejo unas fotos que mi hermano tenia en su archivo de la Riñonera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7360" y="6021000"/>
            <a:ext cx="698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990880" cy="4838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11640" y="2133720"/>
            <a:ext cx="4280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irala bien para que no te pase lo mismo nun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5949720"/>
            <a:ext cx="8244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2062080"/>
            <a:ext cx="3558960" cy="479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140360" y="2119320"/>
            <a:ext cx="3566880" cy="4738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651640" y="333360"/>
            <a:ext cx="3022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odo contacto con ella es solo por Internet vía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i5.com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luego los va engatusando a los chicos hasta que los cita…y ya saben las         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secuenci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6126120"/>
            <a:ext cx="824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3800520" cy="3666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427640" y="3716280"/>
            <a:ext cx="43354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 tienes hermanos, primos, buenos amigos que de verdad quieras mucho y  utilicen el famoso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I5.COM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 además seas de Lima- Peru entonces reenvía esto para que estén alertas y no les pase lo mismo que a mi hermano mayor Mario Temoche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Luisa Temoche Q.</a:t>
            </a:r>
            <a:br>
              <a:rPr sz="4000"/>
            </a:b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“ que Dios los cuide much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6126120"/>
            <a:ext cx="824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ola mi nombre es 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Luisa Temoch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 escribo esto porque le paso a mi hermanito mayor al cual quiero mucho y amo con todo el corazon. Como cualquier día mi hermano Mario entraba al internet a chatear y conocer gente en el famoso hi5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6126120"/>
            <a:ext cx="5857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llí conoció a muchas chicas, pero una en particular le pareció atractiva, y se marketeaba como modelo y anfitriona una morena espigada y simpática pero con un corazón negro como su piel ya que pertenece a un grupo de gente inescrupulos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5949720"/>
            <a:ext cx="8244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mentablemente mi hermanito lindo aprendió de la peor manera  que no todo es de color de rosa…. No todo lo que brilla es oro.. Y después de quedar en salir y después de la reunión lo encontramos muy grave  2 días después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5805000"/>
            <a:ext cx="369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un hospital limeño, en el callao muy mal her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5949720"/>
            <a:ext cx="58572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9515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chica se lo llevo con engaños y lo quiso pepear como no cayo tan facilmente.. ento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6126120"/>
            <a:ext cx="20628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viso a otro delincuentes y después de golpearlo hasta perder el conocimiento…se lo llevaron a un lugar desconoc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7360" y="6125760"/>
            <a:ext cx="698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626580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000" y="274320"/>
            <a:ext cx="4546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 allí le sacaron un riñon….meses después de la recuperación ubicamos a la supuesta modelo y anfitriona.. En el hi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7360" y="6125760"/>
            <a:ext cx="698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19040"/>
            <a:ext cx="3213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ual se hace llamar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ORENA ESPINO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5949720"/>
            <a:ext cx="8244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228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22:15:51Z</dcterms:created>
  <dc:creator>SOEFIC</dc:creator>
  <dc:description/>
  <dc:language>en-US</dc:language>
  <cp:lastModifiedBy>SOEFIC</cp:lastModifiedBy>
  <dcterms:modified xsi:type="dcterms:W3CDTF">2009-07-13T22:39:06Z</dcterms:modified>
  <cp:revision>2</cp:revision>
  <dc:subject/>
  <dc:title>TEN CUIDADO CON EL CHAT Y EL HI5</dc:title>
</cp:coreProperties>
</file>