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0C8-65DF-4DDD-8011-4CAD117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C66-DB9D-4BAD-9D2A-5CC524D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866-40FF-4A05-BA83-EA09E55F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B3D-397B-47C9-B089-08E84FD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695-19F0-4CBF-9734-BB1C1BA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06F-574C-43D3-8B49-1EEC7B10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358-BEE4-490F-A2BD-158831BB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2F2-8242-4E15-8322-18008B5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D00-AF08-47CF-A4D0-F3D2CFE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F39-631D-4C84-AFF8-AF3B32F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987-439F-4AF8-B298-110BB89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B5F-D226-4456-ABB0-69855E4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DD04-89CD-40CF-B409-4E0E45BA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i5.com/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i5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CUIDADO CON EL CHAT Y EL HI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704240"/>
            <a:ext cx="184320" cy="6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cá les dejo unas fotos que mi hermano tenia en su archivo de la Riñonera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360" y="6021000"/>
            <a:ext cx="698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990880" cy="48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280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rala bien para que no te pase lo mismo nun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2062080"/>
            <a:ext cx="3558960" cy="479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40360" y="2119320"/>
            <a:ext cx="3566880" cy="473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3022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do contacto con ella es solo por Internet vía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5.co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luego los va engatusando a los chicos hasta que los cita…y ya saben las         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secuenc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3800520" cy="3666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716280"/>
            <a:ext cx="43354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tienes hermanos, primos, buenos amigos que de verdad quieras mucho y  utilicen el famoso </a:t>
            </a:r>
            <a:r>
              <a:rPr b="0" lang="es-E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I5.COM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además seas de Lima- Peru entonces reenvía esto para que estén alertas y no les pase lo mismo que a mi hermano mayor Mario Temoche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Luisa Temoche Q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“ que Dios los cuide much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ola mi nombre es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Luisa Temoch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escribo esto porque le paso a mi hermanito mayor al cual quiero mucho y amo con todo el corazon. Como cualquier día mi hermano Mario entraba al internet a chatear y conocer gente en el famoso hi5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5857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lí conoció a muchas chicas, pero una en particular le pareció atractiva, y se marketeaba como modelo y anfitriona una morena espigada y simpática pero con un corazón negro como su piel ya que pertenece a un grupo de gente inescrupulos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mentablemente mi hermanito lindo aprendió de la peor manera  que no todo es de color de rosa…. No todo lo que brilla es oro.. Y después de quedar en salir y después de la reunión lo encontramos muy grave  2 días despué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5805000"/>
            <a:ext cx="369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un hospital limeño, en el callao muy mal her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585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51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chica se lo llevo con engaños y lo quiso pepear como no cayo tan facilmente.. ento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6126120"/>
            <a:ext cx="2062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viso a otro delincuentes y después de golpearlo hasta perder el conocimiento…se lo llevaron a un lugar desconoc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7360" y="612576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2658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allí le sacaron un riñon….meses después de la recuperación ubicamos a la supuesta modelo y anfitriona.. En el hi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6125760"/>
            <a:ext cx="698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3213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al se hace llamar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RENA ESPINO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5949720"/>
            <a:ext cx="8244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22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22:15:51Z</dcterms:created>
  <dc:creator>SOEFIC</dc:creator>
  <dc:description/>
  <dc:language>en-US</dc:language>
  <cp:lastModifiedBy>SOEFIC</cp:lastModifiedBy>
  <dcterms:modified xsi:type="dcterms:W3CDTF">2009-07-13T22:39:06Z</dcterms:modified>
  <cp:revision>2</cp:revision>
  <dc:subject/>
  <dc:title>TEN CUIDADO CON EL CHAT Y EL HI5</dc:title>
</cp:coreProperties>
</file>