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eru%20-%20mpg%20l3%20-%2018%20-%2011025.wav" ContentType="audio/x-wav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1943-2FEA-4712-9131-B917351D3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2D2B-3EB4-4D13-818F-FA1D6916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88C48-F321-4645-A924-484510EA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90482-BB91-4F4D-9848-9665321D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5785E7-5B79-46F5-A22B-A21AE1D7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BB6D2-6FBB-4056-A835-FEC29236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8DBA4-F61E-422F-A77F-EDDAC9C5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36600-7EFA-4D65-A22D-81C8E8B3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5C034-FA98-4A6D-B9E9-D0DE30F8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D631D-1AB9-408C-8EBF-0AC62917D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1C14C-8996-4B5D-88F3-EACB0A17D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B3494-FBB0-46D0-A933-7ED91FEF4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7D8F-17DA-4AD3-8B95-38DE063FF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42C1D-3B6C-4EF1-9946-CB22A1F1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80EBC2-534E-4456-98C0-AE96554D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3BDF13-139D-41D8-88A6-0A0A84BB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80EC4-2022-49F2-A3A8-C83DB82E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C56B2-8299-40AC-A00A-7F2E28F8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F920F1-AD8D-48FD-8F71-0CE58861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776231-7F18-4166-9A71-6B4F9400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DAAA7F-A635-432D-8C75-900AE499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6E4190-59F0-4E89-AD2B-5C080F87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7BF641-FB9F-4E13-985C-43D33A54F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790F-BE7B-4767-998F-A933EE16A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8CA82-1077-4F68-BD5C-923C0AED3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2A255-0DB4-4BC9-B6FF-5EFE75C3D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58F97-56DE-49FF-8312-57DFECAC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08778-BD69-4CDB-883B-1D4C9AFA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16848-B0A4-4FD0-939F-44F28355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1EAF2-A35E-4469-AA64-9E08C616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8DA42-8CC5-4B55-8AE3-6943BAC1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5B6AA-1F2C-4B63-8E55-6C4303F4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22767-A4B4-4091-B4E9-B9D652B5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4F800-E109-44C5-AD4E-2ACCEE3A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2207-17FA-4BB3-AE2B-83FFD15D3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37667-E274-4F3E-AC5C-B6493E2D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F32A4-E1C6-4D2A-9D3A-1FBB13EF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CF5B2-811A-4420-9686-B4907F410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D79400-2BA1-4045-BCC4-BE8896A80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F7A3C-FB81-45B2-A3E2-9FCC4083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401530-1037-465A-8D9B-4394E586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4D68F4-4F9D-4587-98AD-F6BA2947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997762-A653-4B6A-935B-99A35C86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03EC02-163A-4441-B221-DA9B24DA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893963-E79A-4864-A075-6AEA5796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0B03-6690-4E77-8518-F09830F7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28A83-AA30-45D1-9D80-F5A2A6B0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3727F5-B2AC-4DC0-BAF8-BDB2A375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D6F8A-E1F4-4DDB-BDFD-18BBEB1F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111DF-F109-4506-842C-802C6A669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D25BFE-4BEB-46D9-92E4-5746497F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6CDE-4676-408D-AD74-20AEDA9D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911A-31A7-4CE6-9BEE-00EBA740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D446-D772-4027-BCF5-41530B1F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6CA3-3873-488E-BDC4-5FB549F4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F657-6B04-4F05-93F3-85178FB7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6E62-3C4D-422B-8F51-7CF306C4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80DC-36B1-44AA-9FEA-7FCE2807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F241-3DD4-4920-A4B4-F453AACF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1DC8-2273-4C95-8BC1-9F675CCD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421C-C43A-44EA-A3FC-099DEBBC3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6CF1-D40B-4BE5-83AB-B640EF5BF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27FED-1B30-44CE-A19B-A3948ADD1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C3410-9F0E-43AE-B6DA-C60C66BD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80EF8-748E-4618-B5BD-D51E90F8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F1364-32BD-4339-B5B3-8DCAAD26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31FFA-CB42-4441-A362-142946F6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C88B-2FB1-4146-9425-FF1C3487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0DE9C-B872-4C29-AD47-133944F9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1435A-877B-4979-9BD6-76F55FAC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9E9FB-22C5-49C6-A968-E097FC2F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CD863-25F8-466B-8B82-FB055FCD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332C8-ED2F-471D-91AB-C010E6DB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9EE1E-1B2F-4D91-A5FC-DEF3303A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DBDA3-8AA8-4782-9D3B-80E92A0A0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4E5B9-2C33-4E92-BBB3-C3F0ED4CB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8338B-64F4-41D3-8F1A-99530136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23D42-C7A5-4CDB-AE3D-13134679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BC86-C235-4DDA-8473-821AB35F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ED2B7-3922-42A4-88EF-D8AC5048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E26C4-9A4B-4188-BB97-EFE44424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1D275-4049-4D53-885C-74BB36EE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417E3-9C2C-4602-93F1-270F2868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2049E-FCA8-4C0F-9E69-E521FAE6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E54D6-6335-4BD3-BA2B-B1890E3E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FA7EE-A5A8-4ED5-9880-E1207607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416DF-2CF4-4286-8B4F-291A264F6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A8834-CD67-4077-AF80-8F67B2926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C51B8-C0B1-4B90-BF58-886B4BD5C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2181-5E70-44F5-8F34-8BA9913D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B5824-96E1-43CF-8344-DAF18468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B3F10-6CD4-4396-87EE-C16CAC69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30361-E474-4901-97A7-8E34EF96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24FE6-F616-41DC-9D39-A510E407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B2833-52BB-443D-B3C7-FA7D7CD4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65113-651A-4E78-BBA6-1148B8FF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7D38C-D9CB-4BF1-B7FF-EB4DBB64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D116C-6200-453F-9A11-3426BAD1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1B614-03CF-4A6F-AA41-105DF5F1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C83F8-4CD6-4EC9-9087-0FA8A85D7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4196-5CF5-449C-93E6-7B60C51A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974C6-2DAC-4B5C-BECF-0EA2F6247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3FC75-4794-44E9-88A0-BEAB30AA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DDFC1-A035-4A3C-B41B-36E32689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7B9C5-A09A-47D5-9B15-8CDE23C9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C85F4-8857-40A1-902A-6D2425ED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74F3D-CDBB-47EB-9BB7-453A8840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0FDFF-3438-415B-8CF6-626A4065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5F8AA-6A28-44F4-8C57-EFF951D3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A7A48-C8F6-404E-8BC8-00B77405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2056E-7B06-4270-965F-3B4A40B7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45C7-A7D6-466B-B71C-F19D339C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3A2B4-0C68-4CC8-AD1D-16217A9D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CA9FB-0AA3-4144-8D30-79485E546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75C11-4E37-4376-AA19-4892F4E2B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B4D56-4705-42AA-A087-A62D33E88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03B2E-A5E5-4DBE-8D19-45332250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E1500-BF2F-4112-823D-BD38535B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5DAEF-A95C-441C-9B7F-0155FFF0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3ADF3-6371-43A8-9B09-1BD1535F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4289D-E187-4CFC-8720-E61F3143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62CD3-92EA-4C2B-9A17-E88F63F2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9FAB-13D2-4395-8F0A-9039F58F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817BE-3F5C-45EE-B63A-3FB15F26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851BE-57F6-4CAA-8C83-0499FD67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3C03D-D1BC-4C06-B388-488F0C7C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C751D-1B07-4532-BA83-3BDF12545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8BD88-B7EB-44C2-9623-903A89F73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7C7B8-B0D5-4017-AC92-15638F22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07381-09E3-47FC-9A38-D008D993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B4FC4-AD79-4C67-92C6-B1944C42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0F9EB-7174-4733-892D-CF6872D8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BB414-5F25-4644-9F28-CA245630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2627-7491-45B7-AE04-6DE38EFE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F0246-442E-4EEA-A14C-FC479640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09DCB-15F3-425F-8BBC-19B6AFEF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3CF2A-64C2-4A1A-BF55-61810830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3E66D-1201-41E5-89AF-EE7D4CAE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B0580-EB9E-4A4C-BF3A-5BC96348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470D8-00D7-4902-9813-E475929B9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3A9DE-77A5-46D7-B6D0-B94F28EB1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CFC7D-3585-45A2-919D-572693615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A8B35-2EBF-4780-B4AF-3FBB51FE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C6D3E-2CF8-492E-BC6B-CD6AA357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4F0E-5A90-4CCF-BA12-7560493E89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6C1F-3032-49FB-BA71-E99089706F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B553-BF4C-45D7-B5FF-77C6051C97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E525-0991-4C31-BF7B-EE4A30347F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7798-F201-4508-AC22-302413B109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D8F0-F350-4D78-B129-B0B44E0E8B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2252-4A16-40DE-9151-AE11A7ABA7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D6BB-DE7E-496B-95C1-B06BE3CB35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C5AE-DC19-4E49-9C92-89D0142FEB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9294-2B54-4DD1-8459-7FF9D95E86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F9C4-A54E-4D81-9B07-656B5409AB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3980-0732-45ED-9797-217A3C978D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eru%20-%20mpg%20l3%20-%2018%20-%2011025.wav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10" descr=""/>
          <p:cNvPicPr/>
          <p:nvPr/>
        </p:nvPicPr>
        <p:blipFill>
          <a:blip r:embed="rId1"/>
          <a:stretch/>
        </p:blipFill>
        <p:spPr>
          <a:xfrm>
            <a:off x="349236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2"/>
          <a:stretch/>
        </p:blipFill>
        <p:spPr>
          <a:xfrm>
            <a:off x="4716360" y="2349360"/>
            <a:ext cx="3637080" cy="24274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539640" y="476280"/>
            <a:ext cx="3487680" cy="56260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900000" y="476280"/>
            <a:ext cx="2808360" cy="288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5292720" y="333360"/>
            <a:ext cx="28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Urgente!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7" name=""/>
          <p:cNvSpPr/>
          <p:nvPr/>
        </p:nvSpPr>
        <p:spPr>
          <a:xfrm>
            <a:off x="324000" y="6237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FACUNDO CABRAL - ARGEN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003640" y="6381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HAZ CLIC AH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4" name="eru%20-%20mpg%20l3%20-%2018%20-%2011025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6205680" cy="645336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 rot="20104200">
            <a:off x="8106840" y="630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0" y="6597000"/>
            <a:ext cx="8353440" cy="260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12000" y="0"/>
            <a:ext cx="33130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... que fue un gran empresario, un gran artista, un gran profesional, que llenó su agenda de urgencias, citas, proyectos, pero dentro de todo, lo más importante, se te olvidó VIV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788000" y="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Haz c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Rectangle 3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6480000" cy="507708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1355400" y="246240"/>
            <a:ext cx="644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6600"/>
                </a:solidFill>
                <a:latin typeface="Arial"/>
              </a:rPr>
              <a:t>¡URGENTE QUE LO COMPARTAS….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427640" y="260280"/>
            <a:ext cx="8366040" cy="627552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380520" y="1197000"/>
            <a:ext cx="383076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Para ti, que siempre vives la vida a un ritmo vertiginoso, quiero recordarte que lo más importante que tienes en la vida, eres tú y todos los que te rodean, y recuerda qu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5 CuadroTexto"/>
          <p:cNvSpPr/>
          <p:nvPr/>
        </p:nvSpPr>
        <p:spPr>
          <a:xfrm>
            <a:off x="142920" y="4287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260280"/>
            <a:ext cx="47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HAZ CLIC CUANDO FINALICE LA LE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1042920" y="1509840"/>
            <a:ext cx="7129440" cy="534816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Urgente, es una palabra con la que vivimos día a día, en nuestra agitada vida, y a la cual, le hemos perdido ya todo significado de premura y prior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3581280" y="1752480"/>
            <a:ext cx="25146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6 CuadroTexto"/>
          <p:cNvSpPr/>
          <p:nvPr/>
        </p:nvSpPr>
        <p:spPr>
          <a:xfrm>
            <a:off x="8643960" y="12859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0" y="4797000"/>
            <a:ext cx="9144000" cy="9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Urgente, es la manera más pobre de vivir en este mundo, porque sabes, el día que nos vamos, dejamos pendiente las cosas, que verdaderamente fueron urg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6 CuadroTexto"/>
          <p:cNvSpPr/>
          <p:nvPr/>
        </p:nvSpPr>
        <p:spPr>
          <a:xfrm>
            <a:off x="714240" y="85716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4d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6409080" cy="461808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0" y="0"/>
            <a:ext cx="17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ACOMPAÑA LA LE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8064360" cy="604836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0" y="456840"/>
            <a:ext cx="9144000" cy="27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Urgente, es que hagas un alto en tu ajetreada vida, y te pregunt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Qué significado tiene todo esto que yo hag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Urgente, es que seas más amigo, más humano, más herma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6 CuadroTexto"/>
          <p:cNvSpPr/>
          <p:nvPr/>
        </p:nvSpPr>
        <p:spPr>
          <a:xfrm>
            <a:off x="-500040" y="5000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125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9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353440" cy="556452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0" y="4292280"/>
            <a:ext cx="91440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Urgente, es que sepas valorar el tiempo que te pide un niño, una niñ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Urgente, es que cada mañana, cuando veas salir el sol, te impregnes de su calor, y le des gracias al Señor, por tan maravilloso rega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6 CuadroTexto"/>
          <p:cNvSpPr/>
          <p:nvPr/>
        </p:nvSpPr>
        <p:spPr>
          <a:xfrm>
            <a:off x="-1500120" y="285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275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788000" y="404640"/>
            <a:ext cx="4356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Urgente, es que mires a tu familia, a tus hijos, a tu esposa, y a todos los que te rodean, y valores ese tan maravilloso teso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Urgente, es que le digas a las personas que quieres, hoy, no mañana, cuánto los quieres!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559040" cy="6350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7725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80360" cy="621036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475272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Urgente, es que te sepas hijo de Dios, y te des cuenta que él, te ama, y quiere verte sonreír feliz y lleno de v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850160" cy="58057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0" y="4869000"/>
            <a:ext cx="914400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Urgente, es que no se te vaya la vida en un soplo y que cuando mires atrás, seas ya un anciano que no puede echar tiempo atrás, que todo lo hizo urgente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4T22:37:00Z</dcterms:created>
  <dc:creator>Nicolás Valderrama</dc:creator>
  <dc:description/>
  <dc:language>en-US</dc:language>
  <cp:lastModifiedBy>Cristina</cp:lastModifiedBy>
  <dcterms:modified xsi:type="dcterms:W3CDTF">2009-10-02T17:34:11Z</dcterms:modified>
  <cp:revision>41</cp:revision>
  <dc:subject/>
  <dc:title>URGENTE</dc:title>
</cp:coreProperties>
</file>