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eru%20-%20mpg%20l3%20-%2018%20-%2011025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546-F315-4BBE-A314-7578D39E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DC4-126E-42B6-95CE-B01E907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9A35-5293-4D24-B68A-18BC356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AFE2D-FCC0-4715-8AE2-82D2B6A0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8B4D-4A2C-4B2B-9F03-F8BF053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E0A2C-7D81-423F-A71B-94D6F62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2257-62C6-4375-879E-51FE51C1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3AD3E-791F-417C-8EA5-CAB8642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1ACDA-DC9C-4D37-845A-D5008CC6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CA18D-541F-4A85-89DE-D8D19351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DAAB6-219D-4DD2-8D8D-03A8B1E6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9DD42-1F04-4E97-AD37-072DF7A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B66-5985-4514-9246-6247B45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2DE8F-FD98-46C7-837F-DCB80EF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81AE0-A254-41BB-8A21-8489B62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106C4-B069-476A-98E7-67ECC02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B0780-C759-4023-AC0E-CF89A04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D97D0-86FA-465D-86DE-BC149E4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44E0E-15F6-41EE-BC21-C3A833E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BFBC8-13BA-42CE-9368-E280D9D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DC75D-D7D8-4B91-93EE-97818C4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AC6BB-3B35-467B-9262-CFAC449C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FBC89-AD19-4931-9917-D33A12EB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A02-174C-4647-8ED8-B82D45B1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406D7-BD29-43A5-A26B-513B5934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8944A-D759-4E56-B42A-781C54E7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28242-326A-44E0-AB53-615B32D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CFC54-3D78-41ED-9CB6-970FD05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9611-2285-49AC-9228-910312AC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750AC-6F46-4BEE-8981-A0B182D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DB6E-8D14-4CE8-87B2-E0A6CC7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BB0C2-208D-4D09-8411-BA6165D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1BD22-CA6B-4FB4-818E-8B62888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C06F-27FE-4502-BF77-091CC4C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D15-7E0E-4AF9-B1C8-E0FE2BE1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F4FD7-F762-4FBC-9683-8D53276C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A9DA-3C80-4EA4-A0EB-2196AE3E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480FD-E17B-4F98-9D68-C3D8A3B0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4533E-5AD6-4F0E-9C10-5917639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6E551-1925-4F8C-AA65-6D6EC695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6127-8A6B-4CCA-8C63-8A71C4BF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7AFF-11FC-4A29-8F24-FC31467F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B5226-50EB-4AD1-84FD-7EBAE4E4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6145F-B5C9-458B-BA3E-BE690E3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EA690-47CD-46FD-B76C-B829657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E0D-47F6-47BE-A954-5EC971FC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FD9C-BA4B-4BDF-B8E4-7B35100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3E272-6E2E-4130-954D-3C78AAE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B1778-7392-422A-A99C-5177383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3A0E6-F994-455C-B004-C0C28CF9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69B5D-B5E6-445F-B67E-28122602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E3A-1333-4799-A99C-CDF456F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A93-B6BE-49B4-9AC1-FF23DA5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BF96-B555-4AE0-B642-1E73C65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59B-C194-4D91-AC76-FA0F905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D52-B9C7-4599-AF27-CC9E041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0E2-EF4A-4256-9CEE-287E407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0D3-8780-419C-AB0E-955626E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BAB2-6626-4213-B07F-3AFA908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30F9-5F62-4AEA-8E67-973045B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220-10C1-4BC8-9CA9-E7AAC89E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F44-4329-4520-BE24-E0AF8774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0A34-37EC-43DA-88E4-37C5B768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0204-4E22-44F7-81E0-1EE69F8D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41D3-EC90-48D8-8B88-840DA189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F0FB-D735-4F4C-AE38-86CCAF34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929A-74DF-4E31-BC26-59F95C7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388-33DC-465C-97FC-8CBEFA69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D46F-521F-49AF-B929-2017680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3CD2-1080-4D50-A67C-354D2CF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7B1E-EEDE-48A0-8ABF-EF18031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C900-C164-4713-B928-6FED8CC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B17C-1BC6-49F2-B5B7-8E3ADD4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E2D5-0980-4824-8CB5-13207F7C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B0E2-C592-4EB0-A97D-1D2B5C0A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C0E0-74EB-41D6-9546-A604A601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4DF9-E1CC-4855-94D1-88ED9B4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C230-1BB5-40BB-8E6B-90E044B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A61-6A35-4DF5-924F-67053881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2733-BED7-48B4-B7A3-8630306F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7F2F-84B1-48C6-83A9-61C8256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D484-429A-4748-998D-FFCDA642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ABD6-E343-4351-AE96-C9BA852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C407-3AA8-445A-AB1E-912D756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BAA2-8145-4544-9501-4C9E69B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93DB-A3C2-4C7E-8DA0-04F1BA73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81E5-5BB4-4BD7-9C4C-2E917601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B369-7B2B-41B6-B9FF-4EC8490A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014E-2EF6-42DE-BB87-C96530A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F5C-6490-4E7C-9A65-60FDB68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614E-D3E8-4368-BFA1-236AC22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C390E-98F5-4CB6-934B-2868C1A0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B0AEC-2026-4A74-B7E7-88304EE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E1C7-30C2-49D0-8655-029E5426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D9E9-3358-4653-9272-EB089BB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0A4F-EC23-46DC-9333-4D34CA8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BCBF-193E-41D2-895A-E14421F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071D-7567-4E2C-98FC-5369B8A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8180E-0C04-484A-9BED-F79ECF95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F9596-F7E4-4231-A5C4-DAC78777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25A-BE9B-4D52-8299-593B6F1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7791-3442-4164-A481-BEB34600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CE28-921D-4163-9356-01E7A135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420A-FE73-40D4-AD0D-3F59E02F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05D16-F8FC-4E7A-97CA-097B7B9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D41C-664D-479B-889A-683C1D0F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73EF-F714-4EED-9D13-29F9B421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BED3-0B19-4CBF-8714-2A89E12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1499F-3FD0-4FBE-A311-07E8EDB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3F5D-0053-4DCF-B9C9-83CFC26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1F40-C725-41F2-A2C2-5AC3F05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572-AF06-44B2-862D-8482C50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C67E-88BF-4780-81ED-33E663A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31FF-104C-4985-AFCD-E295D046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359A-D1C2-4A80-A213-9E326F03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929EC-EBC5-47D6-A8FD-87FF92AA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7AF76-333A-41F3-A53B-E7407208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CE20-A205-4A9B-92E5-15FAD79E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1769-F970-4F27-81B7-5572CFB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D4B5-352B-40F3-919C-7675506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D11C-53A9-430C-BE66-FD14E19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EE05-7D61-43A7-B941-7D254BC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A63-F05D-45D9-B1AA-E36C275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C2A4-3ACA-4212-9270-C599BBBA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5D1B-7C88-4827-A09F-ABD8250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A60B-1069-49C1-8126-38D51DE8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8C22-5F0A-421D-BC73-95E99088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272C-6084-406C-AAEF-8314CDA3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481CE-EFB8-4021-B007-8FA1753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DA57-B452-4E28-94D1-E4F7E2D1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3931-9C26-4C44-A64D-9A8F791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8889-9C49-451D-BF1E-760D49BC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A07D-F876-427D-A261-A33A448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E93-054C-4161-B834-023C491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96180-6B8B-48C0-89B4-D3A2E2F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C2A3F-6585-4980-921E-FBE8FB0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B4630-3220-4E92-85E4-917C9C6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E284-9CB7-458D-8F3B-0D1FB884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E49C-1489-44B0-BE8B-672AA37E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B576-A351-4D92-8147-9AF6FB1E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BC00C-80FD-4EA3-ACBD-6DA9EB03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BE91-156B-4E76-92F7-7F11170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92C40-28AB-4C71-94B2-4AD9953A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41211-3BB7-48DE-B75C-5038592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893-EF98-47B6-AC23-EA99A15B5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4FB-9332-42B5-9099-DFAC50A1B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0554-362A-4186-B1BE-E92BCE902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27D-374C-4624-8FD6-8592323F9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FCBB-3D55-4E54-A61B-DFD6ED332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5097-DEF1-4D8C-A621-41B8E365D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82C-83F8-4043-8331-F7A48172A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EE9-43EA-4331-95E2-195AD92C3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840-2EDC-49DD-BEE2-81EDFE3A0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801F-08BB-4DEA-B659-D7C70DDEE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90C-5EC4-47DA-8E9A-ECFF6D845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29F4-F10D-4198-B820-8FB87A412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u%20-%20mpg%20l3%20-%2018%20-%2011025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349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637080" cy="242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87680" cy="5626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476280"/>
            <a:ext cx="280836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292720" y="333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rgente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623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CUNDO CABRAL -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03640" y="6381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eru%20-%20mpg%20l3%20-%2018%20-%201102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205680" cy="6453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104200">
            <a:off x="8106840" y="63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0" y="6597000"/>
            <a:ext cx="83534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0"/>
            <a:ext cx="331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... que fue un gran empresario, un gran artista, un gran profesional, que llenó su agenda de urgencias, citas, proyectos, pero dentro de todo, lo más importante, se te olvidó 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az 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3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480000" cy="5077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355400" y="246240"/>
            <a:ext cx="64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"/>
              </a:rPr>
              <a:t>¡URGENTE QUE LO COMPARTAS…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1197000"/>
            <a:ext cx="38307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Para ti, que siempre vives la vida a un ritmo vertiginoso, quiero recordarte que lo más importante que tienes en la vida, eres tú y todos los que te rodean, y recuerda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CuadroTexto"/>
          <p:cNvSpPr/>
          <p:nvPr/>
        </p:nvSpPr>
        <p:spPr>
          <a:xfrm>
            <a:off x="142920" y="428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602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CUANDO FINALICE LA LE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042920" y="150984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una palabra con la que vivimos día a día, en nuestra agitada vida, y a la cual, le hemos perdido ya todo significado de premura y prio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581280" y="1752480"/>
            <a:ext cx="2514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6 CuadroTexto"/>
          <p:cNvSpPr/>
          <p:nvPr/>
        </p:nvSpPr>
        <p:spPr>
          <a:xfrm>
            <a:off x="8643960" y="128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479700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la manera más pobre de vivir en este mundo, porque sabes, el día que nos vamos, dejamos pendiente las cosas, que verdaderamente fueron u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714240" y="857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4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409080" cy="4618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COMPAÑA LA L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hagas un alto en tu ajetreada vida, y te pregu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Qué significado tiene todo esto que yo h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as más amigo, más humano, más her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6 CuadroTexto"/>
          <p:cNvSpPr/>
          <p:nvPr/>
        </p:nvSpPr>
        <p:spPr>
          <a:xfrm>
            <a:off x="-500040" y="500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25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5564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pas valorar el tiempo que te pide un niño, una ni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cada mañana, cuando veas salir el sol, te impregnes de su calor, y le des gracias al Señor, por tan maravilloso rega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6 CuadroTexto"/>
          <p:cNvSpPr/>
          <p:nvPr/>
        </p:nvSpPr>
        <p:spPr>
          <a:xfrm>
            <a:off x="-1500120" y="28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7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788000" y="404640"/>
            <a:ext cx="435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mires a tu familia, a tus hijos, a tu esposa, y a todos los que te rodean, y valores ese tan maravilloso tes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le digas a las personas que quieres, hoy, no mañana, cuánto los quieres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5904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7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4752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te sepas hijo de Dios, y te des cuenta que él, te ama, y quiere verte sonreír feliz y lleno de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50160" cy="5805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no se te vaya la vida en un soplo y que cuando mires atrás, seas ya un anciano que no puede echar tiempo atrás, que todo lo hizo urgent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22:37:00Z</dcterms:created>
  <dc:creator>Nicolás Valderrama</dc:creator>
  <dc:description/>
  <dc:language>en-US</dc:language>
  <cp:lastModifiedBy>Cristina</cp:lastModifiedBy>
  <dcterms:modified xsi:type="dcterms:W3CDTF">2009-10-02T17:34:11Z</dcterms:modified>
  <cp:revision>41</cp:revision>
  <dc:subject/>
  <dc:title>URGENTE</dc:title>
</cp:coreProperties>
</file>