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MENDAB~1.WAV" ContentType="audio/x-wav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27A-057D-4BA7-8F86-9D30FA37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EBB-E300-4AAF-8F30-39C1CA44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DBB-B242-4BF8-BFF4-AB09C3CA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853-D78A-4840-975D-77ECBA78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475-39B0-42FB-9FA1-D6047AEC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C15-3FE5-4C0C-A9DA-A3D64409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570-E1D9-48C2-918C-7C19C5BA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757-CB4C-4840-A68F-72484092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7A7-57D5-4337-89FB-000D30EA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F96-8DDD-4812-B68F-4D64069A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DE2-0022-4DFE-B60E-EADF7435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C73-168D-4A6D-ADDA-E6BFC66C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3C40-5BDB-4F15-A43C-405A35CB1748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ENDAB~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600" spc="-1" strike="noStrike">
                <a:solidFill>
                  <a:srgbClr val="000099"/>
                </a:solidFill>
                <a:latin typeface="Arial"/>
              </a:rPr>
              <a:t>Bodyart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3068640"/>
            <a:ext cx="6629400" cy="23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he Amazing Ar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alvatore Dal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 advTm="8000">
    <p:zoom dir="out"/>
    <p:sndAc>
      <p:stSnd>
        <p:snd r:embed="rId2" name="MENDAB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48320" y="5943600"/>
            <a:ext cx="42670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ahoma"/>
              </a:rPr>
              <a:t>Click mouse to end show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6:18:34Z</dcterms:created>
  <dc:creator/>
  <dc:description/>
  <dc:language>en-US</dc:language>
  <cp:lastModifiedBy>vernera</cp:lastModifiedBy>
  <dcterms:modified xsi:type="dcterms:W3CDTF">2005-07-01T12:31:07Z</dcterms:modified>
  <cp:revision>8</cp:revision>
  <dc:subject/>
  <dc:title>Folie 1</dc:title>
</cp:coreProperties>
</file>