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MENDAB~1.WAV" ContentType="audio/x-wav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D57-1547-472E-B211-81C47535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EE2-9F43-4DF7-99F2-13DD9BE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747-CBD5-449B-BB3E-866EA02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C35-2944-4FF6-A77F-64304513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B42-E5C2-4D94-B187-875ECE9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28C-41D3-4C03-B2B2-5BF9BE73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2F6-1B24-40CD-8AD5-F5E2CB2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78D-EB4F-43DF-BDF4-ECCA2E79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0DE-65E1-467E-B70A-A454DD7D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944-4E20-4E3E-A206-8870E0B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6A6-8803-4F78-BF62-A280436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F3B-A640-4FC5-A9ED-4FE1F9E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AD3-66EE-41E6-906E-78623EF9328A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AB~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600" spc="-1" strike="noStrike">
                <a:solidFill>
                  <a:srgbClr val="000099"/>
                </a:solidFill>
                <a:latin typeface="Arial"/>
              </a:rPr>
              <a:t>Bodyart</a:t>
            </a:r>
            <a:endParaRPr b="0" lang="en-US" sz="10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3068640"/>
            <a:ext cx="6629400" cy="23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e Amazing Art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alvatore D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8000">
    <p:zoom dir="out"/>
    <p:sndAc>
      <p:stSnd>
        <p:snd r:embed="rId2" name="MENDAB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48320" y="5943600"/>
            <a:ext cx="4267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ahoma"/>
              </a:rPr>
              <a:t>Click mouse to end show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6:18:34Z</dcterms:created>
  <dc:creator/>
  <dc:description/>
  <dc:language>en-US</dc:language>
  <cp:lastModifiedBy>vernera</cp:lastModifiedBy>
  <dcterms:modified xsi:type="dcterms:W3CDTF">2005-07-01T12:31:07Z</dcterms:modified>
  <cp:revision>8</cp:revision>
  <dc:subject/>
  <dc:title>Folie 1</dc:title>
</cp:coreProperties>
</file>