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92B-36A3-48FB-9A6B-AFB7A36E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5E9-0CBD-4307-A07A-7CC1636A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593-2B52-42AD-AAE0-D7D71526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9E0-AD89-4088-94D9-F47C759E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D70-B852-4E0C-A0DD-2CAFAAE9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34C-E423-4E8F-AB6C-96A5F30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F0F-B148-4295-BFF2-4FCC4B9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836-B7D7-4B40-BAB5-C26505E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C1F-A9C7-43AF-98B3-6D70BE9B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CB4-1546-4514-89B5-DA5619FA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62E-517A-4A7E-BFE3-5DE43C7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766-11C4-4CFD-B7CC-619674A1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BD9-C85C-401B-A153-D945BFD0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29440" y="1989000"/>
            <a:ext cx="15112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197000"/>
            <a:ext cx="273528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141720"/>
            <a:ext cx="72072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163640" y="3141720"/>
            <a:ext cx="576360" cy="2087640"/>
          </a:xfrm>
          <a:custGeom>
            <a:avLst/>
            <a:gdLst/>
            <a:ahLst/>
            <a:rect l="l" t="t" r="r" b="b"/>
            <a:pathLst>
              <a:path w="408" h="1315">
                <a:moveTo>
                  <a:pt x="408" y="0"/>
                </a:moveTo>
                <a:lnTo>
                  <a:pt x="408" y="226"/>
                </a:lnTo>
                <a:lnTo>
                  <a:pt x="363" y="408"/>
                </a:lnTo>
                <a:lnTo>
                  <a:pt x="272" y="544"/>
                </a:lnTo>
                <a:lnTo>
                  <a:pt x="136" y="680"/>
                </a:lnTo>
                <a:lnTo>
                  <a:pt x="45" y="861"/>
                </a:lnTo>
                <a:lnTo>
                  <a:pt x="0" y="1088"/>
                </a:lnTo>
                <a:lnTo>
                  <a:pt x="0" y="1315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765000"/>
            <a:ext cx="1871640" cy="258480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38760" y="836640"/>
            <a:ext cx="1785600" cy="2736720"/>
          </a:xfrm>
          <a:custGeom>
            <a:avLst/>
            <a:gdLst/>
            <a:ahLst/>
            <a:rect l="l" t="t" r="r" b="b"/>
            <a:pathLst>
              <a:path w="1179" h="1628">
                <a:moveTo>
                  <a:pt x="0" y="0"/>
                </a:moveTo>
                <a:cubicBezTo>
                  <a:pt x="14" y="44"/>
                  <a:pt x="21" y="95"/>
                  <a:pt x="55" y="128"/>
                </a:cubicBezTo>
                <a:cubicBezTo>
                  <a:pt x="67" y="164"/>
                  <a:pt x="72" y="180"/>
                  <a:pt x="109" y="192"/>
                </a:cubicBezTo>
                <a:cubicBezTo>
                  <a:pt x="134" y="215"/>
                  <a:pt x="162" y="250"/>
                  <a:pt x="192" y="265"/>
                </a:cubicBezTo>
                <a:cubicBezTo>
                  <a:pt x="203" y="270"/>
                  <a:pt x="216" y="270"/>
                  <a:pt x="228" y="274"/>
                </a:cubicBezTo>
                <a:cubicBezTo>
                  <a:pt x="283" y="291"/>
                  <a:pt x="338" y="311"/>
                  <a:pt x="393" y="329"/>
                </a:cubicBezTo>
                <a:cubicBezTo>
                  <a:pt x="435" y="342"/>
                  <a:pt x="478" y="347"/>
                  <a:pt x="521" y="357"/>
                </a:cubicBezTo>
                <a:cubicBezTo>
                  <a:pt x="540" y="361"/>
                  <a:pt x="576" y="375"/>
                  <a:pt x="576" y="375"/>
                </a:cubicBezTo>
                <a:cubicBezTo>
                  <a:pt x="603" y="393"/>
                  <a:pt x="629" y="397"/>
                  <a:pt x="658" y="412"/>
                </a:cubicBezTo>
                <a:cubicBezTo>
                  <a:pt x="720" y="444"/>
                  <a:pt x="651" y="419"/>
                  <a:pt x="713" y="439"/>
                </a:cubicBezTo>
                <a:cubicBezTo>
                  <a:pt x="744" y="459"/>
                  <a:pt x="752" y="478"/>
                  <a:pt x="777" y="503"/>
                </a:cubicBezTo>
                <a:cubicBezTo>
                  <a:pt x="796" y="522"/>
                  <a:pt x="827" y="543"/>
                  <a:pt x="850" y="558"/>
                </a:cubicBezTo>
                <a:cubicBezTo>
                  <a:pt x="864" y="600"/>
                  <a:pt x="866" y="629"/>
                  <a:pt x="896" y="658"/>
                </a:cubicBezTo>
                <a:cubicBezTo>
                  <a:pt x="927" y="752"/>
                  <a:pt x="948" y="848"/>
                  <a:pt x="978" y="942"/>
                </a:cubicBezTo>
                <a:cubicBezTo>
                  <a:pt x="988" y="1087"/>
                  <a:pt x="1015" y="1216"/>
                  <a:pt x="1060" y="1353"/>
                </a:cubicBezTo>
                <a:cubicBezTo>
                  <a:pt x="1077" y="1406"/>
                  <a:pt x="1086" y="1468"/>
                  <a:pt x="1124" y="1509"/>
                </a:cubicBezTo>
                <a:cubicBezTo>
                  <a:pt x="1127" y="1518"/>
                  <a:pt x="1128" y="1528"/>
                  <a:pt x="1133" y="1536"/>
                </a:cubicBezTo>
                <a:cubicBezTo>
                  <a:pt x="1138" y="1543"/>
                  <a:pt x="1148" y="1546"/>
                  <a:pt x="1152" y="1554"/>
                </a:cubicBezTo>
                <a:cubicBezTo>
                  <a:pt x="1164" y="1577"/>
                  <a:pt x="1168" y="1604"/>
                  <a:pt x="1179" y="162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492280"/>
            <a:ext cx="503280" cy="28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492280"/>
            <a:ext cx="4316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084360" y="4941720"/>
            <a:ext cx="7164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4508640"/>
            <a:ext cx="43200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56000" y="4508640"/>
            <a:ext cx="431640" cy="43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4508640"/>
            <a:ext cx="863640" cy="504720"/>
          </a:xfrm>
          <a:custGeom>
            <a:avLst/>
            <a:gdLst/>
            <a:ahLst/>
            <a:rect l="l" t="t" r="r" b="b"/>
            <a:pathLst>
              <a:path w="544" h="318">
                <a:moveTo>
                  <a:pt x="0" y="0"/>
                </a:moveTo>
                <a:lnTo>
                  <a:pt x="181" y="45"/>
                </a:lnTo>
                <a:lnTo>
                  <a:pt x="317" y="45"/>
                </a:lnTo>
                <a:lnTo>
                  <a:pt x="544" y="0"/>
                </a:lnTo>
                <a:lnTo>
                  <a:pt x="272" y="3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1280" y="486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62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46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78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7856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803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508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8656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4692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5373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309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1280" y="5734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13399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5229360"/>
            <a:ext cx="362412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4473720" cy="518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00720" y="581040"/>
            <a:ext cx="3384360" cy="119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708360" y="1530360"/>
            <a:ext cx="4751280" cy="3030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50920" y="115920"/>
            <a:ext cx="451476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¿Cómo se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dibuja una perra?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mic Sans MS"/>
              </a:rPr>
              <a:t>¡¡¡ Qué mente podrida tienes 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3:51:27Z</dcterms:created>
  <dc:creator>Goicosa</dc:creator>
  <dc:description/>
  <dc:language>en-US</dc:language>
  <cp:lastModifiedBy>//</cp:lastModifiedBy>
  <dcterms:modified xsi:type="dcterms:W3CDTF">2007-01-29T14:32:57Z</dcterms:modified>
  <cp:revision>18</cp:revision>
  <dc:subject/>
  <dc:title>Como se dibuja un perro</dc:title>
</cp:coreProperties>
</file>