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C14-2BFC-42E5-9D4C-7E04C1BD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6B8-C889-4062-96FA-6F0A08A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43D-4091-4B0A-8D5E-DE244C6F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C41-DECE-49D2-AF67-FEC6B145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7A4-19C7-4F4B-97D5-2D23E6BC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A02-0DBD-49AB-ADAC-3CEE966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6C0-9165-41CA-9465-B4B1B0E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883-3FF7-4A27-95C7-57ECAE73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4C4-1676-4D5C-B55B-8B00975F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5EA-CDF5-489F-A7DF-20E73CCB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C7E-9ECE-44A4-B65E-B14A6D9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9CD-82B7-4A26-8F99-C3DC8DF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A82A-68F2-4F5A-AE36-B63B67EE6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2944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197000"/>
            <a:ext cx="273528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141720"/>
            <a:ext cx="72072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163640" y="3141720"/>
            <a:ext cx="57636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765000"/>
            <a:ext cx="1871640" cy="258480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38760" y="836640"/>
            <a:ext cx="1785600" cy="273672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492280"/>
            <a:ext cx="50328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492280"/>
            <a:ext cx="431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084360" y="4941720"/>
            <a:ext cx="7164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4508640"/>
            <a:ext cx="43200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56000" y="4508640"/>
            <a:ext cx="43164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4508640"/>
            <a:ext cx="863640" cy="504720"/>
          </a:xfrm>
          <a:custGeom>
            <a:avLst/>
            <a:gdLst/>
            <a:ahLst/>
            <a:rect l="l" t="t" r="r" b="b"/>
            <a:pathLst>
              <a:path w="544" h="318">
                <a:moveTo>
                  <a:pt x="0" y="0"/>
                </a:moveTo>
                <a:lnTo>
                  <a:pt x="181" y="45"/>
                </a:lnTo>
                <a:lnTo>
                  <a:pt x="317" y="45"/>
                </a:lnTo>
                <a:lnTo>
                  <a:pt x="544" y="0"/>
                </a:lnTo>
                <a:lnTo>
                  <a:pt x="272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1280" y="486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62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46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78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7856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656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4692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309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1280" y="5734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13399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5229360"/>
            <a:ext cx="362412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4473720" cy="518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00720" y="581040"/>
            <a:ext cx="3384360" cy="119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708360" y="1530360"/>
            <a:ext cx="4751280" cy="30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50920" y="115920"/>
            <a:ext cx="451476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¿Cómo se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dibuja una perra?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mic Sans MS"/>
              </a:rPr>
              <a:t>¡¡¡ Qué mente podrida tienes 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3:51:27Z</dcterms:created>
  <dc:creator>Goicosa</dc:creator>
  <dc:description/>
  <dc:language>en-US</dc:language>
  <cp:lastModifiedBy>//</cp:lastModifiedBy>
  <dcterms:modified xsi:type="dcterms:W3CDTF">2007-01-29T14:32:57Z</dcterms:modified>
  <cp:revision>18</cp:revision>
  <dc:subject/>
  <dc:title>Como se dibuja un perro</dc:title>
</cp:coreProperties>
</file>