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Los%20Indios%20Tabajara%20-%20Perfidia.wav" ContentType="audio/x-wav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CA9-9CEA-4FDE-9B5E-6BB2BF4E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9EA-C7BB-4925-8AC0-82C87841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7CA-31D5-4BF7-B458-29BABEBB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57E-BA14-4A10-B192-DC6A5B35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714-6F87-4471-8900-FFDA5DEC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7E4-7547-42F7-885C-CA87894E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959-B2FB-4B23-953B-9C8348BB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4EA-09A7-4079-91ED-4CB6F754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756-516D-468B-BD35-60D608D4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9DD-1105-4F57-BFF7-8CC5CFB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EE9-00B1-4F4B-BC14-4857A597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9B2-CC1A-4167-9F03-8D7B0142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8F2A-1337-42DE-96B7-66F985F44BE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os%20Indios%20Tabajara%20-%20Perfidi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Palatino Linotype"/>
              </a:rPr>
              <a:t>A medida que envejecemos, las mujeres ganamos peso. Esto ocurre porque acumulamos mucha información en nuestra cab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mafalda2"/>
          <p:cNvPicPr/>
          <p:nvPr/>
        </p:nvPicPr>
        <p:blipFill>
          <a:blip r:embed="rId1"/>
          <a:stretch/>
        </p:blipFill>
        <p:spPr>
          <a:xfrm>
            <a:off x="2895480" y="2666880"/>
            <a:ext cx="3257640" cy="3753000"/>
          </a:xfrm>
          <a:prstGeom prst="rect">
            <a:avLst/>
          </a:prstGeom>
          <a:ln w="0">
            <a:noFill/>
          </a:ln>
        </p:spPr>
      </p:pic>
      <p:sp>
        <p:nvSpPr>
          <p:cNvPr id="43" name="3 Flecha derecha"/>
          <p:cNvSpPr/>
          <p:nvPr/>
        </p:nvSpPr>
        <p:spPr>
          <a:xfrm>
            <a:off x="7164360" y="5732640"/>
            <a:ext cx="977760" cy="43308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7236000" y="6237360"/>
            <a:ext cx="8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21ff90"/>
                </a:solidFill>
                <a:latin typeface="Times New Roman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Los%20Indios%20Tabajara%20-%20Perfidi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99"/>
                </a:solidFill>
                <a:latin typeface="Times New Roman"/>
              </a:rPr>
              <a:t>Podemos dormir con una amiga sin ser llamadas homosexu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mafalda14"/>
          <p:cNvPicPr/>
          <p:nvPr/>
        </p:nvPicPr>
        <p:blipFill>
          <a:blip r:embed="rId1"/>
          <a:stretch/>
        </p:blipFill>
        <p:spPr>
          <a:xfrm>
            <a:off x="0" y="2362320"/>
            <a:ext cx="3629160" cy="4352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3886200" y="3625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imes New Roman"/>
              </a:rPr>
              <a:t>-Podemos prestar ate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imes New Roman"/>
              </a:rPr>
              <a:t>a varias cosas a la v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Mujer de embajador, es embajadora; </a:t>
            </a:r>
            <a:br>
              <a:rPr sz="3600"/>
            </a:b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marido de embajadora, quién 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mafalda9"/>
          <p:cNvPicPr/>
          <p:nvPr/>
        </p:nvPicPr>
        <p:blipFill>
          <a:blip r:embed="rId1"/>
          <a:stretch/>
        </p:blipFill>
        <p:spPr>
          <a:xfrm>
            <a:off x="111240" y="2286000"/>
            <a:ext cx="3440160" cy="4343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641760" y="2133720"/>
            <a:ext cx="52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-Mujer de presidente es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primera dama; marido de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presidenta, quién 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CuadroTexto"/>
          <p:cNvSpPr/>
          <p:nvPr/>
        </p:nvSpPr>
        <p:spPr>
          <a:xfrm>
            <a:off x="3635280" y="4292640"/>
            <a:ext cx="549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9900"/>
                </a:solidFill>
                <a:latin typeface="Times New Roman"/>
              </a:rPr>
              <a:t>Mujer de rey es reina; marido de reina, ¿quién es? por mucho se le dá el tít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9900"/>
                </a:solidFill>
                <a:latin typeface="Times New Roman"/>
              </a:rPr>
              <a:t>de príncipe consor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i decidimos hacer trabajos de hombres,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omos pioner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mafalda6"/>
          <p:cNvPicPr/>
          <p:nvPr/>
        </p:nvPicPr>
        <p:blipFill>
          <a:blip r:embed="rId1"/>
          <a:stretch/>
        </p:blipFill>
        <p:spPr>
          <a:xfrm>
            <a:off x="0" y="26668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724280" y="3657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imes New Roman"/>
              </a:rPr>
              <a:t>Si un hombre de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imes New Roman"/>
              </a:rPr>
              <a:t>hacer trabajos femenin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imes New Roman"/>
              </a:rPr>
              <a:t>es maric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Y POR ÚLTI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mafalda12"/>
          <p:cNvPicPr/>
          <p:nvPr/>
        </p:nvPicPr>
        <p:blipFill>
          <a:blip r:embed="rId1"/>
          <a:stretch/>
        </p:blipFill>
        <p:spPr>
          <a:xfrm>
            <a:off x="2979720" y="2895480"/>
            <a:ext cx="322884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593640" y="160020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Hacemos tooooodo lo que el hombre h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Y CON TACONES ALTOS…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99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Times New Roman"/>
              </a:rPr>
              <a:t>Envíalo a todas las perfectas mujeres que conoz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5200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Times New Roman"/>
              </a:rPr>
              <a:t>Y a los hombres que creas puedan ser capaces de reconocerl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6 Imagen" descr="mafalda-y-sus-amigos-57566.jpg"/>
          <p:cNvPicPr/>
          <p:nvPr/>
        </p:nvPicPr>
        <p:blipFill>
          <a:blip r:embed="rId1"/>
          <a:stretch/>
        </p:blipFill>
        <p:spPr>
          <a:xfrm>
            <a:off x="642960" y="1143000"/>
            <a:ext cx="7810560" cy="4124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7 Imagen" descr="mafalda-1.jpg"/>
          <p:cNvPicPr/>
          <p:nvPr/>
        </p:nvPicPr>
        <p:blipFill>
          <a:blip r:embed="rId1"/>
          <a:stretch/>
        </p:blipFill>
        <p:spPr>
          <a:xfrm>
            <a:off x="6424560" y="3714840"/>
            <a:ext cx="271944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9080" y="572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00"/>
                </a:solidFill>
                <a:latin typeface="Edwardian Script ITC"/>
              </a:rPr>
              <a:t>Q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00"/>
                </a:solidFill>
                <a:latin typeface="Edwardian Script ITC"/>
              </a:rPr>
              <a:t>Tengas un dí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00"/>
                </a:solidFill>
                <a:latin typeface="Edwardian Script ITC"/>
              </a:rPr>
              <a:t>Estupend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8 Rectángulo"/>
          <p:cNvSpPr/>
          <p:nvPr/>
        </p:nvSpPr>
        <p:spPr>
          <a:xfrm>
            <a:off x="6143760" y="6215040"/>
            <a:ext cx="10713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Times New Roman"/>
              </a:rPr>
              <a:t>Pero claro, llega un punto en que tanta información no cabe en nuestra cabecita. Así que esta información acumulada empieza a distribuirse por todo el cuerpo. Y ahora lo entiendo todo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mafalda4"/>
          <p:cNvPicPr/>
          <p:nvPr/>
        </p:nvPicPr>
        <p:blipFill>
          <a:blip r:embed="rId1"/>
          <a:stretch/>
        </p:blipFill>
        <p:spPr>
          <a:xfrm>
            <a:off x="1676520" y="220968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0080"/>
                </a:solidFill>
                <a:latin typeface="Times New Roman"/>
              </a:rPr>
              <a:t>No me sobran kilo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afalda7"/>
          <p:cNvPicPr/>
          <p:nvPr/>
        </p:nvPicPr>
        <p:blipFill>
          <a:blip r:embed="rId1"/>
          <a:stretch/>
        </p:blipFill>
        <p:spPr>
          <a:xfrm>
            <a:off x="533520" y="2514600"/>
            <a:ext cx="298116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419720" y="238608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0080"/>
                </a:solidFill>
                <a:latin typeface="Times New Roman"/>
              </a:rPr>
              <a:t>No estoy gord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403160" y="368136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Times New Roman"/>
              </a:rPr>
              <a:t>Soy cult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419720" y="4900680"/>
            <a:ext cx="322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Times New Roman"/>
              </a:rPr>
              <a:t>MUY cult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0080"/>
                </a:solidFill>
                <a:latin typeface="Times New Roman"/>
              </a:rPr>
              <a:t>PARA TODAS LAS MUJERES ESTUPENDAS QUE ANDAN POR AHÍ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mafalda10"/>
          <p:cNvPicPr/>
          <p:nvPr/>
        </p:nvPicPr>
        <p:blipFill>
          <a:blip r:embed="rId1"/>
          <a:stretch/>
        </p:blipFill>
        <p:spPr>
          <a:xfrm>
            <a:off x="2133720" y="21337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Times New Roman"/>
              </a:rPr>
              <a:t>Estamos en el siglo de las Mujeres Endemoniadamente Guapas , Listas </a:t>
            </a:r>
            <a:br>
              <a:rPr sz="2400"/>
            </a:br>
            <a:r>
              <a:rPr b="0" lang="es-ES_tradnl" sz="2400" spc="-1" strike="noStrike">
                <a:solidFill>
                  <a:srgbClr val="800080"/>
                </a:solidFill>
                <a:latin typeface="Times New Roman"/>
              </a:rPr>
              <a:t>y Elegantes, así que por favor envía este mensaje a alguien que creas que encaja en esta descrip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000760" y="3583080"/>
            <a:ext cx="373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Me lo puedes volver a env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a mí aunque lo haya recibido y ya sepa que soy estupen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Y no olvidemos este lema de v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6 Imagen" descr="mafalda.jpg"/>
          <p:cNvPicPr/>
          <p:nvPr/>
        </p:nvPicPr>
        <p:blipFill>
          <a:blip r:embed="rId1"/>
          <a:stretch/>
        </p:blipFill>
        <p:spPr>
          <a:xfrm>
            <a:off x="857160" y="1484280"/>
            <a:ext cx="414360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03400" y="345960"/>
            <a:ext cx="863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La vida NO debería ser un viaje hacia la tumba con la inten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llegar con buena salud y con un cuerpo atractivo y bien cuidado, s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más bien deslizarse en ella, con chocolate en una mano, vino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otra, el cuerpo hecho polvo, totalmente desgastado y gritando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32480" y="4343400"/>
            <a:ext cx="40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imes New Roman"/>
              </a:rPr>
              <a:t>¡¡¡Waoooo … que paseo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7 Imagen" descr="66735-mafalda.jpg"/>
          <p:cNvPicPr/>
          <p:nvPr/>
        </p:nvPicPr>
        <p:blipFill>
          <a:blip r:embed="rId1"/>
          <a:stretch/>
        </p:blipFill>
        <p:spPr>
          <a:xfrm>
            <a:off x="357120" y="2214720"/>
            <a:ext cx="41245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imes New Roman"/>
              </a:rPr>
              <a:t>SI SEÑOR!!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imes New Roman"/>
              </a:rPr>
              <a:t>SOMOS PERFECTA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mafalda5"/>
          <p:cNvPicPr/>
          <p:nvPr/>
        </p:nvPicPr>
        <p:blipFill>
          <a:blip r:embed="rId1"/>
          <a:stretch/>
        </p:blipFill>
        <p:spPr>
          <a:xfrm>
            <a:off x="363600" y="2362320"/>
            <a:ext cx="3341520" cy="3962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962520" y="242892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-No  nos quedamos cal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-Tenemos un día internacional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otr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-Podemos usar tanto color ros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como az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Times New Roman"/>
              </a:rPr>
              <a:t>Siempre sabemos que nuestro hijo es nues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mafalda3"/>
          <p:cNvPicPr/>
          <p:nvPr/>
        </p:nvPicPr>
        <p:blipFill>
          <a:blip r:embed="rId1"/>
          <a:stretch/>
        </p:blipFill>
        <p:spPr>
          <a:xfrm>
            <a:off x="0" y="228600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343400" y="2610000"/>
            <a:ext cx="464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Times New Roman"/>
              </a:rPr>
              <a:t>-Tenemos prioridad en 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800080"/>
                </a:solidFill>
                <a:latin typeface="Times New Roman"/>
              </a:rPr>
              <a:t>naufrag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-No pagamos la cu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Somos los primeros rehenes en ser liber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mafalda13"/>
          <p:cNvPicPr/>
          <p:nvPr/>
        </p:nvPicPr>
        <p:blipFill>
          <a:blip r:embed="rId1"/>
          <a:stretch/>
        </p:blipFill>
        <p:spPr>
          <a:xfrm>
            <a:off x="533520" y="3048120"/>
            <a:ext cx="3328920" cy="2931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254120" y="2330280"/>
            <a:ext cx="443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-Si somos traicionad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somos víctim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00"/>
                </a:solidFill>
                <a:latin typeface="Times New Roman"/>
              </a:rPr>
              <a:t>-Si traicionamos, el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00"/>
                </a:solidFill>
                <a:latin typeface="Times New Roman"/>
              </a:rPr>
              <a:t>son los cornu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2:39:30Z</dcterms:created>
  <dc:creator>Pruebas</dc:creator>
  <dc:description/>
  <dc:language>en-US</dc:language>
  <cp:lastModifiedBy>FGarzon</cp:lastModifiedBy>
  <dcterms:modified xsi:type="dcterms:W3CDTF">2012-03-23T22:49:45Z</dcterms:modified>
  <cp:revision>15</cp:revision>
  <dc:subject/>
  <dc:title>AUTOESTIMA FEMENINA</dc:title>
</cp:coreProperties>
</file>