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17.%20Kalimba%20the%20Lun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8A3-AF85-4D7B-A705-5F8C675B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F53-09F7-4309-B158-705F1F78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A69-94EC-4523-B5EA-131D7669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0E6-6842-4021-B9D6-80019281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540-18EF-43DE-BE58-2CC6DE91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E5B-1779-4631-9D00-BB494AFC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BFC-F9F2-4831-8651-1CC36DD0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A53-9281-4A69-A132-03FE0AD0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584-DD6B-46DE-8F3D-D436C198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B01-3FF9-455A-ABA4-682CE5E5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5FE-4BE6-47BA-B798-44289A1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AB1-202B-4637-8714-E3C0862F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567B-0DF4-49AD-92AA-4554831E2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7.%20Kalimba%20the%20Lun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2637000"/>
            <a:ext cx="504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ra que oj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771640" y="1201680"/>
            <a:ext cx="3886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 lo advertí...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4000" y="3073320"/>
            <a:ext cx="1904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 dije: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35280" y="4811760"/>
            <a:ext cx="3781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ra que Ojos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5:19:27Z</dcterms:created>
  <dc:creator>Usuario</dc:creator>
  <dc:description/>
  <dc:language>en-US</dc:language>
  <cp:lastModifiedBy>Usuario</cp:lastModifiedBy>
  <dcterms:modified xsi:type="dcterms:W3CDTF">2009-09-16T05:29:10Z</dcterms:modified>
  <cp:revision>2</cp:revision>
  <dc:subject/>
  <dc:title>Diapositiva 1</dc:title>
</cp:coreProperties>
</file>