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17.%20Kalimba%20the%20Lun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CA2-30D1-4D03-9F83-23FC5018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8BF-53D1-483B-82FB-FA941F7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783-5519-4498-A182-6039ACC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F4F-0D43-497F-8A2E-A8A237C8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BF9-811C-4145-9450-870CE6A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564-F07D-4714-AB0F-EB8E22B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473-321F-4F43-A3F2-C8955D9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317-9AFD-4C54-AF58-5B51E050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CFB-2894-4DDF-900B-09B1F385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499-039A-40B0-8E5F-7F075CE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33E-AA8A-4BF8-85AB-E641D36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D3D-CB88-44F0-BBCC-E472445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040-DB92-4D49-985F-FE977048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7.%20Kalimba%20the%20Lun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637000"/>
            <a:ext cx="50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ra que oj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71640" y="1201680"/>
            <a:ext cx="388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 lo advertí..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4000" y="3073320"/>
            <a:ext cx="1904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 dije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35280" y="4811760"/>
            <a:ext cx="3781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ra que Ojos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5:19:27Z</dcterms:created>
  <dc:creator>Usuario</dc:creator>
  <dc:description/>
  <dc:language>en-US</dc:language>
  <cp:lastModifiedBy>Usuario</cp:lastModifiedBy>
  <dcterms:modified xsi:type="dcterms:W3CDTF">2009-09-16T05:29:10Z</dcterms:modified>
  <cp:revision>2</cp:revision>
  <dc:subject/>
  <dc:title>Diapositiva 1</dc:title>
</cp:coreProperties>
</file>