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anchors_away_march.wav" ContentType="audio/x-wav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B93-5C5C-4CED-8DD4-A73359B4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791-6A69-4E83-B47F-0EC192E5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DF0-4B44-4BE2-8E92-CEFBA9ED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6AD-15F1-4F42-95F3-35185CF6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B2F-C7F7-43BC-9FBD-265D57B1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F945-F507-4529-93E6-0A567060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C70-F692-4244-BAAB-902C4D52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E6A-2D43-4066-AA78-2F693216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FBB-BAE3-4DA4-A0D1-A3796E33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7F6-598E-42AC-9B2F-D943C09C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F8E-9F2E-4C80-9384-637C8098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5AA-C826-44EF-A08F-41F1BA82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E91D-47AD-4CF2-B3EE-4BC1617B2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chors_away_march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  <p:sndAc>
      <p:stSnd>
        <p:snd r:embed="rId2" name="anchors_away_marc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51040" y="1371600"/>
            <a:ext cx="783576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78040" y="137160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52480" y="133344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86000" y="1066680"/>
            <a:ext cx="487692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384200" y="1295280"/>
            <a:ext cx="684540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94360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52480" y="140976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828800" y="1790640"/>
            <a:ext cx="5943600" cy="3695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89120" y="1371600"/>
            <a:ext cx="608328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152280" y="1143000"/>
            <a:ext cx="944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Rockwell"/>
              </a:rPr>
              <a:t>INTRODUC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52280" y="2666880"/>
            <a:ext cx="944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52280" y="3733920"/>
            <a:ext cx="94485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Arial"/>
              </a:rPr>
              <a:t>X-47B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828800" y="1873080"/>
            <a:ext cx="5943600" cy="3111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11280" y="1523880"/>
            <a:ext cx="6566040" cy="4343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3880" y="1486080"/>
            <a:ext cx="6400800" cy="4305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75120" y="1828800"/>
            <a:ext cx="65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6ba00"/>
                </a:solidFill>
                <a:latin typeface="Rockwell"/>
              </a:rPr>
              <a:t>NOT THE 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6640" y="3505320"/>
            <a:ext cx="80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6ba00"/>
                </a:solidFill>
                <a:latin typeface="Rockwell"/>
              </a:rPr>
              <a:t>BUT THE BEGIN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371600"/>
            <a:ext cx="9067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Aerospace goliath Northrop Grumman has taken the wraps off one of the most advanced robot aircraft in the world, the X-47B Unmanned Combat Air System (UCAS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67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 X-47B is intended to operate from the flight deck of US Navy aircraft carriers, carrying out entire missions including air-to-air refueling without pilot inpu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76212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Captain Martin Deppe , of the Navy’s X-47B project said that Northrop will provide four demonstration aircraft, mainly intended to prove that unmanned planes can successfully take off from, and land onto, US carri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676520"/>
            <a:ext cx="9220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Northrop Grumman states that the X-47B, now completed, will enter ground and flight tests in the autumn of 2009.  Carrier trials are scheduled in 201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152280" y="2895480"/>
            <a:ext cx="944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Rockwell"/>
              </a:rPr>
              <a:t>And now, the X-4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58920" y="16002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140976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20:13:15Z</dcterms:created>
  <dc:creator>CDR DONALD L. GREER, USN (RET)</dc:creator>
  <dc:description/>
  <dc:language>en-US</dc:language>
  <cp:lastModifiedBy>DONALD GREER</cp:lastModifiedBy>
  <dcterms:modified xsi:type="dcterms:W3CDTF">2009-06-08T23:03:19Z</dcterms:modified>
  <cp:revision>23</cp:revision>
  <dc:subject/>
  <dc:title>Slide 1</dc:title>
</cp:coreProperties>
</file>