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anchors_away_march.wav" ContentType="audio/x-wav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33F0-777E-49DB-8E24-E4318193B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BEF9-F7C8-4B99-A33A-1F5C62BF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A4E6-42D3-4286-BD38-6BA306C55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5745-29C4-4EFB-9298-5961C65FB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E204-DD20-4522-9458-5B0A16FC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D728-3D22-4526-ADB2-D37BE6C2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18D8-BEE1-4173-8715-EE8D0B0D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8249-551F-4732-8935-EEF21BF5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CBB6-7F37-418C-B54C-12AC2016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FC0A-A765-453E-B9BF-2C486205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F554-BDC2-4B66-9DB6-3569BC1A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834C-8470-447C-9772-152F2ABA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D221-15E0-40D9-8C51-710B95C97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nchors_away_march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  <p:sndAc>
      <p:stSnd>
        <p:snd r:embed="rId2" name="anchors_away_marc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851040" y="1371600"/>
            <a:ext cx="7835760" cy="4572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778040" y="1371600"/>
            <a:ext cx="5587920" cy="41911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752480" y="1333440"/>
            <a:ext cx="5943600" cy="44578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286000" y="1066680"/>
            <a:ext cx="4876920" cy="50292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384200" y="1295280"/>
            <a:ext cx="6845400" cy="4572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828800" y="1676520"/>
            <a:ext cx="5943600" cy="39621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752480" y="1409760"/>
            <a:ext cx="5943600" cy="44575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752480" y="1600200"/>
            <a:ext cx="5943600" cy="39625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828800" y="1790640"/>
            <a:ext cx="5943600" cy="36957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689120" y="1371600"/>
            <a:ext cx="6083280" cy="4572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-152280" y="1143000"/>
            <a:ext cx="9448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Rockwell"/>
              </a:rPr>
              <a:t>INTRODUCI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152280" y="2666880"/>
            <a:ext cx="944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ockwell"/>
              </a:rPr>
              <a:t>T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152280" y="3733920"/>
            <a:ext cx="944856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500" spc="-1" strike="noStrike">
                <a:solidFill>
                  <a:srgbClr val="000000"/>
                </a:solidFill>
                <a:latin typeface="Arial"/>
              </a:rPr>
              <a:t>X-47B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828800" y="1873080"/>
            <a:ext cx="5943600" cy="31118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511280" y="1523880"/>
            <a:ext cx="6566040" cy="43434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523880" y="1486080"/>
            <a:ext cx="6400800" cy="43052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275120" y="1828800"/>
            <a:ext cx="65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6ba00"/>
                </a:solidFill>
                <a:latin typeface="Rockwell"/>
              </a:rPr>
              <a:t>NOT THE  EN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66640" y="3505320"/>
            <a:ext cx="804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6ba00"/>
                </a:solidFill>
                <a:latin typeface="Rockwell"/>
              </a:rPr>
              <a:t>BUT THE BEGINNI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3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371600"/>
            <a:ext cx="90676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ockwell"/>
              </a:rPr>
              <a:t>Aerospace goliath Northrop Grumman has taken the wraps off one of the most advanced robot aircraft in the world, the X-47B Unmanned Combat Air System (UCAS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16765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ockwell"/>
              </a:rPr>
              <a:t>The X-47B is intended to operate from the flight deck of US Navy aircraft carriers, carrying out entire missions including air-to-air refueling without pilot inpu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762120"/>
            <a:ext cx="9144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ockwell"/>
              </a:rPr>
              <a:t>Captain Martin Deppe , of the Navy’s X-47B project said that Northrop will provide four demonstration aircraft, mainly intended to prove that unmanned planes can successfully take off from, and land onto, US carrie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676520"/>
            <a:ext cx="92203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ockwell"/>
              </a:rPr>
              <a:t>Northrop Grumman states that the X-47B, now completed, will enter ground and flight tests in the autumn of 2009.  Carrier trials are scheduled in 201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-152280" y="2895480"/>
            <a:ext cx="9448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Rockwell"/>
              </a:rPr>
              <a:t>And now, the X-4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158920" y="160020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828800" y="1409760"/>
            <a:ext cx="5943600" cy="44575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20:13:15Z</dcterms:created>
  <dc:creator>CDR DONALD L. GREER, USN (RET)</dc:creator>
  <dc:description/>
  <dc:language>en-US</dc:language>
  <cp:lastModifiedBy>DONALD GREER</cp:lastModifiedBy>
  <dcterms:modified xsi:type="dcterms:W3CDTF">2009-06-08T23:03:19Z</dcterms:modified>
  <cp:revision>23</cp:revision>
  <dc:subject/>
  <dc:title>Slide 1</dc:title>
</cp:coreProperties>
</file>