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9FA19-BC03-4A3D-AF67-857C40EF7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93C7C-A78C-465B-8472-C0B14E541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4A11D-D1AB-4E5F-B852-4C7FBC114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B1A82-5A1F-42C3-9FF0-8D3212DCE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C5796-1A05-4FB7-A492-E709E07BF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6F0E6-5698-40E6-AD1D-1D5C151DF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7F4F-765C-4A28-BF76-137925199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A377A-C668-4882-BA26-FCDE8AA88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5381A-D187-4C1B-A305-94278214E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F49CE-F035-4D5C-B61B-944ED09F0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3019C-10F1-4913-A6ED-789D78366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A21BB-25A8-4E9A-A3B0-CBB2DE41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63F72-0C26-4472-A85E-B597AAAC9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7F3F7-0F77-4152-B369-EF4888504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62692-CE80-4E3B-B340-9287253EE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E0F87-7455-44EC-AEFB-D77B634C0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A4449-EC3F-45A6-BBE1-40EA1819C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83A8-C4B9-4121-BC64-FF575593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38EE-D23C-44E2-84DC-B76867E11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8FBC0-753E-4FA7-B6AB-206AAAF6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39165-2B59-4346-A47E-DC2BC2F2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1016C-3B14-4837-8A3F-EAD819591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4EDC-7657-403A-847A-67835DF4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C5D2-8BBE-4E82-BF2B-861E01BB1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5570-1BF7-46C2-BD1A-C9E4DAD13E1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47B5-BA37-4A38-BCA1-DE81D5C1932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3276360"/>
            <a:ext cx="7924680" cy="1600200"/>
          </a:xfrm>
          <a:prstGeom prst="rect">
            <a:avLst/>
          </a:prstGeom>
          <a:solidFill>
            <a:srgbClr val="ffffff"/>
          </a:solidFill>
          <a:ln w="9360">
            <a:solidFill>
              <a:srgbClr val="000000"/>
            </a:solidFill>
            <a:miter/>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Nunca, jamás respondáis a un teléfono móvil mientras se está CARGANDO!!</a:t>
            </a:r>
            <a:endParaRPr b="0" lang="en-US" sz="2800" spc="-1" strike="noStrike">
              <a:solidFill>
                <a:srgbClr val="000000"/>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Tampoco lo dejéis cargando toda la noch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52280"/>
            <a:ext cx="9144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Verdana"/>
              </a:rPr>
              <a:t>Una persona estaba cargando su teléfono móvil cerca de la cama.</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Verdana"/>
              </a:rPr>
              <a:t>Justo entonces, sonó y respondió cuando aún estaba el aparato conectado al cargador. Tras unos pocos segundos, la electricidad pasó del teléfono al usuario, sufriendo una descarga importante que le lanzó fuera del sitio que ocupaba.</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Verdana"/>
              </a:rPr>
              <a:t>Sus familiares acudieron inmediatamente encontrándole inconsciente, prácticamente sin pulso y con una quemadura en los dedos de las manos. Fue trasladado de urgencia al hospital donde ingresó cadáve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55520"/>
            <a:ext cx="9144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pic>
        <p:nvPicPr>
          <p:cNvPr id="89" name="" descr=""/>
          <p:cNvPicPr/>
          <p:nvPr/>
        </p:nvPicPr>
        <p:blipFill>
          <a:blip r:embed="rId2"/>
          <a:stretch/>
        </p:blipFill>
        <p:spPr>
          <a:xfrm>
            <a:off x="1857240" y="1752480"/>
            <a:ext cx="541836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862280" y="1752480"/>
            <a:ext cx="5408640" cy="4267440"/>
          </a:xfrm>
          <a:prstGeom prst="rect">
            <a:avLst/>
          </a:prstGeom>
          <a:ln w="0">
            <a:noFill/>
          </a:ln>
        </p:spPr>
      </p:pic>
      <p:sp>
        <p:nvSpPr>
          <p:cNvPr id="91" name="PlaceHolder 1"/>
          <p:cNvSpPr>
            <a:spLocks noGrp="1"/>
          </p:cNvSpPr>
          <p:nvPr>
            <p:ph type="title"/>
          </p:nvPr>
        </p:nvSpPr>
        <p:spPr>
          <a:xfrm>
            <a:off x="0" y="155520"/>
            <a:ext cx="9144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803240" y="1752480"/>
            <a:ext cx="5527800" cy="4267440"/>
          </a:xfrm>
          <a:prstGeom prst="rect">
            <a:avLst/>
          </a:prstGeom>
          <a:ln w="0">
            <a:noFill/>
          </a:ln>
        </p:spPr>
      </p:pic>
      <p:sp>
        <p:nvSpPr>
          <p:cNvPr id="93" name="PlaceHolder 1"/>
          <p:cNvSpPr>
            <a:spLocks noGrp="1"/>
          </p:cNvSpPr>
          <p:nvPr>
            <p:ph type="title"/>
          </p:nvPr>
        </p:nvSpPr>
        <p:spPr>
          <a:xfrm>
            <a:off x="0" y="155520"/>
            <a:ext cx="9144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871640" y="1752480"/>
            <a:ext cx="5391000" cy="4267440"/>
          </a:xfrm>
          <a:prstGeom prst="rect">
            <a:avLst/>
          </a:prstGeom>
          <a:ln w="0">
            <a:noFill/>
          </a:ln>
        </p:spPr>
      </p:pic>
      <p:sp>
        <p:nvSpPr>
          <p:cNvPr id="95" name="PlaceHolder 1"/>
          <p:cNvSpPr>
            <a:spLocks noGrp="1"/>
          </p:cNvSpPr>
          <p:nvPr>
            <p:ph type="title"/>
          </p:nvPr>
        </p:nvSpPr>
        <p:spPr>
          <a:xfrm>
            <a:off x="0" y="155520"/>
            <a:ext cx="9144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66280" y="182844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Los teléfonos móviles son un muy práctico y moderno invento. Sin embargo, debemos siempre tener en cuenta que pueden ser también un instrumento… mortal. Nunca uséis el teléfono móvil mientras está conectado a la corriente eléctric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TRANSMITID ESTO A LA GENTE QUE OS IMPORTA!!</a:t>
            </a:r>
            <a:endParaRPr b="0" lang="en-US" sz="2600" spc="-1" strike="noStrike">
              <a:solidFill>
                <a:srgbClr val="000000"/>
              </a:solidFill>
              <a:latin typeface="Verdana"/>
            </a:endParaRPr>
          </a:p>
          <a:p>
            <a:pPr marL="4698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rPr>
              <a:t>YO LO ACABO DE HACER</a:t>
            </a:r>
            <a:endParaRPr b="0" lang="en-US" sz="2600" spc="-1" strike="noStrike">
              <a:solidFill>
                <a:srgbClr val="000000"/>
              </a:solidFill>
              <a:latin typeface="Verdana"/>
            </a:endParaRPr>
          </a:p>
        </p:txBody>
      </p:sp>
      <p:sp>
        <p:nvSpPr>
          <p:cNvPr id="97" name="PlaceHolder 2"/>
          <p:cNvSpPr>
            <a:spLocks noGrp="1"/>
          </p:cNvSpPr>
          <p:nvPr>
            <p:ph type="title"/>
          </p:nvPr>
        </p:nvSpPr>
        <p:spPr>
          <a:xfrm>
            <a:off x="0" y="155520"/>
            <a:ext cx="9144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Verdana"/>
              </a:rPr>
              <a:t>¡¡Nunca, jamás respondáis a un teléfono móvil mientras se está CARGAND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8T00:01:17Z</dcterms:created>
  <dc:creator>Michael Franklin</dc:creator>
  <dc:description/>
  <dc:language>en-US</dc:language>
  <cp:lastModifiedBy>AMontero</cp:lastModifiedBy>
  <dcterms:modified xsi:type="dcterms:W3CDTF">2008-02-21T12:53:12Z</dcterms:modified>
  <cp:revision>5</cp:revision>
  <dc:subject/>
  <dc:title>Slide 1</dc:title>
</cp:coreProperties>
</file>