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3.jpeg" ContentType="image/jpeg"/>
  <Override PartName="/ppt/media/image2.gif" ContentType="image/gif"/>
  <Override PartName="/ppt/media/image7.jpeg" ContentType="image/jpeg"/>
  <Override PartName="/ppt/media/image8.gif" ContentType="image/gif"/>
  <Override PartName="/ppt/media/image12.gif" ContentType="image/gif"/>
  <Override PartName="/ppt/media/image3.jpeg" ContentType="image/jpeg"/>
  <Override PartName="/ppt/media/ELLA%20KUDMI-Someone%20is%20there%20waiting%20for%20my%20song_(16)_2'41.wav" ContentType="audio/x-wav"/>
  <Override PartName="/ppt/media/image1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11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2CD0-B559-41BD-B6B6-6625574F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D318-3A0C-4CAF-9E5F-CE4F3E64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6D42-8714-4576-9E2E-DF153D6F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6513-2AB0-4EBD-8814-A354AE7B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4CC7-C19B-480C-9CFE-D172E038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F1B3-37DE-4556-8369-355D4FE8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8212-8B89-4359-8E59-5F08290A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BB7E-B30C-4B49-8314-D997E340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CDD4-FBB0-4CF9-B53C-38072B62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CADF-A558-4C5D-BE39-29B94BE7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479F-44EA-49C2-9B6A-92F26B24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5243-DCE8-4B5D-9DA1-4D062465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8EDF-D08A-4913-8509-AF9FAD53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3028-556F-4604-891C-3BE9D403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3E0A-9DFB-471B-9E08-135229ED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6EFB-877E-47EF-9F6E-4078BDA2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2BD9-A6A6-4B87-AF62-FF04DB7D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C62-8AB7-43DD-8327-ECD2D6FC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DCF6-FEC8-4F6D-8FE4-C0BD156F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D32D-819A-4026-9809-7013DFF1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572-3FA0-4124-BBA7-D5443EA9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0E61-FE12-46BB-9249-5515E5BD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6226-DCD8-4B49-B6FD-932857D1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5257-DCD3-44C1-A110-DEB5EB2A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7D1C-D4E8-42A1-B21C-767919F89BEA}" type="slidenum"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6ED4-27E9-45E4-B7CB-75BDE215FBC6}" type="slidenum"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ELLA%20KUDMI-Someone%20is%20there%20waiting%20for%20my%20song_(16)_2&apos;41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1204560"/>
            <a:ext cx="226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Contemplar pechos femeninos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s bueno para la salud masculina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ayuda a vivir más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52800" y="0"/>
            <a:ext cx="4533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7164360" y="4797360"/>
            <a:ext cx="1666800" cy="12956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6804000" y="629928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cc00"/>
                </a:solidFill>
                <a:latin typeface="Arial Black"/>
              </a:rPr>
              <a:t>Avanzar manualmente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4716360" y="435960"/>
            <a:ext cx="44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so fue lo que reveló un estudio realizado por un grupo de investigadores alemanes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6372360" y="2349360"/>
            <a:ext cx="761760" cy="1047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932360" y="4002120"/>
            <a:ext cx="370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llos descubrieron que mirar fijamente los pechos de una mujer durante 10 minutos diarios es tan benéfico como hacer media hora de ejercicios físicos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148360" y="2993760"/>
            <a:ext cx="399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ste estudio fue realizado durante 5 años sobre un grupo de 200 hombres voluntarios, y demostró que todos aquellos que aprovecharon el espectáculo de los bellos senos femeninos..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6516720" y="1341360"/>
            <a:ext cx="771480" cy="1047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292720" y="2994120"/>
            <a:ext cx="34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...sufrieron menos enfermedades cardiovasculares, y presentaron menos problemas de hipertensión que los que no lo hacían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443640" y="1125360"/>
            <a:ext cx="771480" cy="1038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4932360" y="402840"/>
            <a:ext cx="37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l Dr. Karen Weatherby, científico que dirigió los estudios, afirmó que: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6372360" y="1773360"/>
            <a:ext cx="819000" cy="10476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4859280" y="2665800"/>
            <a:ext cx="3995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Mirar los senos de una mujer bonita por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10 minutos diarios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quivale a hacer media hora de gimnasia aeróbica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La excitación sexual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aumenta la frecuencia cardíaca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y es benéfica para la circulación sanguínea.”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19640" y="2451240"/>
            <a:ext cx="34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Creemos que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con esa práctica diaria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los hombres podrán aumentar su expectativa de vida en al menos 5 años."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6372360" y="1197000"/>
            <a:ext cx="847440" cy="1038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5867280" y="3243960"/>
            <a:ext cx="30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Tal como lo hemos dicho siempre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xiste una explicación para el caso..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86560" y="5303160"/>
            <a:ext cx="345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¡Los hombres no somos libidinosos,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nos preocupamos por nuestra salud!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43836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116000" y="1627560"/>
            <a:ext cx="655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cc00"/>
                </a:solidFill>
                <a:latin typeface="Tahoma"/>
              </a:rPr>
              <a:t>¿Qué tal compartir estas orientaciones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cc00"/>
                </a:solidFill>
                <a:latin typeface="Tahoma"/>
              </a:rPr>
              <a:t>sobre la salud con sus amigos?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AR" sz="3200" spc="-1" strike="noStrike">
                <a:solidFill>
                  <a:srgbClr val="ffcc00"/>
                </a:solidFill>
                <a:latin typeface="Tahoma"/>
              </a:rPr>
              <a:t>Envíeselas por e-mail.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cc00"/>
                </a:solidFill>
                <a:latin typeface="Tahoma"/>
              </a:rPr>
              <a:t>Ellos también lo merecen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8:22:34Z</dcterms:created>
  <dc:creator>roly</dc:creator>
  <dc:description/>
  <dc:language>en-US</dc:language>
  <cp:lastModifiedBy>.</cp:lastModifiedBy>
  <dcterms:modified xsi:type="dcterms:W3CDTF">2008-09-01T00:41:00Z</dcterms:modified>
  <cp:revision>0</cp:revision>
  <dc:subject/>
  <dc:title>Pechos terapia</dc:title>
</cp:coreProperties>
</file>