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3.jpeg" ContentType="image/jpeg"/>
  <Override PartName="/ppt/media/image2.gif" ContentType="image/gif"/>
  <Override PartName="/ppt/media/image7.jpeg" ContentType="image/jpeg"/>
  <Override PartName="/ppt/media/image8.gif" ContentType="image/gif"/>
  <Override PartName="/ppt/media/image12.gif" ContentType="image/gif"/>
  <Override PartName="/ppt/media/image3.jpeg" ContentType="image/jpeg"/>
  <Override PartName="/ppt/media/ELLA%20KUDMI-Someone%20is%20there%20waiting%20for%20my%20song_(16)_2'41.wav" ContentType="audio/x-wav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BA4-5AF0-497A-98A1-76DDB62D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669-CD0D-4470-B292-3680706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306-3A7F-423E-84FB-2896AF11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693-D985-452A-8B3B-1D85ACB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0CA1-5F49-49ED-AA2E-B5598A2E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291-9DBD-4304-B7BF-4E64AFA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EB6E-6824-4FFD-84CE-8CE344E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9BFE-53A4-49C5-BDBF-2EE0FA46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5E5A-C4C7-4805-B7EA-6CB76F51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9070-7985-4140-B2BE-65FCFE0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A73F-224A-4708-8F5C-01F77BE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18B-3BCF-4DDC-A4AF-3F8F5B6A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E78-43D7-422A-B573-7930A4C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96A3-E50D-4EFA-865E-2EF8698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9A01-AD62-4EEF-8246-6F551CCB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0CAF-0439-4932-81AB-7F8BACA7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D6EC-8C39-4E4A-92A2-8390C013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B4B-376C-4BCA-9343-1D4095C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D83-75A9-4AF9-958F-D2BA88A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E7A-5E33-470C-B1DF-08AAEF1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EE3-7BFF-4525-BA65-8D1401C4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BDA-E5F6-4B39-A62F-241A083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FE5-D308-4C28-ADB6-FA6A09B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E25-44D3-4593-BF8F-470F510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FC80-A8D2-4DE6-9AA8-302991E961AA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A8F8-42B2-4AAB-AB5A-4077DF5047A4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LLA%20KUDMI-Someone%20is%20there%20waiting%20for%20my%20song_(16)_2&apos;4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1204560"/>
            <a:ext cx="22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templar pechos femenin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 bueno para la salud masculin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yuda a vivir má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52800" y="0"/>
            <a:ext cx="4533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666800" cy="12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804000" y="629928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cc00"/>
                </a:solidFill>
                <a:latin typeface="Arial Black"/>
              </a:rPr>
              <a:t>Avanzar manualmente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716360" y="43596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o fue lo que reveló un estudio realizado por un grupo de investigadores alemane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761760" cy="104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932360" y="4002120"/>
            <a:ext cx="37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los descubrieron que mirar fijamente los pechos de una mujer durante 10 minutos diarios es tan benéfico como hacer media hora de ejercicios físicos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148360" y="2993760"/>
            <a:ext cx="39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te estudio fue realizado durante 5 años sobre un grupo de 200 hombres voluntarios, y demostró que todos aquellos que aprovecharon el espectáculo de los bellos senos femeninos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77148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92720" y="299412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...sufrieron menos enfermedades cardiovasculares, y presentaron menos problemas de hipertensión que los que no lo hacían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77148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932360" y="40284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 Dr. Karen Weatherby, científico que dirigió los estudios, afirmó que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819000" cy="1047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859280" y="2665800"/>
            <a:ext cx="399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Mirar los senos de una mujer bonita po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10 minutos diari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quivale a hacer media hora de gimnasia aeróbica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a excitación sexua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umenta la frecuencia cardíac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y es benéfica para la circulación sanguínea.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245124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reemos qu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 esa práctica diari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os hombres podrán aumentar su expectativa de vida en al menos 5 años."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84744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867280" y="324396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Tal como lo hemos dicho siempre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xiste una explicación para el caso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86560" y="530316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¡Los hombres no somos libidinosos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nos preocupamos por nuestra salud!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4383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16000" y="162756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¿Qué tal compartir estas orientaciones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sobre la salud con sus amigos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nvíeselas por e-mail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llos también lo merecen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8:22:34Z</dcterms:created>
  <dc:creator>roly</dc:creator>
  <dc:description/>
  <dc:language>en-US</dc:language>
  <cp:lastModifiedBy>.</cp:lastModifiedBy>
  <dcterms:modified xsi:type="dcterms:W3CDTF">2008-09-01T00:41:00Z</dcterms:modified>
  <cp:revision>0</cp:revision>
  <dc:subject/>
  <dc:title>Pechos terapia</dc:title>
</cp:coreProperties>
</file>