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03%20Arcangelo%20Corelli%20-%20Concerto%20Grosso%20In%20B%20Flat%20Majo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4AD-C862-4C2E-9535-DBFC83E9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D2F-ABF2-4312-877B-3FD53032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B51-B593-48A7-AEF6-091161C5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C0B-71AE-4117-B24B-EE76944B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F1B-5B2E-431D-8A01-F76443AC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AE9-3E1F-4F19-8B6F-E88CDDC4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A98-5332-4C18-8F75-817A726F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A05-45BE-4AB7-9762-482FB26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AB4-211B-4B27-915E-9A94B925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427-D8ED-4999-B422-4B38604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CA2-EC96-4E80-96E6-E392399F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EC0-A0A1-4832-8EEB-920BB75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8835-3B46-49DA-9000-B48A66DDF6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3%20Arcangelo%20Corelli%20-%20Concerto%20Grosso%20In%20B%20Flat%20Maj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aro%20LUZ%20pueb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603252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Jn 21,1-19. Pascua 3 domingo –C- - 18 abril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Autora: Asun Gutiér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Música: Arcangelo Corelli. Concerto Grosso in B Flat Majo.  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Cómo vemos a Jesús Resucitado?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Hoy y aquí sucede lo que nos narran los bellos relatos pascuale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ucede siempre y en todas parte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ucede sin cesar en nuestra vida normal de cada dí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ramos los ojos, y veremos a Jesús resucitado en medio de nosotros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nuestro lado, en el fondo de cada se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ramos los oídos, y escucharemos la buena noticia,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y llenará de paz nuestro coraz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o consiste la Pascua, en eso consiste creer en Jesús resucitad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Ése es el milagr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está con nosotros como lo estuvo con María y Pedro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los demás discípulos, se nos aparece como a ellos, nos habla como a ellos. 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unque nuestros ojos están demasiado ciegos y nuestros oídos demasiado sordos, Jesús se nos aparece: ¿Por qué tienes miedo? Pálpame. Y marcha tranquilo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ive feliz, y procura curar las heridas del próji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José Ar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03%20Arcangelo%20Corelli%20-%20Concerto%20Grosso%20In%20B%20Flat%20Maj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RILLA%20ternura5r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2240" y="228600"/>
            <a:ext cx="3897720" cy="39344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esús volvió a preguntarl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imón, hijo de Juan, ¿me ama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edro respondió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í, Señor, tú sabes que te am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esús le dij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Cuida de mis oveja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 tercera vez insistió Jesú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imón, hijo de Juan, ¿me ama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edro se entristeció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que Jesús le había pregunta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 tercera vez si lo amab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y le respondió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–Señor tú lo sabes todo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ú sabes que te a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76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Las tres preguntas buscan borrar, desde la raíz, las tres negaciones de Pedro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Jesús, con exquisita delicadeza, nos rehabilita de todas nuestras debilidades.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l vínculo de amistad con Jesús es personal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Cada persona ha de recorrer su propio camino y afrontar su propia responsabilidad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Siempre contamos con su iniciativa, su ayuda y su presencia.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Jesús perdona a tod@s y siempre. ¿Imitamos a Jesús en esto? </a:t>
            </a:r>
            <a:br>
              <a:rPr sz="1800"/>
            </a:b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 ¿Tenemos capacidad de perdon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HOMBRE%20tristeza%20cuadro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HUELLAS%20en%20la%20PLAY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22860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onces Jesús le dijo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Apacienta mis ovejas. Te aseguro que cuando eras más joven, tú mismo te ceñías el vestido e ibas adonde querías; mas, cuando seas viejo, extenderás los brazos y será otro quien te ceñirá y te conducirá adonde no quieras i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esús dijo esto para indicar la clase de muerte con la que Pedro daría gloria a Dios. Después añadió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–Sígu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876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Jesús enseña las consecuencias del seguimiento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Si hoy volviera Jesús, viviera como vivió y predicara lo que predicó ¿encontraría la aprobación o el rechazo por parte del sistema socio-político-económico-religioso dominante en la actualidad?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¿Qué provoca nuestra predicación y nuestro seguimiento de Jesús en las personas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  <a:ea typeface="Arial"/>
              </a:rPr>
              <a:t> y en la socie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ANO%20NIÑO%20dent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666880" y="1219320"/>
            <a:ext cx="6015240" cy="5031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Señor, tú sabes que siempre te quise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y que te sigo queriendo;</a:t>
            </a:r>
            <a:br>
              <a:rPr sz="1800"/>
            </a:br>
            <a:r>
              <a:rPr b="1" i="1" lang="es-ES" sz="1800" spc="-1" strike="noStrike">
                <a:solidFill>
                  <a:srgbClr val="663300"/>
                </a:solidFill>
                <a:latin typeface="Georgia"/>
              </a:rPr>
              <a:t>tú sabes que te quier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 pesar de que me cuesta adivinarte entre la gente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 pesar de lo torpe que soy para verte vestido de pobre,</a:t>
            </a:r>
            <a:br>
              <a:rPr sz="1800"/>
            </a:br>
            <a:r>
              <a:rPr b="1" i="1" lang="es-ES" sz="1800" spc="-1" strike="noStrike">
                <a:solidFill>
                  <a:srgbClr val="663300"/>
                </a:solidFill>
                <a:latin typeface="Georgia"/>
              </a:rPr>
              <a:t>tú sabes que te quier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 pesar de mis dudas de fe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de mi vacilante esperanza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y de mi amor posesivo,</a:t>
            </a:r>
            <a:br>
              <a:rPr sz="1800"/>
            </a:br>
            <a:r>
              <a:rPr b="1" i="1" lang="es-ES" sz="1800" spc="-1" strike="noStrike">
                <a:solidFill>
                  <a:srgbClr val="663300"/>
                </a:solidFill>
                <a:latin typeface="Georgia"/>
              </a:rPr>
              <a:t>tú sabes que te quier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Yo te quiero, Señor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 porque tú me quisiste primero, porque siempre confías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en las posibilidades que tengo de ser, junto a ti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aquí en mi puesto,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servidor fraterno.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Georgia"/>
              </a:rPr>
              <a:t>                              </a:t>
            </a:r>
            <a:r>
              <a:rPr b="0" lang="es-ES" sz="1600" spc="-1" strike="noStrike">
                <a:solidFill>
                  <a:srgbClr val="663300"/>
                </a:solidFill>
                <a:latin typeface="Monotype Corsiva"/>
              </a:rPr>
              <a:t>F.Ulibar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 rot="20676000">
            <a:off x="228240" y="456840"/>
            <a:ext cx="2851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ú sabes que te quiero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6019920"/>
            <a:ext cx="4000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ff99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¡Tú sabes que te quiero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ff99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ago%20Tiberiades-Genesaret-%20Barca%20siluet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22860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Georgia"/>
              </a:rPr>
              <a:t>Poco después, Jesús se apareció otra vez a sus discípulos junto al lago de Tiberí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l evangelio de Juan nos ha hablado ya de dos manifestaciones de Jesús resucitado. La primera a María Magdalena, la segunda a los discípulos encerrados por miedo a los dirigentes judí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Ahora presenta a Jesús con los discípulos que ya han vuelto a su trabajo diario,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pes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0400" y="3112920"/>
            <a:ext cx="12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Lago de</a:t>
            </a:r>
            <a:br>
              <a:rPr sz="1600"/>
            </a:b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iberí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RCA%20proa%20NOCH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0"/>
            <a:ext cx="8647200" cy="2288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Estaban juntos Simón Pedro, Tomás «El Mellizo», Natanael el de Caná de Galile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los hijos de Zebedeo y otros dos discípulos. En esto dijo Pedro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–Voy a pescar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Los otros dijeron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–Vamos contigo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Salieron juntos y subieron a una barca; pero aquella noche no lograron pescar 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4197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s razonable que después de un golpe del destino, se continúe donde se s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más segu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Conocemos esa forma de actuar. Ante un fracaso, ante la pérdida de un amor,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de un trabajo, ante un inesperado diagnóstico médico... Necesitamos distraernos, hacer algo para no dar vueltas a la cabeza. Y buscamos las actividades habituales. Lo que mejor sabemos hacer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stán siete discípulos, cifra que indica tot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Van todos a pescar, la tarea corre a cargo de toda la comun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OL%20LUZ%20seaeg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Al clarear el día, se presentó Jesús en la orilla del lago, pero los discípulos no lo reconocieron. Jesús les dij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Muchachos, ¿habéis pescado algo?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Ellos contestaron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294080"/>
            <a:ext cx="9144000" cy="2562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a experiencia luminosa suele ir precedida de noches oscuras. El evangelista señala que a Jesús no le reconocen en el primer contacto. Su resurrección no es algo obvio. Por eso está ahí, para revelar que la vida vence a la muerte,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que su presencia es la Luz y el Amane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Los discípulos confiesan abiertamente que no tienen nada. 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No siempre es fácil admitir el fracaso y que no se tiene nada que ofrecer. Reconocerlo es un primer paso para un nuevo comienzo.</a:t>
            </a:r>
            <a:br>
              <a:rPr sz="1800"/>
            </a:b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¿Considero mi vida cotidiana como lugar de encuentro con Jesú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¿Reconozco y manifiesto mis carencias y mis limit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esca.GoodSal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l les dijo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–Echad la red al lado derecho de la barca y pescaréi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llos la echaron,y la red se llenó de tal cantidad de pec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que no podían mover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fruto de toda misión depende de la escucha y puesta en práctica de la palabr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Jesús, que quiere una “red” donde quepa todo el mundo, sin ninguna excep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actúa siempre con nosotr@s, pero nunca sin nosotr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oda misión sin Él está destinada al fracaso: “sin Mí no podéis hacer nada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Pienso que la Iglesia, como institución, se orienta hoy por la Palabra de Jesús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 sigue otras directri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Entonces, el discípulo a quien Jesús tanto quería le dijo a Pedr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¡Es el Señor!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Al oír Simón Pedro que era el Señor, se ciñó un vestido, pues estaba desnudo, y se lanzó al agua. Los otros discípulos llegaron a la orilla en la barca, tirando de la red llena de peces, pues no era mucha la distancia que los separaba de tierra; tan sólo unos cien me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257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s el Señor, aunque falte luz y su imagen quede algo borrosa, aunque utilice algún disfraz, aunque aparentemente se oculte. Es el Señor y nuestra tarea es descubrirlo y anunci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Dónde, cuándo, en quién reconozco a Jesús? ¿Dónde, cuándo, en quién me cuesta más reconocerle? ¿Cuáles son las palabras o signos que me hablan de su presenci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ANES%20y%20PECES%20magdal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Al saltar a tierra, vieron unas brasas, con peces colocados sobre ellas, y pan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esús les dij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–Traed ahora algunos de los peces que habéis pescado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Simón Pedro subió a la barca y sacó a tierra la red llena de peces; en total eran ciento cincuenta y tres peces grandes. Y, a pesar de ser tantos, la red no se rompió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Jesús les dijo: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Georgia"/>
              </a:rPr>
              <a:t> –Venid a co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4568760"/>
            <a:ext cx="8763120" cy="2562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n cuanto a las comidas, signo de fraternidad, tiempo y vida compartidos, Jesús Resucitado sigue con las mismas costumbres que el Jesús histórico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igue celebrando comidas con los alimentos fruto del trabajo y la aportación de quienes se reúnen con Él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La ausencia del alimento que padecen muchas personas va en contra del mensaje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de vida que nos trae la resurrección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Ojalá sepamos invitar a comer, no excluyamos a nadie de nuestra mesa y tengamos siempre “pez asado” para regalar y compartir.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mida%20compartida%20CAMP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6094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inguno de los discípulos se atrevió a preguntar: «¿Quién eres?», porque sabían muy bien que era el Señor. Jesús se acercó, tomó el pan en sus manos  y se lo repartió; y lo mismo hizo con los pec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sta fue la tercera vez que Jesús se apareció a sus discípulos, después de haber resucitado de entre los muer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74320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Jesús tiene la delicadeza de una madre preparando la comida a sus hijos e hijas.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Toma la iniciativa, se acerca siempre y quiere acercarse más.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Prepara la mesa, nos invita a una comida para recobrar las fuerzas perdidas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en el trabajo diario, donde compartir la alegría, la ilusión, la esperanza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y el compromiso de mejorar nuestro mundo, y la acción de gracias por todo lo recibido cada d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lago%20corazon-norue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240" y="0"/>
            <a:ext cx="586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Después de comer, Jesús preguntó a Pedro: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–Simón, hijo de Juan, ¿me amas más que éstos?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Pedro le contestó: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–Sí, Señor, tú sabes que te amo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Entonces Jesús le dijo: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Georgia"/>
              </a:rPr>
              <a:t>–Apacienta mis cord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92800"/>
            <a:ext cx="9144000" cy="14655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sólo interroga sobre el amor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enta con nosotr@s, aceptándonos como somos, para la misión de hacer presente en el mundo su Espíritu de entrega, de perdón, de servicio, de sencillez, de acogida, de generosidad, de ilusión...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enta con nuestros fallos y los borra con la fuerza de su Am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8:15:56Z</dcterms:created>
  <dc:creator> Asun Gutiérrez</dc:creator>
  <dc:description/>
  <dc:language>en-US</dc:language>
  <cp:lastModifiedBy>Usuario</cp:lastModifiedBy>
  <dcterms:modified xsi:type="dcterms:W3CDTF">2010-04-13T14:27:16Z</dcterms:modified>
  <cp:revision>15</cp:revision>
  <dc:subject>jeasam@gmail.com</dc:subject>
  <dc:title>Pascua 3 C</dc:title>
</cp:coreProperties>
</file>