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30.jpeg" ContentType="image/jpeg"/>
  <Override PartName="/ppt/media/buenisima.wav" ContentType="audio/x-wav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9F5-7986-47A0-ACBE-4C6107E9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F73-1E92-4002-ABE1-80F958AA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FF7-51CC-48DC-B414-1DC1FE41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812-4446-4C20-820D-BDAE7191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1618-5508-456F-B125-828B05D1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BE5-3629-4825-9CF6-1601D79D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667-E114-4476-92C1-F0BD5D9D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746-BCDA-4427-8F3A-31EBE206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46B0-D718-492B-9045-9E107CC5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291D-7A01-4598-BD7C-966AEA54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DF0-8993-4BA7-9B89-81A79766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8E92-CED9-4BC5-9026-F67FA806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3A2B-CBF0-405F-A160-A8EE37B94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uenisim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ATT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613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320" y="5105520"/>
            <a:ext cx="7239240" cy="13716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maestra de Nueva York decidió honrar a cada uno de los alumnos que estaban a punto de graduarse en el colegio, hablándoles de la huella que cada uno de ellos había dej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237960"/>
            <a:ext cx="914400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2252520" y="1905120"/>
            <a:ext cx="46389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uenisim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TT00010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1523880" y="4876920"/>
            <a:ext cx="6019920" cy="16761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jefe pareció estar muy sorprendido. El joven ejecutivo le preguntó si el aceptaría el regalo de la cinta azul, y darle permiso de ponerla en la cami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ATT00011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990720" y="5410080"/>
            <a:ext cx="7391160" cy="11430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jefe dijo,”Bueno, !claro!” El joven ejecutivo tomó una de las cintas azules y la puso en la chaqueta del  jefe, sobre su coraz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TT00012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939960" y="5384880"/>
            <a:ext cx="7391160" cy="11682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le preguntó, ofreciéndole la ultima cinta,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dría tomar está  cinta extra, y pasarla premiando a alguien más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ATT00013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674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533520" y="5384880"/>
            <a:ext cx="8305560" cy="11682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studiante que me dio estas cintas está  haciendo un proyecto de clase, y queremos continuar esta ceremonia de reconocimiento y ver como afecta a la g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TT00014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703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533520" y="5410080"/>
            <a:ext cx="8305560" cy="11685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a noche, el jefe llegó a casa y se sentó con su hijo de 14 años, y le dijo “hoy me pasó algo increí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TT00015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1219320" y="5384880"/>
            <a:ext cx="6781680" cy="11682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ba en mi oficina, y uno de mis empleados vino y me dijo que me admiraba, y me dio una cinta azul por ser un genio cre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ATT00016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990720" y="5359320"/>
            <a:ext cx="7467480" cy="11685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magínate!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iensa que yo soy un genio creativ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uego me puso una cinta azul que di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ien soy deja huell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ATT00017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152280" y="4876920"/>
            <a:ext cx="8839440" cy="16761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 dio una cinta extra y me pidió que encontrara a alguien más a quién premiar. Cuando estaba conduciendo a casa esta  noche, Empecé a pensar a quién pudiera premiar con esta cinta, y pensé en ti. Quiero premiarte a 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ATT00018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1143000" y="4876920"/>
            <a:ext cx="7010280" cy="16761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s días son muy agitados y cuando vengo a casa, No te pongo mucha atención. Te grito por no tener buenas notas y por el desorden en tu hab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TT00019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674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177840" y="5740560"/>
            <a:ext cx="8839080" cy="81252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alguna forma, esta noche, solo quería sentarme aquí y, bien, hacerte saber que tu me impo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ATT0000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1066680" y="5105520"/>
            <a:ext cx="7239240" cy="13716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lamó a cada uno de los estudiantes al frente de la clase, uno por uno. Primero, les contó a cada uno  como habían hecho huella en la vida de ella, y en la de la cl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ATT00020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177840" y="5715000"/>
            <a:ext cx="8839080" cy="9144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ú y tu madre sois las personas más importantes en mi vida. ¡Eres un gran muchacho, y te quier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TT00021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838080" y="5715000"/>
            <a:ext cx="7518600" cy="9144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muchacho sorprendido empezó a sollozar y a llorar, no pudo parar. Todo su cuerpo tembla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ATT00022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685800" y="4876920"/>
            <a:ext cx="7823160" cy="16761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ró a su padre y entre lágrimas dijo, “Papá, hace un rato me senté en mi habitación y escribí una carta para ti y mamá, explicando porque me había quitado mi vida, y les pedía que me perdonara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ATT00023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685800" y="5562720"/>
            <a:ext cx="7823160" cy="9903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 iba a suicidar esta noche después de que vosotros os durmierais. Yo pensé que a vosotros no les importa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ATT00024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124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380880" y="5562720"/>
            <a:ext cx="8433000" cy="9903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arta está arriba. No creo que la vaya a necesitar después de todo 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TT00025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1295280" y="5562720"/>
            <a:ext cx="6604200" cy="9903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padre subió al segundo piso y encontró la carta, sincera y llena de angustia y do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TT00026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ATT00027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863640" y="5334120"/>
            <a:ext cx="7670880" cy="12189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jefe regresó al trabajo totalmente cambiado. Ya no estaba amargado, pero se aseguró de hacer saber a todos sus empleados que ellos hacen difer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ATT00028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0" y="5334120"/>
            <a:ext cx="9144000" cy="12189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joven ejecutivo ayudó a mucho otros jóvenes con la planificación de sus carreras, uno de ellos era el hijo del jefe, y nunca se olvidó de recordarles que ellos dejaban huella en su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ATT00029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1246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1676520" y="5334120"/>
            <a:ext cx="5790960" cy="12189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añadidura, el joven y sus compañeros de clase aprendieron una lección muy vali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ATT00003"/>
          <p:cNvPicPr/>
          <p:nvPr/>
        </p:nvPicPr>
        <p:blipFill>
          <a:blip r:embed="rId1"/>
          <a:stretch/>
        </p:blipFill>
        <p:spPr>
          <a:xfrm>
            <a:off x="152280" y="533520"/>
            <a:ext cx="8839440" cy="5905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1066680" y="5334120"/>
            <a:ext cx="7239240" cy="106668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uego presentó a cada uno, con una cinta azul, impresa con letras doradas, en la cual se leía, “Quien soy deja huell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ATT00030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1295280" y="6095880"/>
            <a:ext cx="6553440" cy="4572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ien eres, deja huell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ATT00031"/>
          <p:cNvPicPr/>
          <p:nvPr/>
        </p:nvPicPr>
        <p:blipFill>
          <a:blip r:embed="rId1"/>
          <a:stretch/>
        </p:blipFill>
        <p:spPr>
          <a:xfrm>
            <a:off x="76320" y="1905120"/>
            <a:ext cx="9144000" cy="34732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457200" y="1523880"/>
            <a:ext cx="807732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Por favor, quiero que sepas que tú eres importante, o  no hubieras recibido est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ATT00032"/>
          <p:cNvPicPr/>
          <p:nvPr/>
        </p:nvPicPr>
        <p:blipFill>
          <a:blip r:embed="rId1"/>
          <a:stretch/>
        </p:blipFill>
        <p:spPr>
          <a:xfrm>
            <a:off x="76320" y="1905120"/>
            <a:ext cx="9144000" cy="31208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457200" y="1600200"/>
            <a:ext cx="807732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Quien eres, deja huella, y quería que lo supiera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ATT00033"/>
          <p:cNvPicPr/>
          <p:nvPr/>
        </p:nvPicPr>
        <p:blipFill>
          <a:blip r:embed="rId1"/>
          <a:stretch/>
        </p:blipFill>
        <p:spPr>
          <a:xfrm>
            <a:off x="76320" y="2057400"/>
            <a:ext cx="9144000" cy="2381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457200" y="1447920"/>
            <a:ext cx="807732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Te estoy pasando la cinta azul a tí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TT00034"/>
          <p:cNvPicPr/>
          <p:nvPr/>
        </p:nvPicPr>
        <p:blipFill>
          <a:blip r:embed="rId1"/>
          <a:stretch/>
        </p:blipFill>
        <p:spPr>
          <a:xfrm>
            <a:off x="76320" y="2133720"/>
            <a:ext cx="9144000" cy="2828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7"/>
          <p:cNvSpPr/>
          <p:nvPr/>
        </p:nvSpPr>
        <p:spPr>
          <a:xfrm>
            <a:off x="457200" y="1981080"/>
            <a:ext cx="807732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Que tengas un día maravilloso, y sepas que alguien hoy pensó en t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blue_flower_wallpaper"/>
          <p:cNvPicPr/>
          <p:nvPr/>
        </p:nvPicPr>
        <p:blipFill>
          <a:blip r:embed="rId1"/>
          <a:stretch/>
        </p:blipFill>
        <p:spPr>
          <a:xfrm>
            <a:off x="304920" y="230040"/>
            <a:ext cx="8534160" cy="63993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457200" y="91440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Y el joven muchacho y sus compañeros de clase aprendieron una lección muy valiosa. Quién eres deja una hu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No estás bajo ninguna obligación de enviar esto a nadie... Lo puedes borrar o pasar al siguiente mensaje. Pero si tienes a alguien que significa mucho para ti, Te recomiendo que se lo envíes y le hagas saber que para ti hace la diferencia.  Tu nunca sabrás la diferencia que un poco de motivación puede tener  en una pers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ATT00004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80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TT00005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674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1066680" y="5334120"/>
            <a:ext cx="7239240" cy="129528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final, la maestra decidió hacer un proyecto de  clase, para ver el impacto que el reconocimiento tendría en una 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ATT00006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0134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914400" y="4724280"/>
            <a:ext cx="7391520" cy="190512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es dio a cada uno, tres cintas azules más, y les pidió que fueran y extendieran esta  ceremonia de reconocimiento. Luego deberían seguir los resultados, ver quién premió a quién, e informar a la clase al cabo de una se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TT00007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914400" y="5105520"/>
            <a:ext cx="7391520" cy="152388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o de los alumnos, fue a ver a un joven ejecutivo de una industria cercana, y lo premió por ayudarle con la planificación de su carrera. Le dio una cinta azul, y la adhirió a su cami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TT00008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12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533520" y="4952880"/>
            <a:ext cx="7848360" cy="152424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uego le dio las dos cintas extras y le dijo, “estamos haciendo un proyecto en clase de... “reconocimiento”, y nos gustaría que usted encontrara a alguien a quién premiar, y le de una cinta az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ATT00009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67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838080" y="4952880"/>
            <a:ext cx="7391520" cy="16002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ás tarde ese mismo día, el joven ejecutivo fue a ver a su jefe, quien tenía reputación de ser una persona amargada, y le dijo que él lo admiraba profundamente por ser un genio cre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08:17:04Z</dcterms:created>
  <dc:creator>lmata</dc:creator>
  <dc:description/>
  <dc:language>en-US</dc:language>
  <cp:lastModifiedBy> Helena</cp:lastModifiedBy>
  <dcterms:modified xsi:type="dcterms:W3CDTF">2009-12-19T19:24:17Z</dcterms:modified>
  <cp:revision>3</cp:revision>
  <dc:subject/>
  <dc:title>Diapositiva 1</dc:title>
</cp:coreProperties>
</file>