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6.jpeg" ContentType="image/jpeg"/>
  <Override PartName="/ppt/media/Edith%20Piaff%20-%20Padam,%20padam.wav" ContentType="audio/x-wav"/>
  <Override PartName="/ppt/media/image44.jpeg" ContentType="image/jpeg"/>
  <Override PartName="/ppt/media/image24.jpeg" ContentType="image/jpeg"/>
  <Override PartName="/ppt/media/image29.jpeg" ContentType="image/jpeg"/>
  <Override PartName="/ppt/media/image10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817-3348-492B-9A6C-3A89CD88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072-A3F9-49F9-8FD5-03502FEF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34F-AAAE-4A2C-A98F-74535554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CA3-3C1D-4C59-A047-CED11C14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4F4-302D-445A-8DC4-6FDB01DF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49F-23DA-4EF0-AF2D-358611F0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2E4-FC3D-4285-A1DC-3F44D33B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F78-5989-4E70-9C71-DB10628A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D5A-C6BE-40EB-8AFC-30EA119B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DEA-7CE1-469A-91EF-0BA4F581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489-A070-4157-8A32-59C6DA76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53F-CB04-48DA-8A7B-5EEFD155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2FD5-3AD6-426E-856B-E7B50380E5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Edith%20Piaff%20-%20Padam,%20padam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2276640"/>
            <a:ext cx="13066560" cy="371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solidFill>
              <a:srgbClr val="ff9933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0560" y="616572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Edith Piaff - Padam, pa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476280"/>
            <a:ext cx="745812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UR EIFFEL</a:t>
            </a:r>
            <a:endParaRPr b="0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out" orient="horz"/>
    <p:sndAc>
      <p:stSnd>
        <p:snd r:embed="rId4" name="Edith%20Piaff%20-%20Padam,%20pad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" dur="20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9829800" cy="708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-243000"/>
            <a:ext cx="6837480" cy="734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5120" y="-133200"/>
            <a:ext cx="9534240" cy="7124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544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128000" cy="534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669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743280" cy="3058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3672000" cy="306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3743280" cy="313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3745080" cy="30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1280" y="39600"/>
            <a:ext cx="8136000" cy="6818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280" y="61920"/>
            <a:ext cx="9072720" cy="679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919680" cy="315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776760" cy="310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889440" cy="311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80000" y="3573360"/>
            <a:ext cx="2352600" cy="297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044720" y="-531720"/>
            <a:ext cx="12096720" cy="795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81080" y="64911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RTA DEL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51024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20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03760" cy="4879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380232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635280" y="6210360"/>
            <a:ext cx="220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¡C'est fini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641760" cy="46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3280" y="1052640"/>
            <a:ext cx="375156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325080" cy="702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5:33:34Z</dcterms:created>
  <dc:creator>Miguel</dc:creator>
  <dc:description/>
  <dc:language>en-US</dc:language>
  <cp:lastModifiedBy>Usuario</cp:lastModifiedBy>
  <dcterms:modified xsi:type="dcterms:W3CDTF">2009-08-11T03:20:41Z</dcterms:modified>
  <cp:revision>559</cp:revision>
  <dc:subject/>
  <dc:title>Diapositiva 1</dc:title>
</cp:coreProperties>
</file>