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6.jpeg" ContentType="image/jpeg"/>
  <Override PartName="/ppt/media/Edith%20Piaff%20-%20Padam,%20padam.wav" ContentType="audio/x-wav"/>
  <Override PartName="/ppt/media/image44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C0E-7E1F-48F1-BB25-5D5BD7C3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112-B1FE-4D14-AF13-AE92A93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5B7-C6CC-4742-AB5E-9BB58046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B83-EA4E-4DAD-A5CE-79ABC712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54F-2B3E-4EC7-87FF-3182223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073-1804-4C62-A285-4464EFB8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0EB-67DD-44B0-B413-3DA0A230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9DD-ADD9-4B49-9CDB-56035095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E58-3A41-40EF-8FC3-A5AD0D06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36C-997A-4000-B828-38B541B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981-2F90-4139-BE77-5867117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84A-161D-4D8B-B85A-74D3028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30E0-A4DA-4B87-966A-62D192D7D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Edith%20Piaff%20-%20Padam,%20padam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2276640"/>
            <a:ext cx="13066560" cy="371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0560" y="616572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Edith Piaff - Padam, pa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476280"/>
            <a:ext cx="74581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UR EIFFEL</a:t>
            </a:r>
            <a:endParaRPr b="0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horz"/>
    <p:sndAc>
      <p:stSnd>
        <p:snd r:embed="rId4" name="Edith%20Piaff%20-%20Padam,%20pad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2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9829800" cy="708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-243000"/>
            <a:ext cx="6837480" cy="734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5120" y="-133200"/>
            <a:ext cx="9534240" cy="712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544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128000" cy="534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69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743280" cy="305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672000" cy="30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3743280" cy="313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745080" cy="30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39600"/>
            <a:ext cx="8136000" cy="6818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61920"/>
            <a:ext cx="9072720" cy="679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19680" cy="315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776760" cy="310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889440" cy="311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80000" y="3573360"/>
            <a:ext cx="2352600" cy="297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044720" y="-531720"/>
            <a:ext cx="12096720" cy="795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81080" y="64911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RTA DEL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1024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0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03760" cy="487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8023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6210360"/>
            <a:ext cx="22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¡C'est fini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641760" cy="46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37515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325080" cy="702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33:34Z</dcterms:created>
  <dc:creator>Miguel</dc:creator>
  <dc:description/>
  <dc:language>en-US</dc:language>
  <cp:lastModifiedBy>Usuario</cp:lastModifiedBy>
  <dcterms:modified xsi:type="dcterms:W3CDTF">2009-08-11T03:20:41Z</dcterms:modified>
  <cp:revision>559</cp:revision>
  <dc:subject/>
  <dc:title>Diapositiva 1</dc:title>
</cp:coreProperties>
</file>