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Dne%20Jesu%20Christew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152-E176-4D18-A830-343BF703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C9B-6D88-4995-926C-09625DC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980-B99D-4627-A1DE-A254BA00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351-4A8F-4E23-BACC-416F7621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250-9946-4BE9-B75A-CFB7C319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A22-5D0B-4080-AFF6-A0D2688B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AB6-65F8-43A6-AC4E-0B9606C0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87F-1FEF-4D0A-92B0-299D0358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B59-AF86-45C1-AC17-B93110A6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1D4-5B73-4F3F-88BA-484BC5B9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1C7-80D0-4FA8-A948-C69133DE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633-C21D-4CE5-A0F6-4ECF9FB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25D4-9679-4D35-8232-2028E5665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Dne%20Jesu%20Christew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357720"/>
            <a:ext cx="4032360" cy="204372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cuchando “Domine Jesu Christe” de T.L. de Victoria dejemos entrar a Jesú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37168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1320" y="177336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33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  <p:sndAc>
      <p:stSnd>
        <p:snd r:embed="rId6" name="Dne%20Jesu%20Christ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80880"/>
            <a:ext cx="831708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prended de esta parábola de la higuera: Cuando las ramas se ponen tiernas y brotan las yemas, deducís que el verano está cerca; pues cuando veáis vosotros suceder esto, sabed que él está cerca, a la puerta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2360" y="1052640"/>
            <a:ext cx="6624720" cy="572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300720" y="1052640"/>
            <a:ext cx="2556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Te das cuenta que la fruta está madu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260280"/>
            <a:ext cx="579600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oy es vuestra h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04920"/>
            <a:ext cx="7704000" cy="59605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 que no pasará esta generación antes que todo se cumpla. El cielo y la tierra pasarán, mis palabras no pasarán,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844640"/>
            <a:ext cx="3745080" cy="47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irad si edificáis con oro, plata, ... o paja,  y el día del juicio se verá la obra de cada uno </a:t>
            </a:r>
            <a:br>
              <a:rPr sz="4000"/>
            </a:b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1 Cor 3:12-13)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60280"/>
            <a:ext cx="7993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dejéis pasar vuestra generación cruzados de brazos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030560" y="1773360"/>
            <a:ext cx="5005440" cy="50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380880"/>
            <a:ext cx="7273800" cy="60361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nque el día y la hora nadie lo sabe, ni los ángeles del cielo ni el Hijo, sólo el Padre."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7632720" cy="5237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115920"/>
            <a:ext cx="5832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sabe cuando cada uno se abre a la Lu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373720"/>
            <a:ext cx="78868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Para ti, es ahora el momento de dejar entrar a Jesú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1052640"/>
            <a:ext cx="626436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 ayuda a nuestra generación a hacer de la tierra Tu CASA donde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 reúnan de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TODOS los horizon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60280"/>
            <a:ext cx="8280360" cy="6426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inicio de la era cristi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836640"/>
            <a:ext cx="8351640" cy="466524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Se acerca el fin</a:t>
            </a:r>
            <a:br>
              <a:rPr sz="5000"/>
            </a:b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 del año litúrgico</a:t>
            </a:r>
            <a:br>
              <a:rPr sz="5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(domingo que viene celebramos Cristo Rey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e5c881"/>
                </a:solidFill>
                <a:latin typeface="Arial"/>
              </a:rPr>
              <a:t>Un año más de Vida de Jesús </a:t>
            </a:r>
            <a:br>
              <a:rPr sz="3500"/>
            </a:br>
            <a:r>
              <a:rPr b="1" lang="es-ES" sz="3500" spc="-1" strike="noStrike">
                <a:solidFill>
                  <a:srgbClr val="e5c881"/>
                </a:solidFill>
                <a:latin typeface="Arial"/>
              </a:rPr>
              <a:t>en nosotros y un reto: 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¿HEMOS ESCRITO EL EVANGELIO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CON NUESTRAS VIDAS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5805360"/>
            <a:ext cx="8893440" cy="7945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A la derecha cúpulas del Calvario donde empezó la nueva era, a la izquierda cúpula del lugar donde acabó el antiguo Temp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124000" y="3240"/>
            <a:ext cx="13392000" cy="685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589720"/>
            <a:ext cx="7127640" cy="10076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Cuando el Sol se ha hecho tinieblas, con el alba ha nacido un Nuevo cul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333360"/>
            <a:ext cx="21956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Ciudadela de noch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1 0.00023 L 0.5434 0.00023 E">
                                      <p:cBhvr>
                                        <p:cTn id="43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04920"/>
            <a:ext cx="835344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13, 24-32 En aquel tiempo, dijo Jesús a sus discípulos: "En aquellos días, después de esa gran angustia, el sol se hará tinieblas, la luna no dará su resplandor, las estrellas caerán del cielo, los astros se tambalearán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62856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80000" y="189000"/>
            <a:ext cx="5113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Jesús trae un final y un nuevo princip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896080"/>
            <a:ext cx="6048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hora la LUZ es disti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304920"/>
            <a:ext cx="7056720" cy="6332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verán venir al Hijo del hombre sobre las nubes con gran poder y majestad;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160640"/>
            <a:ext cx="7596360" cy="569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260280"/>
            <a:ext cx="6769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eréis al Hijo del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ombre elevado en la cru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4724280"/>
            <a:ext cx="4140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u poder y su majestad son de otro or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209080" cy="58546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enviará a los ángeles para reunir a sus elegidos de los cuatro vientos, de horizonte a horizonte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216000" y="836640"/>
            <a:ext cx="7093080" cy="5805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92360" y="260280"/>
            <a:ext cx="694836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enid de los cuatro vientos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989000"/>
            <a:ext cx="2987640" cy="24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¿Dispersáis o reuní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a los elegidos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1-11T19:41:22Z</dcterms:modified>
  <cp:revision>280</cp:revision>
  <dc:subject/>
  <dc:title>evangeli</dc:title>
</cp:coreProperties>
</file>