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Dne%20Jesu%20Christew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573-3BC6-43B0-B98B-A81ED925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7BF-6F14-4DF7-B9F3-F2592802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319-E621-4C6E-B400-9713AF04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40A-F764-41DD-8DB4-840C60CD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429-488D-432A-88AF-BC3B933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D42-6221-4643-8BA7-30A1CA7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6AB-A66B-4493-9075-5117ED1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B7E-A380-4367-9F4F-70CD1E69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1B2-B8FC-494E-9309-3F965B43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41C-1785-4A7C-A010-7ADE31C7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00E-CA86-4223-83B7-317E863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425-7719-40DD-BCEE-CFB5F62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014-2D04-4A97-B531-882516D9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Dne%20Jesu%20Christe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357720"/>
            <a:ext cx="4032360" cy="204372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cuchando “Domine Jesu Christe” de T.L. de Victoria dejemos entrar a Jesú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37168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1320" y="177336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33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  <p:sndAc>
      <p:stSnd>
        <p:snd r:embed="rId6" name="Dne%20Jesu%20Christ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80880"/>
            <a:ext cx="83170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prended de esta parábola de la higuera: Cuando las ramas se ponen tiernas y brotan las yemas, deducís que el verano está cerca; pues cuando veáis vosotros suceder esto, sabed que él está cerca, a la puert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2360" y="1052640"/>
            <a:ext cx="6624720" cy="572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300720" y="1052640"/>
            <a:ext cx="2556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Te das cuenta que la fruta está madu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260280"/>
            <a:ext cx="5796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y es vuestra h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04920"/>
            <a:ext cx="770400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no pasará esta generación antes que todo se cumpla. El cielo y la tierra pasarán, mis palabras no pasarán,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844640"/>
            <a:ext cx="3745080" cy="47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irad si edificáis con oro, plata, ... o paja,  y el día del juicio se verá la obra de cada uno 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1 Cor 3:12-13)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60280"/>
            <a:ext cx="79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dejéis pasar vuestra generación cruzados de braz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030560" y="1773360"/>
            <a:ext cx="5005440" cy="50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380880"/>
            <a:ext cx="7273800" cy="60361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nque el día y la hora nadie lo sabe, ni los ángeles del cielo ni el Hijo, sólo el Padre.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632720" cy="5237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1592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abe cuando cada uno se abre a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373720"/>
            <a:ext cx="7886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Para ti, es ahora el momento de dejar entrar a Jesú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1052640"/>
            <a:ext cx="6264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 ayuda a nuestra generación a hacer de la tierra Tu CASA dond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 reúnan d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horizon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60280"/>
            <a:ext cx="8280360" cy="642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inicio de la era cristi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836640"/>
            <a:ext cx="8351640" cy="4665240"/>
          </a:xfrm>
          <a:prstGeom prst="rect">
            <a:avLst/>
          </a:prstGeom>
          <a:solidFill>
            <a:srgbClr val="00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Se acerca el fin</a:t>
            </a:r>
            <a:br>
              <a:rPr sz="5000"/>
            </a:b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 del año litúrgico</a:t>
            </a:r>
            <a:br>
              <a:rPr sz="5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(domingo que viene celebramos Cristo Rey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e5c881"/>
                </a:solidFill>
                <a:latin typeface="Arial"/>
              </a:rPr>
              <a:t>Un año más de Vida de Jesús </a:t>
            </a:r>
            <a:br>
              <a:rPr sz="3500"/>
            </a:br>
            <a:r>
              <a:rPr b="1" lang="es-ES" sz="3500" spc="-1" strike="noStrike">
                <a:solidFill>
                  <a:srgbClr val="e5c881"/>
                </a:solidFill>
                <a:latin typeface="Arial"/>
              </a:rPr>
              <a:t>en nosotros y un reto: 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¿HEMOS ESCRITO EL EVANGELIO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</a:rPr>
              <a:t>CON NUESTRAS VIDAS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5805360"/>
            <a:ext cx="8893440" cy="7945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A la derecha cúpulas del Calvario donde empezó la nueva era, a la izquierda cúpula del lugar donde acabó el antiguo Temp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124000" y="3240"/>
            <a:ext cx="13392000" cy="685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589720"/>
            <a:ext cx="7127640" cy="10076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uando el Sol se ha hecho tinieblas, con el alba ha nacido un Nuevo cul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333360"/>
            <a:ext cx="21956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iudadela de noch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41 0.00023 L 0.5434 0.00023 E">
                                      <p:cBhvr>
                                        <p:cTn id="43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3534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13, 24-32 En aquel tiempo, dijo Jesús a sus discípulos: "En aquellos días, después de esa gran angustia, el sol se hará tinieblas, la luna no dará su resplandor, las estrellas caerán del cielo, los astros se tambalearán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80000" y="189000"/>
            <a:ext cx="511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Jesús trae un final y un nuevo princi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896080"/>
            <a:ext cx="6048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hora la LUZ es disti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304920"/>
            <a:ext cx="7056720" cy="6332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verán venir al Hijo del hombre sobre las nubes con gran poder y majestad;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16064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60280"/>
            <a:ext cx="676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réis al Hijo del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mbre elevado en la cr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4724280"/>
            <a:ext cx="4140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u poder y su majestad son de otro or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20908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enviará a los ángeles para reunir a sus elegidos de los cuatro vientos, de horizonte a horizonte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16000" y="836640"/>
            <a:ext cx="7093080" cy="580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92360" y="260280"/>
            <a:ext cx="694836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nid de los cuatro vient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989000"/>
            <a:ext cx="298764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¿Dispersáis o reuní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a los elegido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11T19:41:22Z</dcterms:modified>
  <cp:revision>280</cp:revision>
  <dc:subject/>
  <dc:title>evangeli</dc:title>
</cp:coreProperties>
</file>