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E6E3-FE43-4278-AE86-C65170311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26A9-45AD-4A23-92CC-6E7873D45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F367-FA82-4296-B355-D63E6C67D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72CA-7FEE-4CA2-825B-90E976251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8880-79F7-4DC3-B636-4713FE637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7E3C-F1EB-4626-80F1-24E47E03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0A4F-45AC-48BC-BAB5-BDF1F6BB9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CC63-8175-494A-AD26-F6DD12D27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C46D-F2BB-47C2-854A-ACAA66A37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A107-18D3-474C-AA97-4CAC893B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4EDC-37AF-4A32-A709-A870822A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00A1-C58E-4F95-A4D9-26511489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B6216-45F8-4F2A-9F86-7D1405498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4T21:15:56Z</dcterms:created>
  <dc:creator>Oem</dc:creator>
  <dc:description/>
  <dc:language>en-US</dc:language>
  <cp:lastModifiedBy>Oem</cp:lastModifiedBy>
  <dcterms:modified xsi:type="dcterms:W3CDTF">2008-07-24T21:24:08Z</dcterms:modified>
  <cp:revision>2</cp:revision>
  <dc:subject/>
  <dc:title>Diapositiva 1</dc:title>
</cp:coreProperties>
</file>