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C46-AB3D-4E3D-A1BD-E8B72B00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A9E-08EF-4FA5-A19C-8499FD96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DE2-94ED-472F-BF34-9F4EEFCE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A4E-2386-4022-9BFB-2F2001BC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1EC-CA17-49D6-B1DF-08F1934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8A6-15A7-47E0-8C1A-AF0F42E4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91C-BB86-4BB9-8826-AA80DE21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6E6-0133-4804-928F-335590CC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2FB-B7EF-442E-A012-D18648F0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151-F5BA-4EE2-9396-E1E08F3E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449-BA93-430C-9868-B8055087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1F9-1B34-4F66-A4F0-A249190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816B-A7CB-472C-AA1A-D6E849643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21:15:56Z</dcterms:created>
  <dc:creator>Oem</dc:creator>
  <dc:description/>
  <dc:language>en-US</dc:language>
  <cp:lastModifiedBy>Oem</cp:lastModifiedBy>
  <dcterms:modified xsi:type="dcterms:W3CDTF">2008-07-24T21:24:08Z</dcterms:modified>
  <cp:revision>2</cp:revision>
  <dc:subject/>
  <dc:title>Diapositiva 1</dc:title>
</cp:coreProperties>
</file>