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voz%20Urnaigh.wav" ContentType="audio/x-wav"/>
  <Override PartName="/ppt/media/image8.gif" ContentType="image/gi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559-855F-440A-AF7F-0EC50EC5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FA8-8C85-4931-8692-053D1057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F54-4DA3-4063-AE8A-3B7E6DE0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5C7-1490-4DFD-B895-E6E50B9A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C1B5-CFF4-46B3-91FD-E93E9776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B0A-5507-4D37-81E6-BC702EDE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49E6-07A3-4BEA-93C6-1101C8B9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250-0B5C-46D1-B5AC-A2FDD92F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637-F30F-4491-86AE-A38DBB22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6C4-EEB6-4D4B-8D5A-53DB7CBF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33D-9E8E-4DEC-A9F7-8093D3EA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082-43BF-44FA-AA58-56DE1F14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890B-ACEF-42FC-A429-38B498511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z%20Urnaig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859aa7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FIA EN 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¿Por que te agitas y confund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or los problemas que te trae la vi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éjame controlar todas tus cosas e irán tornándos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ej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uando t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tregues totalmente a mi, todas las cosas será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sueltas con tranquilidad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 acuerdo a mis pla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te frustres, no me ores como apresurándome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o si quisieras forzarme a realizar tus pla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lugar de eso, cierra l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jos de tu alma y con paz dime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"JESUS YO CONFIO EN TI"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8643"/>
            </a:gs>
            <a:gs pos="50000">
              <a:srgbClr val="ffcc66"/>
            </a:gs>
            <a:gs pos="100000">
              <a:srgbClr val="a8864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FIA EN 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ta de evitar es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ensamientos que te angustian al querer comprender l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sas que te pas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arruines mis plan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tando de imponer tus ideas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éjame ser tu 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I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y actuar libremente en tu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trégate a mi co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pleta confianza y deja tu futuro en mis manos.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m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recuentemente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"JESUS YO CONFIO EN TI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0877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FIA EN 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 que más te lastima 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uando tratas de razonarlo todo de acuerdo a tu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ensamien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e intentas resolver tu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as a tu man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uando me dig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"JESUS YO CONFIO EN TI"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no seas como el impaciente que le dice al Doctor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"cúreme", pero le sugiere la "mejor" forma de hacerl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éjate curar por mi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razos divinos, no tengas miedo, Yo te a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355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85a7"/>
            </a:gs>
            <a:gs pos="50000">
              <a:srgbClr val="ccccff"/>
            </a:gs>
            <a:gs pos="100000">
              <a:srgbClr val="8585a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FIA EN 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 ves que las cosas se vuelven peores o más complicadas, aún cuando tú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tás orando;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ntente confiado en mí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erra los ojos de tu alma, y continu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ciendo a cada hor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"JESUS YO CONFIO EN TI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ecesito mis manos libres para poder manifestarte mi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di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a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is manos con tus absurdas preocup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atanás quiere que te frustres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acerte sentir triste, quitarte la pa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nfía en mi, descansa en mi, entrégate a 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132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a886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FIA EN 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Yo hago milagros en la medida en que tu te abandonas a mi y de acuerdo a la f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que m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sí que no te preocupes, dame todas tus frustraciones y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erm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paz, y siempre dim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"JESUS YO CONFIO EN TI"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y verás grandes milag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e lo prometo con todo mi amor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JESÚ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6640" y="2057400"/>
            <a:ext cx="3708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e5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08360" y="1125000"/>
            <a:ext cx="4392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IOS ME PIDIO QUE TE DIJERA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odo irá bien contigo a partir de ahora.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No importa cuánto se esfuercen tus enemigos este año, no tendrán éxito.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ú has sido destinado para alejarlos y este año lograrás todos tus  objetivos.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ara los meses venideros se disiparán todas tus agonías  llegará la victoria y prosperidad en abundancia.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Hoy día DIOS ha confirmado el fin de tus pesares y dolores porque EL que reina te ha recordado.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e ha quitado las penurias y te ha dado ALEGRIA. EL nunca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e decepcionará.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Esta mañana llamé a la puerta del cielo y Dios me preguntó...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i niño, ¿qué puedo hacer por ti?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e respondí, Padre, por favor protege y bendice ,la persona que esté leyendo este mensaje.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IOS sonrió y contestó... Petición concedida.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 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Que el Buen Dios te bendiga?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49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476280"/>
            <a:ext cx="32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NFIA EN 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735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8a8"/>
            </a:gs>
            <a:gs pos="50000">
              <a:srgbClr val="ccffff"/>
            </a:gs>
            <a:gs pos="100000">
              <a:srgbClr val="86a8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FIA EN 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hora que has leído éste mensaje,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víalo a todas las personas qu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sideres tus amigos. Si no l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aces,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mplemente ellos se perderán la bendición de que les recuerden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lgo tan importa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tendrás mala suerte, porque la suerte no e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lgo ordenado por DIOS, simplemente habrás dejado d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partir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lg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"realmente importante", con los demá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4419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1T03:41:31Z</dcterms:created>
  <dc:creator/>
  <dc:description/>
  <dc:language>en-US</dc:language>
  <cp:lastModifiedBy>Flor</cp:lastModifiedBy>
  <dcterms:modified xsi:type="dcterms:W3CDTF">2006-02-04T04:33:36Z</dcterms:modified>
  <cp:revision>41</cp:revision>
  <dc:subject/>
  <dc:title>Presentación de PowerPoint</dc:title>
</cp:coreProperties>
</file>