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voz%20Urnaigh.wav" ContentType="audio/x-wav"/>
  <Override PartName="/ppt/media/image8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011-D82B-4686-9D06-6DECB96C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C59-1BED-4386-8A1D-63913A0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62F-8425-4923-A809-40BEF500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10C-1EEB-481F-9C1D-599B4C93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F47-182E-474F-829D-8E409265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F34-3FC8-47F7-A7B7-04C55DF2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904-D997-4848-8054-B8AD52C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937-336B-4C14-A9F1-47352F51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2C6-7BF8-41A8-9B7E-6C7CE1AB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203-83FD-4723-A8B2-A1F73BA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BB6-D7DE-423A-96E9-D193F0DE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12D-C95C-469A-ABF4-4853F94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3010-5400-4786-AC38-530E1A7C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z%20Urnaig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859aa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Por que te agitas y confun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r los problemas que te trae la vi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éjame controlar todas tus cosas e irán tornándos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j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ando 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regues totalmente a mi, todas las cosas será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eltas con tranquilidad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acuerdo a mis pla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te frustres, no me ores como apresurándome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o si quisieras forzarme a realizar tus pla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lugar de eso, cierra 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jos de tu alma y con paz dim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8643"/>
            </a:gs>
            <a:gs pos="50000">
              <a:srgbClr val="ffcc66"/>
            </a:gs>
            <a:gs pos="100000">
              <a:srgbClr val="a8864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 de evitar es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nsamientos que te angustian al querer comprender l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sas que te pas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arruines mis plan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ndo de imponer tus ideas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éjame ser tu 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y actuar libremente en tu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régate a mi co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a confianza y deja tu futuro en mis mano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m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recuentemente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877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más te lastima 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ando tratas de razonarlo todo de acuerdo a tu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nsamien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e intentas resolver tu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s a tu man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ando me dig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no seas como el impaciente que le dice al Doctor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cúreme", pero le sugiere la "mejor" forma de hacer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éjate curar por mi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razos divinos, no tengas miedo, Yo te a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355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a7"/>
            </a:gs>
            <a:gs pos="50000">
              <a:srgbClr val="ccccff"/>
            </a:gs>
            <a:gs pos="100000">
              <a:srgbClr val="8585a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ves que las cosas se vuelven peores o más complicadas, aún cuando tú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ás orando;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ntente confiado en mí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erra los ojos de tu alma, y continu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ciendo a cada hor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cesito mis manos libres para poder manifestarte mi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di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a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s manos con tus absurdas preocup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atanás quiere que te frustres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certe sentir triste, quitarte la pa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fía en mi, descansa en mi, entrégate a 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13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8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Yo hago milagros en la medida en que tu te abandonas a mi y de acuerdo a la f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e m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í que no te preocupes, dame todas tus frustraciones y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erm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paz, y siempre dim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y verás grandes milag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e lo prometo con todo mi amor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JESÚ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6640" y="2057400"/>
            <a:ext cx="370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e5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08360" y="1125000"/>
            <a:ext cx="439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IOS ME PIDIO QUE TE DIJER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do irá bien contigo a partir de ahora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o importa cuánto se esfuercen tus enemigos este año, no tendrán éxito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ú has sido destinado para alejarlos y este año lograrás todos tus  objetivos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ara los meses venideros se disiparán todas tus agonías  llegará la victoria y prosperidad en abundancia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Hoy día DIOS ha confirmado el fin de tus pesares y dolores porque EL que reina te ha recordado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e ha quitado las penurias y te ha dado ALEGRIA. EL nunc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e decepcionará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sta mañana llamé a la puerta del cielo y Dios me preguntó..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 niño, ¿qué puedo hacer por ti?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 respondí, Padre, por favor protege y bendice ,la persona que esté leyendo este mensaje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S sonrió y contestó... Petición concedida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Que el Buen Dios te bendiga?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47628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735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8a8"/>
            </a:gs>
            <a:gs pos="50000">
              <a:srgbClr val="ccffff"/>
            </a:gs>
            <a:gs pos="100000">
              <a:srgbClr val="86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hora que has leído éste mensaje,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víalo a todas las personas qu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ideres tus amigos. Si no l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aces,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mplemente ellos se perderán la bendición de que les recuerde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go tan impor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endrás mala suerte, porque la suerte no 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go ordenado por DIOS, simplemente habrás dejado d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arti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g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"realmente importante", con los demá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4419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03:41:31Z</dcterms:created>
  <dc:creator/>
  <dc:description/>
  <dc:language>en-US</dc:language>
  <cp:lastModifiedBy>Flor</cp:lastModifiedBy>
  <dcterms:modified xsi:type="dcterms:W3CDTF">2006-02-04T04:33:36Z</dcterms:modified>
  <cp:revision>41</cp:revision>
  <dc:subject/>
  <dc:title>Presentación de PowerPoint</dc:title>
</cp:coreProperties>
</file>