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JamesHorner-CelticCry.wav" ContentType="audio/x-wav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13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BFD-7401-40AB-968C-4E91AD87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861-6F69-4427-BAD8-767FF99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9D8-CE03-4C0B-BB97-7B98F3D2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FF5-7F2F-46A5-97B7-E1584B90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4F8-5353-4FD6-A289-D7D04E2C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628-2F28-410D-AF01-A0818B2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5F4-C998-48D7-9210-4D3516AE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CBA-0DCC-49E8-B33F-C9103CE9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BFC-8F0C-4782-8822-E5813EBA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E7E-A071-49E9-94FA-B0E267B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8DA-6AF3-4685-BA91-F93CA43E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122-E4F3-4278-A1ED-70A1A9C9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entury Gothic"/>
              </a:rPr>
              <a:t>PRODUCCIONES RAKIMCHILE – 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entury Gothic"/>
              </a:rPr>
              <a:t>rakimchile@hot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Century Gothic"/>
              </a:rPr>
              <a:t>Sirope de Savia de Arce la Miel de la Vi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B179-FE4F-49BE-A5F7-F447BE045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JamesHorner-CelticCry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19280" y="4005360"/>
            <a:ext cx="640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ungsuh"/>
                <a:ea typeface="Gungsuh"/>
              </a:rPr>
              <a:t>Quiénes fueron realmente los May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835280" y="4508640"/>
            <a:ext cx="583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vilización Maya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8000">
    <p:blinds dir="vert"/>
    <p:sndAc>
      <p:stSnd>
        <p:snd r:embed="rId4" name="JamesHorner-CelticCr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1413000"/>
            <a:ext cx="4176720" cy="39985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También fueron verdaderos genios                  de las matemáticas.                                              Por su creencia de que el tiempo                   era cíclico, idearon dos calendarios:                    uno de 260 días, usado en los rituales, celebraciones religiosas y predicciones astrológicas y otro solar basado en cálculos que consideraban que el           año tenía unos 365 dí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conjunto, ambos calendarios ofrecían un conteo de días más preciso que el calendario gregoriano, creado en Europa y usado hasta la fech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32360" y="1197000"/>
            <a:ext cx="3745080" cy="517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En astronomía seguían el movimiento del Sol, la Luna                 y las estrellas con tal exactitud que predecían fenómenos como eclipses y equinoccio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Los mayas fueron la primera civilización mesoamericana           en conocer el cero y lo usaron mucho antes de que fuera descubierto en otras latitudes; también conocían la rueda, pero sólo la usaron en juguetes para niños y no como medio              de transport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26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651640" y="4076640"/>
            <a:ext cx="259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UN PUEBLO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SANGRIENTO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651640" y="476280"/>
            <a:ext cx="2665440" cy="259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10000"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476280"/>
            <a:ext cx="3456000" cy="17974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Los primeros estudios afirmaban que eran un pueblo pacífico, sin embargo, investigaciones de los últimos 8 y 10 años con glifos, pinturas y escritos señalan                 que sí eran "sangrientos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771640" y="3284640"/>
            <a:ext cx="213048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5">
                                  <p:stCondLst>
                                    <p:cond delay="1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24360" y="1413000"/>
            <a:ext cx="4932360" cy="375516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"Se decía que no porque no había pruebas, pero ahora las hay; sus sacrificios eran para pedir o agradecer por cosechas, lluvia, salud, como muchas otras culturas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 </a:t>
            </a:r>
            <a:br>
              <a:rPr sz="1600"/>
            </a:b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También se sacrificaban a ellos mismos,                   con tatuajes y perforaciones en el cuerpo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"Algunos sacrificios terminaban en los templos, pero eran muy específicos, en ciertos rituales con prisioneros de guerra y personas designadas para sacrificarse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76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7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35640" y="98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 C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12000" y="2997360"/>
            <a:ext cx="2232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S PGothic"/>
              </a:rPr>
              <a:t>SU CAIDA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</p:txBody>
      </p:sp>
    </p:spTree>
  </p:cSld>
  <p:transition spd="slow" advTm="9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4437000"/>
            <a:ext cx="8496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Contrario a la creencia que señala que los Mayas se extinguieron, la población no "desapareció"; miles de sus descendientes aún viven en la región, y muchos aún hablan alguno de los idiomas de la familia Maye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373720"/>
            <a:ext cx="7057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Lo que sí desapareció fue el esplendor de la civilización                             siglos antes de la llegada de los españo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1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32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620640"/>
            <a:ext cx="604980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Las teorías más aceptadas del por qué dejaron de ser                   un gran pueblo señalan a la sobrepoblación,                                        la explotación de recursos naturales y la sequ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4797360"/>
            <a:ext cx="6048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"Por la concentración de población y el uso excesivo de los recursos naturales se dio un desequilibrio económico, enfermedades, epidemias y se fueron de las ciudades"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34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0920" y="4076640"/>
            <a:ext cx="4897440" cy="17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Century Gothic"/>
                <a:ea typeface="SimSun"/>
              </a:rPr>
              <a:t>Lo demás fue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Century Gothic"/>
                <a:ea typeface="SimSun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Century Gothic"/>
                <a:ea typeface="SimSun"/>
              </a:rPr>
              <a:t>Llegaron los españoles y encontraron grupos divididos y hostiles entre sí que fueron sencillos de so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734080"/>
            <a:ext cx="70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uentes: Proyecto Clío; sección Maya de las universidades de Yucatán y Campeche.                     Origen y ocaso de una 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5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6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260280"/>
            <a:ext cx="381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Un Origen aun casi desconocido</a:t>
            </a:r>
            <a:endParaRPr b="1" lang="en-US" sz="2000" spc="1" strike="noStrike">
              <a:ln w="9360">
                <a:solidFill>
                  <a:srgbClr val="ffff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 advTm="9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7640" y="3789360"/>
            <a:ext cx="6624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a civilización Maya se ubicó en Quintana Roo,                      Yucatán y Campeche, en México, y en países                              como Guatemala, Belice, Honduras y El Salvad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51280" y="1125360"/>
            <a:ext cx="4680000" cy="399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xisten varias hipótesis de cuándo                  y donde "aparecieron" los primeros grupos, sin embargo, la más aceptada dice que en el año 2600 A.C. llegaron algunos pobladores a Yucatán y de ahí se dispersaron al resto de los territorio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cuanto a su origen también                                  hay varias suposi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Unos creen que eran grupos nómadas procedentes de regiones de                       Meso-América, pero nuevos                 hallazgos indican que tuvieron                              su origen en grupos asiá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1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7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013360"/>
            <a:ext cx="8604000" cy="13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"Se han hecho pruebas de ADN y se comprueba la teoría, entonces decimos que cruzaron el estrecho de Bering y caminaron hacia el sur hasta encontrar un lugar que les ofrecía agua y tierra para sembrar", indica José Manuel Chávez Gómez, arqueólogo del INAH e investigador de la Dirección de Estudios Históricos del INA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189000"/>
            <a:ext cx="6050160" cy="3628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Para su estudio, la historia Maya                                             se divide en tres periodos.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el preclás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Se desarrollan la agricultura y la len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En el clásico, el más importante, ciudades                             como Tikal, Palenque, Calakmul y Cobá                                                      que se convierten en importantes centros ceremon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Y en el posclás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Comienza la decadencia de la cultura;                                                     los pobladores abandonan  las grandes ciudades                           y forman pequeñas comunida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4000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1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402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903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6404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9405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627280" y="189000"/>
            <a:ext cx="3591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VERDADEROS GENIOS 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 advTm="10000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04640"/>
            <a:ext cx="8496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os mayas vivían en clases sociales bien definidas y dominaban                              las matemáticas, astronomía, construcción, artes y escritu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5229360"/>
            <a:ext cx="7345440" cy="824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Lograron edificar grandes ciudades y templos monumentales,                               bien ubicados, sin el uso de instrumentos de metal, de modo que todo quedara cerca y con lógica para sus trasl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6:09:56Z</dcterms:created>
  <dc:creator>rakimchile@hotmail.com</dc:creator>
  <dc:description/>
  <dc:language>en-US</dc:language>
  <cp:lastModifiedBy>rakimchile</cp:lastModifiedBy>
  <dcterms:modified xsi:type="dcterms:W3CDTF">2008-08-05T18:11:02Z</dcterms:modified>
  <cp:revision>3</cp:revision>
  <dc:subject>www.freewebs.com/rakimchile ****  Canada 2008</dc:subject>
  <dc:title>Una produccion Rakimchile y el Sirope de Savia de Arce la Miel de la Vida</dc:title>
</cp:coreProperties>
</file>