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01C-05B9-4E56-BE95-04E3F14A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87F-7EDF-43FA-9103-2BA37C5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FBA-B52F-4F6F-B304-DD3C87A3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B7C-9F66-44A4-B861-FA1606F6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C28-EACD-48FD-9704-2FA2F98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D72-6A28-4150-80B4-434E1FD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D76-007F-40AE-A6AB-2FB2CC4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1CB-8895-49BB-82E4-516AE98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0C6-FFDA-4D50-A21A-612F1BA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4CC-1DB5-4931-836F-17D2A06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D35-1A33-4F6C-94B2-34FB8AB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95B-7515-490A-A06A-F6467181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7DC5-4272-4C8F-AC76-90E50D3E7474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54_vic_veci_najednou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extremeXskating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8_pass-you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48_redbul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6/1058_6369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6/1058_5980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7/1163_112169145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7/1186_zo_zapasu_artmedia_celtic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8/1254_050711_runningbulls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9/1320_VELETRH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Fahrra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1/1575_1534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606_ouch5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606_ouch4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611_soccer-player-kicked-in-balls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705_meduza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20_hi_ha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74_11494_w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74_97597INPM_w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74_97610KPsO_w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5/964_000224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5/966_badday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5/966_badday7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Judo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6/1058_1562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82_t14_f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Autsch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ff00"/>
                </a:solidFill>
                <a:latin typeface="Arial"/>
              </a:rPr>
              <a:t>CUANDO LA PALABRA:</a:t>
            </a:r>
            <a:br>
              <a:rPr sz="7200"/>
            </a:br>
            <a:r>
              <a:rPr b="0" lang="es-MX" sz="7200" spc="-1" strike="noStrike">
                <a:solidFill>
                  <a:srgbClr val="ffff00"/>
                </a:solidFill>
                <a:latin typeface="Arial"/>
              </a:rPr>
              <a:t>“¡AY JUEPUTA!”</a:t>
            </a:r>
            <a:br>
              <a:rPr sz="7200"/>
            </a:br>
            <a:r>
              <a:rPr b="0" lang="es-MX" sz="7200" spc="-1" strike="noStrike">
                <a:solidFill>
                  <a:srgbClr val="ffff00"/>
                </a:solidFill>
                <a:latin typeface="Arial"/>
              </a:rPr>
              <a:t>SE CONSIDERA APROPIAD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http://halbot.haluze.sk/images/2004-04/154_vic_veci_najednou.jpg [450x320, 3938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halbot.haluze.sk/images/2004-04/124_extremeXskating.jpg [420x368, 3886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71560" y="974880"/>
            <a:ext cx="56008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halbot.haluze.sk/images/2004-04/128_pass-you.jpg [768x512, 80117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halbot.haluze.sk/images/2004-04/148_redbull.jpg [518x632, 95203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04920" y="419040"/>
            <a:ext cx="49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http://halbot.haluze.sk/images/2005-06/1058_6369.jpg [420x634, 64063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halbot.haluze.sk/images/2005-06/1058_5980.jpg [400x298, 4258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3440" y="1015920"/>
            <a:ext cx="64771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ttp://halbot.haluze.sk/images/2005-07/1163_1121691456.jpg [400x479, 25205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http://halbot.haluze.sk/images/2005-07/1186_zo_zapasu_artmedia_celtic.jpg [450x292, 2661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249200"/>
            <a:ext cx="6715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ttp://halbot.haluze.sk/images/2005-08/1254_050711_runningbulls.jpg [461x341, 39835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25560"/>
            <a:ext cx="67676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http://halbot.haluze.sk/images/2005-09/1320_VELETRH.JPG [1158x828, 371021 B]">
            <a:hlinkClick r:id="rId1"/>
          </p:cNvPr>
          <p:cNvPicPr/>
          <p:nvPr/>
        </p:nvPicPr>
        <p:blipFill>
          <a:blip r:embed="rId2"/>
          <a:srcRect l="0" t="0" r="0" b="10128"/>
          <a:stretch/>
        </p:blipFill>
        <p:spPr>
          <a:xfrm>
            <a:off x="0" y="4906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http://halbot.haluze.sk/images/2004-04/124_Fahrrad.jpg [328x450, 3990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0"/>
            <a:ext cx="49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http://halbot.haluze.sk/images/2005-11/1575_15340.jpg [577x702, 43924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4120" y="85680"/>
            <a:ext cx="54957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http://halbot.haluze.sk/images/2005-12/1606_ouch5.jpg [450x322, 27178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765000"/>
            <a:ext cx="67154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http://halbot.haluze.sk/images/2006-01/1775_26rr.jpg [475x286, 28179 B]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halbot.haluze.sk/images/2005-12/1606_ouch4.jpg [302x252, 17170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60720" y="1415880"/>
            <a:ext cx="48225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http://halbot.haluze.sk/images/2005-12/1611_soccer-player-kicked-in-balls.jpg [333x500, 29288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438120"/>
            <a:ext cx="398304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http://halbot.haluze.sk/images/2005-12/1705_meduza.jpg [532x399, 2392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19160" y="476280"/>
            <a:ext cx="7105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ttp://halbot.haluze.sk/images/2006-01/1720_hi_ha.jpg [500x700, 88744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0600" y="95400"/>
            <a:ext cx="47628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ttp://halbot.haluze.sk/images/2006-01/1774_11494_w.jpg [500x987, 54333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2640" y="34920"/>
            <a:ext cx="34387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halbot.haluze.sk/images/2006-01/1774_97597INPM_w.jpg [500x600, 7560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http://halbot.haluze.sk/images/2006-01/1774_97610KPsO_w.jpg [500x645, 54945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14480" y="0"/>
            <a:ext cx="531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ttp://halbot.haluze.sk/images/2005-05/964_00022476.jpg [700x441, 7090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ttp://halbot.haluze.sk/images/2006-01/1774_130237WcEB_w.jpg [500x375, 41723 B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http://halbot.haluze.sk/images/2006-01/1774_167025XDgc_w.jpg [500x667, 41095 B]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http://halbot.haluze.sk/images/2006-01/1774_167026HMPL_w.jpg [500x332, 17995 B]"/>
          <p:cNvPicPr/>
          <p:nvPr/>
        </p:nvPicPr>
        <p:blipFill>
          <a:blip r:embed="rId1"/>
          <a:stretch/>
        </p:blipFill>
        <p:spPr>
          <a:xfrm>
            <a:off x="1095480" y="907920"/>
            <a:ext cx="695304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http://halbot.haluze.sk/images/2006-01/1775_04htrt.jpg [650x412, 40903 B]"/>
          <p:cNvPicPr/>
          <p:nvPr/>
        </p:nvPicPr>
        <p:blipFill>
          <a:blip r:embed="rId1"/>
          <a:stretch/>
        </p:blipFill>
        <p:spPr>
          <a:xfrm>
            <a:off x="738360" y="998640"/>
            <a:ext cx="76672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http://halbot.haluze.sk/images/2006-01/1775_32h.jpg [600x373, 58190 B]"/>
          <p:cNvPicPr/>
          <p:nvPr/>
        </p:nvPicPr>
        <p:blipFill>
          <a:blip r:embed="rId1"/>
          <a:stretch/>
        </p:blipFill>
        <p:spPr>
          <a:xfrm>
            <a:off x="857160" y="1119240"/>
            <a:ext cx="74296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http://halbot.haluze.sk/images/2006-01/1775_26cxf.jpg [1019x662, 68928 B]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http://halbot.haluze.sk/images/2005-05/966_badday2.jpg [550x492, 50674 B]">
            <a:hlinkClick r:id="rId1"/>
          </p:cNvPr>
          <p:cNvPicPr/>
          <p:nvPr/>
        </p:nvPicPr>
        <p:blipFill>
          <a:blip r:embed="rId2"/>
          <a:srcRect l="0" t="3756" r="0" b="0"/>
          <a:stretch/>
        </p:blipFill>
        <p:spPr>
          <a:xfrm>
            <a:off x="755640" y="23760"/>
            <a:ext cx="7920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ttp://halbot.haluze.sk/images/2005-05/966_badday7.JPG [551x303, 73498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ttp://halbot.haluze.sk/images/2004-04/124_Judo.jpg [400x279, 3276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ttp://halbot.haluze.sk/images/2005-06/1058_15627.jpg [500x372, 45722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halbot.haluze.sk/images/2004-04/82_t14_f2.jpg [763x669, 80976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8160" y="243000"/>
            <a:ext cx="72676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ttp://halbot.haluze.sk/images/2004-04/124_Autsch.jpg [400x397, 36380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-1440"/>
            <a:ext cx="6912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8:40:40Z</dcterms:created>
  <dc:creator>KESH</dc:creator>
  <dc:description/>
  <dc:language>en-US</dc:language>
  <cp:lastModifiedBy>Administrador</cp:lastModifiedBy>
  <dcterms:modified xsi:type="dcterms:W3CDTF">2009-06-30T17:24:26Z</dcterms:modified>
  <cp:revision>73</cp:revision>
  <dc:subject/>
  <dc:title>Not good</dc:title>
</cp:coreProperties>
</file>