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angel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ADB-AC99-4C52-BEC3-845E52D8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1AC-127D-47ED-A2B8-3833E43D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CC2-8C99-4325-A82F-B2FA7936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106-9104-4425-AF69-03410CD1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7FD3-8E62-4B1D-A424-E5C8A98B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4E2C-2C1F-4475-8608-89139858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4A21-7B98-4CE1-BC91-04421456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A450-C1D4-4D30-94F9-5FD15B27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A769-E521-4F60-ACAE-AE9A8B11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BA89-4623-4E1A-A931-7733DB47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2BC5-9D2C-4AD2-9679-1E78ED3E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1096-C415-4D78-8764-331A0422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73AA-E08D-4F4F-8C35-7DA60F15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EFEE-A0C4-41D2-8635-7389FE30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81C8-F9C7-4FD6-91AF-CD544CF0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2236-651E-4126-83B5-39730A68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757A-D92B-46A5-BA5F-EC1692C5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B584-C949-4240-AF0B-6182FACF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87F5-A7F0-41E9-8D2E-188641B3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8C7-EE1A-4ED0-8694-9DDE6EB0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DE1-FE0C-4E2F-9A30-CFCE1EED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86B-C085-4E2E-B94E-653B5AF9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4B0-67D3-40B2-A47A-ACA17F9F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DA9-1729-432D-8752-142668B5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9DD9-4CCB-4214-84B8-B130FEBDB394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D17D-13F2-4823-B940-8F4CA4497CB0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gel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5f03"/>
                </a:solidFill>
                <a:latin typeface="Times New Roman"/>
              </a:rPr>
              <a:t>UN DEFECTO EN LA MUJER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9640" y="1939680"/>
            <a:ext cx="79200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 cuando Dios hizo a la mujer, ya estaba en su sexto día de trabajo de horas extra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 ángel apareció y le dijo: "Por qué pones tanto tiempo en ésta?"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 El Señor contestó: "Has visto mi Hoja de Especificaciones para ella?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5000">
    <p:push dir="d"/>
    <p:sndAc>
      <p:stSnd>
        <p:snd r:embed="rId2" name="ange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32000" y="2060640"/>
            <a:ext cx="7200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loran cuando sus hijos triunfan y se alegr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uando sus amistades consiguen premi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on  felices cuando escuchan sobre u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acimiento o una boda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25560" y="1989000"/>
            <a:ext cx="7750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u corazón se rompe cuando muere una amig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ufren con la pérdida de un ser querido, s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mbargo pueden resistir cuando piensan que ya no hay más fuerz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aben que un beso y un abraz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ueden ayudar a curar un corazón roto.”</a:t>
            </a:r>
            <a:r>
              <a:rPr b="0" lang="es-MX" sz="3200" spc="-1" strike="noStrike">
                <a:solidFill>
                  <a:srgbClr val="1008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131640" y="2565360"/>
            <a:ext cx="403884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Sin embargo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hay un defecto en la mujer.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8195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bb5f03"/>
                </a:solidFill>
                <a:latin typeface="Times New Roman"/>
              </a:rPr>
              <a:t>Se le olvida lo mucho que vale!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ándale este mensaje a tus amigas, hermanas, tias, a tu mamá y a todas las mujeres que conozcas para recordarles l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ravillosas que son... también a los homb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orque a veces necesitamos que nos lo recuerden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elicidades mujeres! porque son la creación más bella de DIO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632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be ser completamente lavable, pero no ser 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lástico, tener más de 200 piezas movibles, tod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mbiables y ser capaz de funcionar con una die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cualquier cosa y sobras, tener un regazo qu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ueda acomodar cuatro niños al mismo tiemp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ener un beso que pueda curar desde una rodill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aspada hasta un corazón roto y lo hará todo c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olamente dos mano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El ángel se maravilló de los requisitos.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"Solamente dos manos....Imposible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Y este es solamente el modelo estándar?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 demasiado trabajo para un día...Espera hasta mañana para terminarla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778680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lo haré”, protestó el Señor. “Estoy tan cerca de terminar esta creación que es favorita de 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pio corazón.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la ya se cura sola cuando está enferma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uede trabajar días de 18 horas.” El ángel 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ercó más y tocó a la muj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bb5f03"/>
                </a:solidFill>
                <a:latin typeface="Times New Roman"/>
              </a:rPr>
              <a:t>"Pero la has hecho tan suave, Señor”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"Es suave" dijo Dios, “pero la he hecho tambié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uerte.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tienes idea de lo que puede aguantar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ogra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"Será capaz de pensar?" preguntó el ángel.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ios contestó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"No solamente será capaz  de pensar sino que razonar y de negociar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35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l ángel entonces notó algo y alargando la ma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ocó la mejilla de la mujer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"Señor, parece que este modelo tiene una fug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e dije que estabas tratando de pon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masiadas cosas en ella"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"Eso no es ninguna fuga... es una lágrima"  l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rrigió El Señ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"Para qué es la lágrima?" preguntó el áng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Y Dios dij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"Las lágrimas son su manera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xpresar su dicha, su pena, su desengaño, s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mor, su soledad, su sufrimiento y su orgullo.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to impresionó mucho al ángel "Eres un genio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ñor, pensaste en todo! La mujer es</a:t>
            </a:r>
            <a:r>
              <a:rPr b="0" lang="es-MX" sz="3200" spc="-1" strike="noStrike">
                <a:solidFill>
                  <a:srgbClr val="bb5f0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rdaderamente maravillosa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8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 es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 mujer tiene fuerzas que maravillan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l hombr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guantan dificultades, llevan grandes carga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ero tienen felicidad, amor y dich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onríen cuando quieren grita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ntan cuando quieren llorar. Lloran cuan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tán felices y ríen cuando están nerviosa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ee4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uchan por lo que cr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 enfrentan a la  injusti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o aceptan "no" por respuesta cuan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llas creen que hay una solución mej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 privan para que su familia pueda ten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cuden al médico con una amiga que tiene miedo de i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man incondicionalment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9T15:36:13Z</dcterms:created>
  <dc:creator>Abel</dc:creator>
  <dc:description/>
  <dc:language>en-US</dc:language>
  <cp:lastModifiedBy>SEBANA</cp:lastModifiedBy>
  <dcterms:modified xsi:type="dcterms:W3CDTF">2008-03-03T17:39:55Z</dcterms:modified>
  <cp:revision>47</cp:revision>
  <dc:subject/>
  <dc:title>UN DEFECTO EN LA MUJER </dc:title>
</cp:coreProperties>
</file>