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angel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A93-E746-4AE5-B2C1-897414CC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4DE-DD90-41CD-B771-BD9C13FF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CDC-54EE-46F1-802E-D28CF8BD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34C-7063-44D1-A455-453AB457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1222-2CB9-472B-929D-AAD5B1F8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6671-DEAD-49B9-A512-7A9035D4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84F6-3D3C-4EB8-BCD9-565F5DF8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7467-59C1-4DC3-AAF5-DFB907BF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A2DC-38B6-4946-A5F0-CFEA5DCF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7607-B476-4888-8247-688B8B9D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9DEF-3487-412B-BE21-AADEFF79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1D2-BF23-424F-A2C0-2D47391F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5D10-22ED-4EE2-98FA-8264B33E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5B37-4AFD-44F3-97AF-39F07C5E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00BD-B7B7-41B9-ADFC-9037DBF1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5ECB-0F48-432D-9974-47E55474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A2D0-C407-4CEF-B5C8-B1395674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406-2BB5-4AE2-8052-F7B43F6B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460-52DC-4F59-A97D-43DB7328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A23-E755-4246-9406-93D868BA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0F6-B3B9-45CB-AF61-2B33B406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969-390A-4DD4-AF7B-FEDE9A54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42B-A33D-468A-BE68-EE43578A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A0E-419A-4F3E-A8D7-AEB9BC22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D3F7-6B1A-4DCE-9554-7A9222A351FD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4420-9F90-446C-A44E-15897C570A8E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gel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5f03"/>
                </a:solidFill>
                <a:latin typeface="Times New Roman"/>
              </a:rPr>
              <a:t>UN DEFECTO EN LA MUJER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640" y="1939680"/>
            <a:ext cx="79200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 cuando Dios hizo a la mujer, ya estaba en su sexto día de trabajo de horas extra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 ángel apareció y le dijo: "Por qué pones tanto tiempo en ésta?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 El Señor contestó: "Has visto mi Hoja de Especificaciones para ella?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5000">
    <p:push dir="d"/>
    <p:sndAc>
      <p:stSnd>
        <p:snd r:embed="rId2" name="ange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32000" y="2060640"/>
            <a:ext cx="720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loran cuando sus hijos triunfan y se alegr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uando sus amistades consiguen premi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on  felices cuando escuchan sobre u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acimiento o una boda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25560" y="1989000"/>
            <a:ext cx="7750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u corazón se rompe cuando muere una amig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ufren con la pérdida de un ser querido, s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mbargo pueden resistir cuando piensan que ya no hay más fuerz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aben que un beso y un abraz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ueden ayudar a curar un corazón roto.”</a:t>
            </a: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131640" y="2565360"/>
            <a:ext cx="40388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Sin embargo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hay un defecto en la mujer.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8195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bb5f03"/>
                </a:solidFill>
                <a:latin typeface="Times New Roman"/>
              </a:rPr>
              <a:t>Se le olvida lo mucho que vale!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ándale este mensaje a tus amigas, hermanas, tias, a tu mamá y a todas las mujeres que conozcas para recordarles l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ravillosas que son... también a los homb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orque a veces necesitamos que nos lo recuerden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elicidades mujeres! porque son la creación más bella de DIO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632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 ser completamente lavable, pero no ser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lástico, tener más de 200 piezas movibles, to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mbiables y ser capaz de funcionar con una die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cualquier cosa y sobras, tener un regazo qu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ueda acomodar cuatro niños al mismo tiemp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ner un beso que pueda curar desde una rodil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aspada hasta un corazón roto y lo hará todo c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olamente dos mano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l ángel se maravilló de los requisitos.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"Solamente dos manos....Imposibl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Y este es solamente el modelo estándar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demasiado trabajo para un día...Espera hasta mañana para terminarla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7868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lo haré”, protestó el Señor. “Estoy tan cerca de terminar esta creación que es favorita de 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pio corazón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la ya se cura sola cuando está enferma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uede trabajar días de 18 horas.” El ángel 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ercó más y tocó a la muj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b5f03"/>
                </a:solidFill>
                <a:latin typeface="Times New Roman"/>
              </a:rPr>
              <a:t>"Pero la has hecho tan suave, Señor”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"Es suave" dijo Dios, “pero la he hecho tambié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uerte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tienes idea de lo que puede aguantar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ogra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"Será capaz de pensar?" preguntó el ángel.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ios contestó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"No solamente será capaz  de pensar sino que razonar y de negociar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5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l ángel entonces notó algo y alargando la ma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ocó la mejilla de la mujer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"Señor, parece que este modelo tiene una fug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e dije que estabas tratando de pon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masiadas cosas en ella"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"Eso no es ninguna fuga... es una lágrima"  l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rrigió El Señ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"Para qué es la lágrima?" preguntó el áng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Y Dios dij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"Las lágrimas son su manera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presar su dicha, su pena, su desengaño,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mor, su soledad, su sufrimiento y su orgullo.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o impresionó mucho al ángel "Eres un genio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ñor, pensaste en todo! La mujer es</a:t>
            </a:r>
            <a:r>
              <a:rPr b="0" lang="es-MX" sz="3200" spc="-1" strike="noStrike">
                <a:solidFill>
                  <a:srgbClr val="bb5f0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rdaderamente maravillosa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8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 es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mujer tiene fuerzas que maravillan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l hombr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guantan dificultades, llevan grandes carga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ero tienen felicidad, amor y dich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onríen cuando quieren grita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ntan cuando quieren llorar. Lloran cuan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án felices y ríen cuando están nervios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uchan por lo que cr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 enfrentan a la  injusti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o aceptan "no" por respuesta cuan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llas creen que hay una solución mej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 privan para que su familia pueda ten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cuden al médico con una amiga que tiene miedo de i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man incondicionalment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15:36:13Z</dcterms:created>
  <dc:creator>Abel</dc:creator>
  <dc:description/>
  <dc:language>en-US</dc:language>
  <cp:lastModifiedBy>SEBANA</cp:lastModifiedBy>
  <dcterms:modified xsi:type="dcterms:W3CDTF">2008-03-03T17:39:55Z</dcterms:modified>
  <cp:revision>47</cp:revision>
  <dc:subject/>
  <dc:title>UN DEFECTO EN LA MUJER </dc:title>
</cp:coreProperties>
</file>