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26.jpeg" ContentType="image/jpeg"/>
  <Override PartName="/ppt/media/image42.png" ContentType="image/png"/>
  <Override PartName="/ppt/media/WAVdeRosyPeliculasCenizasDelParaiso.wav" ContentType="audio/x-wav"/>
  <Override PartName="/ppt/media/image23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0DAF-4714-43E5-96BF-EEA21E29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F21D-C726-4702-AD31-F8DD814D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72C0-F8BB-42D4-A914-EA38CAD2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AA85-4B3D-4332-AD36-120B5270E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AC03-91C9-43B7-9721-CE2ABFD0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2C8D-CEEC-4BB9-9A41-74CBD959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8E76-A361-4ADA-88AF-980F680A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D830-BF92-4E62-BE4F-F77B1597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5FAA-33EC-4077-989D-57A5932C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6388-CE33-4558-BA96-A3298129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1E63-9BBC-4169-9728-741C7E82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CF26-4BDA-483B-990D-CD6B7B0A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937"/>
            </a:gs>
            <a:gs pos="50000">
              <a:srgbClr val="e25b00"/>
            </a:gs>
            <a:gs pos="100000">
              <a:srgbClr val="ffd9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12F6-145A-4828-9BF0-5CC5F2715C6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WAVdeRosyPeliculasCenizasDelParaiso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14738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2556000" y="1628640"/>
            <a:ext cx="2987640" cy="9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e25b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Goudy Old Style"/>
              </a:rPr>
              <a:t>KITHIRA</a:t>
            </a:r>
            <a:endParaRPr b="0" lang="en-US" sz="5400" spc="1" strike="noStrike">
              <a:ln w="9360">
                <a:solidFill>
                  <a:srgbClr val="e25b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6948360" y="3716280"/>
            <a:ext cx="1685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oudy Old Style"/>
              </a:rPr>
              <a:t>GRECIA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</p:spTree>
  </p:cSld>
  <p:transition spd="slow">
    <p:pull dir="d"/>
    <p:sndAc>
      <p:stSnd>
        <p:snd r:embed="rId6" name="WAVdeRosyPeliculasCenizasDelParais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258920" y="2276640"/>
            <a:ext cx="698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La isla tiene paisajes de impresionante belleza natural, playas, pueblos tradicionales con iglesias bizantinas y castillos venecianos, donde durante el verano se organizan festivales para celebrar la historia de la isla, promocionar los productos locales y mantener las tradiciones v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nuevo-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826920" y="2565360"/>
            <a:ext cx="76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Kythira no tiene turismo masivo y no está comercializado ni explotado. Por lo tanto sigue siendo natural y tranquilo. Cada año atrae turistas que buscan la paz y quieren disfrutar de unas vacaciones en la playa, descansar y relajars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69189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stena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nuevo-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nuevo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monemvasia-kalderimi"/>
          <p:cNvPicPr/>
          <p:nvPr/>
        </p:nvPicPr>
        <p:blipFill>
          <a:blip r:embed="rId1"/>
          <a:stretch/>
        </p:blipFill>
        <p:spPr>
          <a:xfrm>
            <a:off x="395280" y="765000"/>
            <a:ext cx="3914640" cy="5229360"/>
          </a:xfrm>
          <a:prstGeom prst="rect">
            <a:avLst/>
          </a:prstGeom>
          <a:ln w="57240">
            <a:solidFill>
              <a:srgbClr val="ffffcc"/>
            </a:solidFill>
            <a:miter/>
          </a:ln>
        </p:spPr>
      </p:pic>
      <p:pic>
        <p:nvPicPr>
          <p:cNvPr id="69" name="Picture 5" descr="kythira"/>
          <p:cNvPicPr/>
          <p:nvPr/>
        </p:nvPicPr>
        <p:blipFill>
          <a:blip r:embed="rId2"/>
          <a:stretch/>
        </p:blipFill>
        <p:spPr>
          <a:xfrm>
            <a:off x="4788000" y="765000"/>
            <a:ext cx="3889440" cy="5256360"/>
          </a:xfrm>
          <a:prstGeom prst="rect">
            <a:avLst/>
          </a:prstGeom>
          <a:ln w="57240">
            <a:solidFill>
              <a:srgbClr val="ffffcc"/>
            </a:solidFill>
            <a:miter/>
          </a:ln>
        </p:spPr>
      </p:pic>
    </p:spTree>
  </p:cSld>
  <p:transition spd="slow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kos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Kithi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332000" y="2421000"/>
            <a:ext cx="673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Kithira es una de las islas jónicas pero debido a su posición geográfica pertenece a Attica. su ubicación es entre Peloponeso y Creta en la bahía de Esp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Su nombre proviene de Kythiro, rey de los fenicios que fueron los primeros que vivieron en la is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nuevo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kithira_2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kos_5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013360"/>
          </a:xfrm>
          <a:prstGeom prst="rect">
            <a:avLst/>
          </a:prstGeom>
          <a:ln w="57240">
            <a:solidFill>
              <a:srgbClr val="e25b00"/>
            </a:solidFill>
            <a:miter/>
          </a:ln>
        </p:spPr>
      </p:pic>
    </p:spTree>
  </p:cSld>
  <p:transition spd="slow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kithira_1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734080"/>
          </a:xfrm>
          <a:prstGeom prst="rect">
            <a:avLst/>
          </a:prstGeom>
          <a:ln w="57240">
            <a:solidFill>
              <a:srgbClr val="e25b00"/>
            </a:solidFill>
            <a:miter/>
          </a:ln>
        </p:spPr>
      </p:pic>
    </p:spTree>
  </p:cSld>
  <p:transition spd="slow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nuevo-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nuevo-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nuevo-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nuevo-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nuevo-12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nuevo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Picture 6" descr="GoogleEarth_Image%20PELOPONISSOS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Oval 5"/>
            <p:cNvSpPr/>
            <p:nvPr/>
          </p:nvSpPr>
          <p:spPr>
            <a:xfrm>
              <a:off x="5219640" y="4869000"/>
              <a:ext cx="1009800" cy="1224000"/>
            </a:xfrm>
            <a:prstGeom prst="ellipse">
              <a:avLst/>
            </a:prstGeom>
            <a:noFill/>
            <a:ln w="572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6300720" y="5373720"/>
              <a:ext cx="1511280" cy="3603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Goudy Old Style"/>
                </a:rPr>
                <a:t>KITHI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nuevo-14"/>
          <p:cNvPicPr/>
          <p:nvPr/>
        </p:nvPicPr>
        <p:blipFill>
          <a:blip r:embed="rId1"/>
          <a:stretch/>
        </p:blipFill>
        <p:spPr>
          <a:xfrm>
            <a:off x="0" y="0"/>
            <a:ext cx="9144000" cy="6951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nuevo-16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nuevo-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originalSize_11215949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394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1847917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2556496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Avlemonas_Kythi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12748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119174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-207360" y="2637000"/>
            <a:ext cx="945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La leyenda narra que en Kithira nació Afrodita ( Venu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y la historia dice que esta isla ha visto pasar las civil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minoicas, bizantinas, venecianas, las correrías inevi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de los turcos, los pequeños períodos de dominio rus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finalmente la influencia de Francia e Inglater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128242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playakythira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lowvin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110736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116769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WordArt 4"/>
          <p:cNvSpPr txBox="1"/>
          <p:nvPr/>
        </p:nvSpPr>
        <p:spPr>
          <a:xfrm>
            <a:off x="1116000" y="2708280"/>
            <a:ext cx="1609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5840">
                  <a:solidFill>
                    <a:srgbClr val="e25b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oudy Old Style"/>
              </a:rPr>
              <a:t>FIN</a:t>
            </a:r>
            <a:endParaRPr b="0" lang="en-US" sz="8000" spc="1" strike="noStrike">
              <a:ln w="15840">
                <a:solidFill>
                  <a:srgbClr val="e25b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</p:spTree>
  </p:cSld>
  <p:transition spd="slow">
    <p:pull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nuevo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16360" y="2421000"/>
            <a:ext cx="845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Es preciso hacer notar la inclinación de los habi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por emigrar preferentemente a Australia, país del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 </a:t>
            </a: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muchos retornan para pasar el resto de sus días en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isla nativa, en paz y en cal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nuevo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679320" y="2852640"/>
            <a:ext cx="790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Kithira tiene alrededor de tres mil habitantes,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residen en los numerosos pueblos extendidos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una superficie de doscientos ochenta kiló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cuadrados, con cincuenta kilómetros de cos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nuevo-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01:21:18Z</dcterms:created>
  <dc:creator>BEATRIZ PRESENTACIONES</dc:creator>
  <dc:description/>
  <dc:language>en-US</dc:language>
  <cp:lastModifiedBy>Windows</cp:lastModifiedBy>
  <dcterms:modified xsi:type="dcterms:W3CDTF">2009-08-17T10:15:59Z</dcterms:modified>
  <cp:revision>8</cp:revision>
  <dc:subject>LA ISLA DE KITHIRA</dc:subject>
  <dc:title>KITHIRA -GRECIA</dc:title>
</cp:coreProperties>
</file>