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25.gif" ContentType="image/gif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6.gif" ContentType="image/gif"/>
  <Override PartName="/ppt/media/image20.jpeg" ContentType="image/jpeg"/>
  <Override PartName="/ppt/media/image15.jpeg" ContentType="image/jpeg"/>
  <Override PartName="/ppt/media/image23.jpeg" ContentType="image/jpeg"/>
  <Override PartName="/ppt/media/image18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21.jpeg" ContentType="image/jpeg"/>
  <Override PartName="/ppt/media/image17.gif" ContentType="image/gif"/>
  <Override PartName="/ppt/media/image16.gif" ContentType="image/gif"/>
  <Override PartName="/ppt/media/image14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BB5F-4B12-470B-B4E1-4217144E3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7BD6-BBF7-47E2-AE49-70567297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4CA7-8F4B-4915-BDB3-6E83478CC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5570-52F0-4686-BDCE-AACB560BE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2CF0-65CE-43D1-90F3-186F0054E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D07E-7BFB-44BB-ACD0-5AF135941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1831-534E-4457-B781-DCD53DDBF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92BE-8464-4B99-B4FA-5A70CA9AE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1BB5-8E9A-475C-B43F-8641712EE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62A8-7890-4EBA-AEF0-FA22DB1A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7C53-248C-449F-907A-1CE631A8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25DE-B455-492D-A0B6-228CF245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4AC6A-DA63-4E52-B7AD-C8D6BBF16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PhilCollinsYllBeInMyHeart.wav" TargetMode="External"/><Relationship Id="rId3" Type="http://schemas.microsoft.com/office/2007/relationships/media" Target="file:///tmp/home/.config/libreoffice/4/user/gallery/PhilCollinsYllBeInMyHeart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hyperlink" Target="http://www.clerus.org/bibliaclerusonline/es/c33.htm#op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2555" t="3794" r="2105" b="3794"/>
          <a:stretch/>
        </p:blipFill>
        <p:spPr>
          <a:xfrm>
            <a:off x="754200" y="0"/>
            <a:ext cx="8389800" cy="6864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33520" y="457200"/>
            <a:ext cx="8001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00"/>
                </a:solidFill>
                <a:latin typeface="Papyrus"/>
              </a:rPr>
              <a:t>El Verdadero Secret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31708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3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68342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800600" y="1660680"/>
            <a:ext cx="41148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4000" spc="-1" strike="noStrike">
                <a:solidFill>
                  <a:srgbClr val="000000"/>
                </a:solidFill>
                <a:latin typeface="Papyrus"/>
              </a:rPr>
              <a:t>Pensó que tener un trabajo con un mejor salario la haría feliz, pero no sucedi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9cb0"/>
            </a:gs>
            <a:gs pos="50000">
              <a:srgbClr val="414751"/>
            </a:gs>
            <a:gs pos="100000">
              <a:srgbClr val="8e9c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39640" y="3933720"/>
            <a:ext cx="77360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3400" spc="-1" strike="noStrike">
                <a:solidFill>
                  <a:srgbClr val="000000"/>
                </a:solidFill>
                <a:latin typeface="Papyrus"/>
              </a:rPr>
              <a:t>Pensó que casándose con un hombre guapo y adinerado sería feliz...</a:t>
            </a:r>
            <a:br>
              <a:rPr sz="3400"/>
            </a:br>
            <a:r>
              <a:rPr b="1" lang="es-PR" sz="3400" spc="-1" strike="noStrike">
                <a:solidFill>
                  <a:srgbClr val="000000"/>
                </a:solidFill>
                <a:latin typeface="Papyrus"/>
              </a:rPr>
              <a:t>Mas tuvo una casa y no un hogar, tuvo muchos bienes materiales, mas no felicidad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50000">
              <a:srgbClr val="000000"/>
            </a:gs>
            <a:gs pos="100000">
              <a:srgbClr val="3333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00000" y="-3240"/>
            <a:ext cx="7559640" cy="68612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50920" y="4208400"/>
            <a:ext cx="8713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400" spc="-1" strike="noStrike">
                <a:solidFill>
                  <a:srgbClr val="ffffff"/>
                </a:solidFill>
                <a:latin typeface="Papyrus"/>
              </a:rPr>
              <a:t>¿Cuándo sentía felicidad? </a:t>
            </a:r>
            <a:br>
              <a:rPr sz="2400"/>
            </a:br>
            <a:r>
              <a:rPr b="1" lang="es-PR" sz="2400" spc="-1" strike="noStrike">
                <a:solidFill>
                  <a:srgbClr val="ffffff"/>
                </a:solidFill>
                <a:latin typeface="Papyrus"/>
              </a:rPr>
              <a:t>Jugando con sus hijos y dándoles amor; disfrutando con sus amigos; sirviendo a los más necesitados; disfrutando las bellezas de la naturaleza;  y sobre todo... </a:t>
            </a:r>
            <a:r>
              <a:rPr b="1" lang="es-PR" sz="3200" spc="-1" strike="noStrike">
                <a:solidFill>
                  <a:srgbClr val="ffff00"/>
                </a:solidFill>
                <a:latin typeface="Papyrus"/>
              </a:rPr>
              <a:t>¡era feliz cada vez que dedicaba un tiempo en el día para darle gracias a Dios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332000" y="2637000"/>
            <a:ext cx="936360" cy="936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."/>
          <p:cNvPicPr/>
          <p:nvPr/>
        </p:nvPicPr>
        <p:blipFill>
          <a:blip r:embed="rId3"/>
          <a:stretch/>
        </p:blipFill>
        <p:spPr>
          <a:xfrm>
            <a:off x="5292720" y="765000"/>
            <a:ext cx="674640" cy="928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62120" y="0"/>
            <a:ext cx="838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400" spc="-1" strike="noStrike">
                <a:solidFill>
                  <a:srgbClr val="000000"/>
                </a:solidFill>
                <a:latin typeface="Papyrus"/>
              </a:rPr>
              <a:t>¡Ya lo sabes tú también! </a:t>
            </a:r>
            <a:br>
              <a:rPr sz="2400"/>
            </a:br>
            <a:r>
              <a:rPr b="1" lang="es-PR" sz="2400" spc="-1" strike="noStrike">
                <a:solidFill>
                  <a:srgbClr val="000000"/>
                </a:solidFill>
                <a:latin typeface="Papyrus"/>
              </a:rPr>
              <a:t>¡Ánimo!  ¡No puedes depender de otras personas para ser felíz! </a:t>
            </a:r>
            <a:br>
              <a:rPr sz="2400"/>
            </a:br>
            <a:r>
              <a:rPr b="1" lang="es-PR" sz="2400" spc="-1" strike="noStrike">
                <a:solidFill>
                  <a:srgbClr val="000000"/>
                </a:solidFill>
                <a:latin typeface="Papyrus"/>
              </a:rPr>
              <a:t>Solo DIOS con Su infinita sabiduría da la verdadera felicid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3 Imagen" descr="Jesús nueva 2.jpg"/>
          <p:cNvPicPr/>
          <p:nvPr/>
        </p:nvPicPr>
        <p:blipFill>
          <a:blip r:embed="rId2"/>
          <a:stretch/>
        </p:blipFill>
        <p:spPr>
          <a:xfrm>
            <a:off x="4011480" y="879480"/>
            <a:ext cx="5132520" cy="5978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4723"/>
            </a:gs>
            <a:gs pos="100000">
              <a:srgbClr val="36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75452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04920" y="200160"/>
            <a:ext cx="8610480" cy="1557000"/>
          </a:xfrm>
          <a:prstGeom prst="rect">
            <a:avLst/>
          </a:prstGeom>
          <a:solidFill>
            <a:srgbClr val="8e9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400" spc="-1" strike="noStrike">
                <a:solidFill>
                  <a:srgbClr val="ffffff"/>
                </a:solidFill>
                <a:latin typeface="Papyrus"/>
              </a:rPr>
              <a:t>¡Ten fe en DIOS!   ¡Abandónate en SUS amorosos brazos!</a:t>
            </a:r>
            <a:r>
              <a:rPr b="0" lang="es-PR" sz="2400" spc="-1" strike="noStrike">
                <a:solidFill>
                  <a:srgbClr val="ffffff"/>
                </a:solidFill>
                <a:latin typeface="Papyrus"/>
              </a:rPr>
              <a:t> </a:t>
            </a:r>
            <a:br>
              <a:rPr sz="2400"/>
            </a:br>
            <a:r>
              <a:rPr b="1" lang="es-PR" sz="2400" spc="-1" strike="noStrike">
                <a:solidFill>
                  <a:srgbClr val="ffffff"/>
                </a:solidFill>
                <a:latin typeface="Papyrus"/>
              </a:rPr>
              <a:t>¡Él llenará los vacíos de tu vida, pues sabe lo que es mejor para ti!</a:t>
            </a:r>
            <a:r>
              <a:rPr b="0" lang="es-PR" sz="2400" spc="-1" strike="noStrike">
                <a:solidFill>
                  <a:srgbClr val="ffffff"/>
                </a:solidFill>
                <a:latin typeface="Papyr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3b3a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619280" y="0"/>
            <a:ext cx="58626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24000" y="4149720"/>
            <a:ext cx="8497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4000" spc="-1" strike="noStrike">
                <a:solidFill>
                  <a:srgbClr val="000000"/>
                </a:solidFill>
                <a:latin typeface="Papyrus"/>
              </a:rPr>
              <a:t>Cuando sientas que los problemas te abruman, no te deprimas...</a:t>
            </a:r>
            <a:r>
              <a:rPr b="0" lang="es-PR" sz="4000" spc="-1" strike="noStrike">
                <a:solidFill>
                  <a:srgbClr val="000000"/>
                </a:solidFill>
                <a:latin typeface="Papyrus"/>
              </a:rPr>
              <a:t> </a:t>
            </a:r>
            <a:br>
              <a:rPr sz="4000"/>
            </a:br>
            <a:r>
              <a:rPr b="1" lang="es-PR" sz="4000" spc="-1" strike="noStrike">
                <a:solidFill>
                  <a:srgbClr val="000000"/>
                </a:solidFill>
                <a:latin typeface="Papyrus"/>
              </a:rPr>
              <a:t>¡Dios te ayudará a llevar la carga y te dará discernimiento para resolverlos!</a:t>
            </a:r>
            <a:r>
              <a:rPr b="0" lang="es-PR" sz="4000" spc="-1" strike="noStrike">
                <a:solidFill>
                  <a:srgbClr val="000000"/>
                </a:solidFill>
                <a:latin typeface="Papyru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50846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95280" y="0"/>
            <a:ext cx="849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3600" spc="-1" strike="noStrike">
                <a:solidFill>
                  <a:srgbClr val="ffffff"/>
                </a:solidFill>
                <a:latin typeface="Papyrus"/>
              </a:rPr>
              <a:t>¡Yo te he dado a conocer el Secreto de mi felicidad! </a:t>
            </a:r>
            <a:br>
              <a:rPr sz="3600"/>
            </a:br>
            <a:r>
              <a:rPr b="1" lang="es-PR" sz="3600" spc="-1" strike="noStrike">
                <a:solidFill>
                  <a:srgbClr val="ffffff"/>
                </a:solidFill>
                <a:latin typeface="Papyrus"/>
              </a:rPr>
              <a:t>¿Qué vas a hacer con esta información?</a:t>
            </a:r>
            <a:r>
              <a:rPr b="1" lang="es-P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403280" y="0"/>
            <a:ext cx="601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4000" spc="-1" strike="noStrike">
                <a:solidFill>
                  <a:srgbClr val="ffffff"/>
                </a:solidFill>
                <a:latin typeface="Papyrus"/>
              </a:rPr>
              <a:t>¡Tienes que compartir este Secreto también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9640" y="1190520"/>
            <a:ext cx="8244000" cy="5667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859280" y="476280"/>
            <a:ext cx="4119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3600" spc="-1" strike="noStrike">
                <a:solidFill>
                  <a:srgbClr val="ffffff"/>
                </a:solidFill>
                <a:latin typeface="Papyrus"/>
              </a:rPr>
              <a:t>¡Dile a quienes conoces que Dios les ama y cuida de ellos! </a:t>
            </a:r>
            <a:br>
              <a:rPr sz="3600"/>
            </a:br>
            <a:r>
              <a:rPr b="1" lang="es-PR" sz="3600" spc="-1" strike="noStrike">
                <a:solidFill>
                  <a:srgbClr val="ffffff"/>
                </a:solidFill>
                <a:latin typeface="Papyrus"/>
              </a:rPr>
              <a:t>¡Que Él les tiene preparada una vida hermosa!</a:t>
            </a:r>
            <a:br>
              <a:rPr sz="3600"/>
            </a:br>
            <a:r>
              <a:rPr b="1" lang="es-PR" sz="3600" spc="-1" strike="noStrike">
                <a:solidFill>
                  <a:srgbClr val="ffffff"/>
                </a:solidFill>
                <a:latin typeface="Papyrus"/>
              </a:rPr>
              <a:t>¡Sólo hay que confiar en que es así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BLOGGER_PHOTO_ID_5120774057197040146" descr=""/>
          <p:cNvPicPr/>
          <p:nvPr/>
        </p:nvPicPr>
        <p:blipFill>
          <a:blip r:embed="rId1"/>
          <a:stretch/>
        </p:blipFill>
        <p:spPr>
          <a:xfrm>
            <a:off x="3240" y="0"/>
            <a:ext cx="49435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52280" y="152280"/>
            <a:ext cx="30481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800" spc="-1" strike="noStrike">
                <a:solidFill>
                  <a:srgbClr val="000000"/>
                </a:solidFill>
                <a:latin typeface="Papyrus"/>
              </a:rPr>
              <a:t>¡No basta creer en Dios! 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800" spc="-1" strike="noStrike">
                <a:solidFill>
                  <a:srgbClr val="000000"/>
                </a:solidFill>
                <a:latin typeface="Papyrus"/>
              </a:rPr>
              <a:t> </a:t>
            </a:r>
            <a:r>
              <a:rPr b="1" lang="es-PR" sz="2800" spc="-1" strike="noStrike">
                <a:solidFill>
                  <a:srgbClr val="000000"/>
                </a:solidFill>
                <a:latin typeface="Papyrus"/>
              </a:rPr>
              <a:t>¡Debemos CREERLE A DIOS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724280" y="836640"/>
            <a:ext cx="4419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3200" spc="-1" strike="noStrike">
                <a:solidFill>
                  <a:srgbClr val="000000"/>
                </a:solidFill>
                <a:latin typeface="Papyrus"/>
              </a:rPr>
              <a:t>¡Que Dios Todopoderoso te bendiga e ilumine el sendero de tu vida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284720" y="981000"/>
            <a:ext cx="295200" cy="309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9280" y="260280"/>
            <a:ext cx="403236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3600" spc="-1" strike="noStrike">
                <a:solidFill>
                  <a:srgbClr val="000000"/>
                </a:solidFill>
                <a:latin typeface="Papyrus"/>
              </a:rPr>
              <a:t>Un día, una amiga le preguntó a otra…  </a:t>
            </a:r>
            <a:br>
              <a:rPr sz="3600"/>
            </a:br>
            <a:r>
              <a:rPr b="1" lang="es-PR" sz="3600" spc="-1" strike="noStrike">
                <a:solidFill>
                  <a:srgbClr val="000000"/>
                </a:solidFill>
                <a:latin typeface="Papyrus"/>
              </a:rPr>
              <a:t>'¿Cómo es que siempre estás tan felíz? </a:t>
            </a:r>
            <a:br>
              <a:rPr sz="3600"/>
            </a:br>
            <a:r>
              <a:rPr b="1" lang="es-PR" sz="3600" spc="-1" strike="noStrike">
                <a:solidFill>
                  <a:srgbClr val="000000"/>
                </a:solidFill>
                <a:latin typeface="Papyrus"/>
              </a:rPr>
              <a:t>¡Siempre tienes tanta energía, </a:t>
            </a:r>
            <a:br>
              <a:rPr sz="3600"/>
            </a:br>
            <a:r>
              <a:rPr b="1" lang="es-PR" sz="3600" spc="-1" strike="noStrike">
                <a:solidFill>
                  <a:srgbClr val="000000"/>
                </a:solidFill>
                <a:latin typeface="Papyrus"/>
              </a:rPr>
              <a:t>y pareciera que nunca estás triste ni tienes problemas!'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09480" y="76320"/>
            <a:ext cx="7315200" cy="67831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990720" y="609480"/>
            <a:ext cx="7086600" cy="53427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pyrus"/>
              </a:rPr>
              <a:t>El Señor es mi pastor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Papyrus"/>
              </a:rPr>
              <a:t>nada me puede faltar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Papyrus"/>
              </a:rPr>
              <a:t>Él me hace descansar en verdes praderas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Papyrus"/>
              </a:rPr>
              <a:t>me conduce a las aguas tranquila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Papyrus"/>
              </a:rPr>
              <a:t>y repara mis fuerzas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Papyrus"/>
              </a:rPr>
              <a:t>me guía por el recto sendero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Papyrus"/>
              </a:rPr>
              <a:t>por amor de su Nombre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Papyrus"/>
              </a:rPr>
              <a:t>Aunque cruce por oscuras quebradas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Papyrus"/>
              </a:rPr>
              <a:t>no temeré ningún mal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Papyrus"/>
              </a:rPr>
              <a:t>porque tú estás conmigo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Papyrus"/>
              </a:rPr>
              <a:t>tu vara y tu bastón me infunden confianza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Papyrus"/>
              </a:rPr>
              <a:t>Tú preparas ante mí una mesa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Papyrus"/>
              </a:rPr>
              <a:t>frente a mis enemigos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Papyrus"/>
              </a:rPr>
              <a:t>unges con óleo mi cabeza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Papyrus"/>
              </a:rPr>
              <a:t>y mi copa rebosa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Papyrus"/>
              </a:rPr>
              <a:t>Tu bondad y tu gracia me acompaña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Papyrus"/>
              </a:rPr>
              <a:t>a lo largo de mi vida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Papyrus"/>
              </a:rPr>
              <a:t>y habitaré en la Casa del Señor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Papyrus"/>
              </a:rPr>
              <a:t>por muy largo tiempo.</a:t>
            </a:r>
            <a:r>
              <a:rPr b="1" lang="en-US" sz="1800" spc="-1" strike="noStrike" u="sng">
                <a:solidFill>
                  <a:srgbClr val="009999"/>
                </a:solidFill>
                <a:uFillTx/>
                <a:latin typeface="Papyrus"/>
                <a:hlinkClick r:id="rId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6172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Salmo 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54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04920" y="404640"/>
            <a:ext cx="4572000" cy="22269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800" spc="-1" strike="noStrike">
                <a:solidFill>
                  <a:srgbClr val="000000"/>
                </a:solidFill>
                <a:latin typeface="Papyrus"/>
              </a:rPr>
              <a:t>Con una gran sonrisa en los labios, respondió: </a:t>
            </a:r>
            <a:br>
              <a:rPr sz="2800"/>
            </a:br>
            <a:r>
              <a:rPr b="1" lang="es-PR" sz="2800" spc="-1" strike="noStrike">
                <a:solidFill>
                  <a:srgbClr val="000000"/>
                </a:solidFill>
                <a:latin typeface="Papyrus"/>
              </a:rPr>
              <a:t>' ¡Yo conozco un Secreto!' </a:t>
            </a:r>
            <a:br>
              <a:rPr sz="2800"/>
            </a:br>
            <a:r>
              <a:rPr b="1" lang="es-PR" sz="2800" spc="-1" strike="noStrike">
                <a:solidFill>
                  <a:srgbClr val="000000"/>
                </a:solidFill>
                <a:latin typeface="Papyrus"/>
              </a:rPr>
              <a:t>'¿Qué secreto es ese?'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3500280"/>
            <a:ext cx="6096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800" spc="-1" strike="noStrike">
                <a:solidFill>
                  <a:srgbClr val="000000"/>
                </a:solidFill>
                <a:latin typeface="Papyrus"/>
              </a:rPr>
              <a:t>La amiga respondió: </a:t>
            </a:r>
            <a:br>
              <a:rPr sz="2800"/>
            </a:br>
            <a:r>
              <a:rPr b="1" lang="es-PR" sz="2800" spc="-1" strike="noStrike">
                <a:solidFill>
                  <a:srgbClr val="000000"/>
                </a:solidFill>
                <a:latin typeface="Papyrus"/>
              </a:rPr>
              <a:t>'Voy a contarte,  pero debes prometerme que vas a compartir el Secreto con otras personas.'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9640" y="549360"/>
            <a:ext cx="8077320" cy="62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5400" spc="-1" strike="noStrike">
                <a:solidFill>
                  <a:srgbClr val="000000"/>
                </a:solidFill>
                <a:latin typeface="Papyrus"/>
              </a:rPr>
              <a:t>'Este es el Secreto: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3600" spc="-1" strike="noStrike">
                <a:solidFill>
                  <a:srgbClr val="ffffcc"/>
                </a:solidFill>
                <a:latin typeface="Papyrus"/>
              </a:rPr>
              <a:t>He aprendido que es muy poco lo que puedo hacer por mi misma que me haga realmente felíz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5400" spc="-1" strike="noStrike">
                <a:solidFill>
                  <a:srgbClr val="000000"/>
                </a:solidFill>
                <a:latin typeface="Papyrus"/>
              </a:rPr>
              <a:t>Dependo de Dios para absolutamente tod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00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55640" y="3284640"/>
            <a:ext cx="7924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3600" spc="-1" strike="noStrike">
                <a:solidFill>
                  <a:srgbClr val="ffff00"/>
                </a:solidFill>
                <a:latin typeface="Papyrus"/>
              </a:rPr>
              <a:t>Él me hace felíz y satisface mis necesidades. </a:t>
            </a:r>
            <a:br>
              <a:rPr sz="3600"/>
            </a:br>
            <a:r>
              <a:rPr b="1" lang="es-PR" sz="3600" spc="-1" strike="noStrike">
                <a:solidFill>
                  <a:srgbClr val="ffff00"/>
                </a:solidFill>
                <a:latin typeface="Papyrus"/>
              </a:rPr>
              <a:t>Cuando surge una situación difícil en mi vida, confío en que Dios va a satisfacerla de acuerdo a SUS designio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62120" y="487692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3600" spc="-1" strike="noStrike">
                <a:solidFill>
                  <a:srgbClr val="ffffff"/>
                </a:solidFill>
                <a:latin typeface="Papyrus"/>
              </a:rPr>
              <a:t>He aprendido que la mayor parte de las veces no requiero siquiera la mitad de lo que creo necesita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1 Imagen" descr="cielo uno crece 7.jpg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56" name="3 Imagen" descr="Jesús nueva 2.jpg"/>
          <p:cNvPicPr/>
          <p:nvPr/>
        </p:nvPicPr>
        <p:blipFill>
          <a:blip r:embed="rId2"/>
          <a:stretch/>
        </p:blipFill>
        <p:spPr>
          <a:xfrm>
            <a:off x="2050920" y="476280"/>
            <a:ext cx="5132520" cy="5978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39640" y="1413000"/>
            <a:ext cx="8153640" cy="39344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600" spc="-1" strike="noStrike">
                <a:solidFill>
                  <a:srgbClr val="000000"/>
                </a:solidFill>
                <a:latin typeface="Papyrus"/>
              </a:rPr>
              <a:t>¡</a:t>
            </a:r>
            <a:r>
              <a:rPr b="1" lang="es-PR" sz="3600" spc="-1" strike="noStrike">
                <a:solidFill>
                  <a:srgbClr val="000000"/>
                </a:solidFill>
                <a:latin typeface="Papyrus"/>
              </a:rPr>
              <a:t>Él nunca me ha defraudado y tiene un plan perfecto para mí! </a:t>
            </a:r>
            <a:br>
              <a:rPr sz="3600"/>
            </a:br>
            <a:r>
              <a:rPr b="1" lang="es-PR" sz="3600" spc="-1" strike="noStrike">
                <a:solidFill>
                  <a:srgbClr val="000000"/>
                </a:solidFill>
                <a:latin typeface="Papyrus"/>
              </a:rPr>
              <a:t>¡Le entregué mi vida por completo a Él, se la puse en sus amorosas manos! </a:t>
            </a:r>
            <a:br>
              <a:rPr sz="3600"/>
            </a:br>
            <a:r>
              <a:rPr b="1" lang="es-PR" sz="3600" spc="-1" strike="noStrike">
                <a:solidFill>
                  <a:srgbClr val="000000"/>
                </a:solidFill>
                <a:latin typeface="Papyrus"/>
              </a:rPr>
              <a:t>¡Desde que aprendí ese 'Secreto', he sido sumamente felíz!'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143000" y="4800600"/>
            <a:ext cx="6934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3600" spc="-1" strike="noStrike">
                <a:solidFill>
                  <a:srgbClr val="ffffff"/>
                </a:solidFill>
                <a:latin typeface="Papyrus"/>
              </a:rPr>
              <a:t>Lo primero que pensó la amiga que preguntaba fue: </a:t>
            </a:r>
            <a:br>
              <a:rPr sz="3600"/>
            </a:br>
            <a:r>
              <a:rPr b="1" lang="es-PR" sz="3600" spc="-1" strike="noStrike">
                <a:solidFill>
                  <a:srgbClr val="ffffff"/>
                </a:solidFill>
                <a:latin typeface="Papyrus"/>
              </a:rPr>
              <a:t>'¡Eso es demasiado sencillo!'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53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14400" y="609480"/>
            <a:ext cx="7467480" cy="28371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3600" spc="-1" strike="noStrike">
                <a:solidFill>
                  <a:srgbClr val="000000"/>
                </a:solidFill>
                <a:latin typeface="Papyrus"/>
              </a:rPr>
              <a:t>Pero al reflexionar respecto a su propia vida, recordó cuando pensaba que tener una casa más grande iba a hacerla felíz... ¡pero no fue así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19:10:03Z</dcterms:created>
  <dc:creator>Martha Luz Velasquez</dc:creator>
  <dc:description>imagenes, texto y musica obtenidos en internet</dc:description>
  <dc:language>en-US</dc:language>
  <cp:lastModifiedBy>Martha Luz Velasquez</cp:lastModifiedBy>
  <dcterms:modified xsi:type="dcterms:W3CDTF">2008-12-03T00:51:05Z</dcterms:modified>
  <cp:revision>7</cp:revision>
  <dc:subject/>
  <dc:title>Diapositiva 1</dc:title>
</cp:coreProperties>
</file>