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6.gif" ContentType="image/gif"/>
  <Override PartName="/ppt/media/image20.jpeg" ContentType="image/jpeg"/>
  <Override PartName="/ppt/media/image15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7.gif" ContentType="image/gif"/>
  <Override PartName="/ppt/media/image16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EEB-313D-4F25-BA23-583FC570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B33-29A7-4EFB-8E05-E433E2DC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576-2571-4549-A152-0A4335C4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30D-DBE5-4D61-9766-4BC91BC9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347-0D94-4FCF-970E-F180511F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15D-7D90-4985-9BDB-6F8A21AB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DB4-9C3E-4638-BF59-3A494C1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2C7-5B22-41FB-8AA8-EEEEB507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DC2-11A2-4706-94F1-06126EB3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A4C-8101-49BF-A448-B1BA45E7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CAD-C4AF-46E1-8C55-85FB5617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8FA-2351-42BD-9FE7-043CE2CA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3770-DEB4-4F42-BE5A-7507A13AD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PhilCollinsYllBeInMyHeart.wav" TargetMode="External"/><Relationship Id="rId3" Type="http://schemas.microsoft.com/office/2007/relationships/media" Target="file:///tmp/home/.config/libreoffice/4/user/gallery/PhilCollinsYllBeInMyHear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hyperlink" Target="http://www.clerus.org/bibliaclerusonline/es/c33.htm#op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555" t="3794" r="2105" b="3794"/>
          <a:stretch/>
        </p:blipFill>
        <p:spPr>
          <a:xfrm>
            <a:off x="754200" y="0"/>
            <a:ext cx="83898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4572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Papyrus"/>
              </a:rPr>
              <a:t>El Verdadero Secre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34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00600" y="1660680"/>
            <a:ext cx="4114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Papyrus"/>
              </a:rPr>
              <a:t>Pensó que tener un trabajo con un mejor salario la haría feliz, pero no sucedi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9cb0"/>
            </a:gs>
            <a:gs pos="50000">
              <a:srgbClr val="414751"/>
            </a:gs>
            <a:gs pos="100000">
              <a:srgbClr val="8e9c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3933720"/>
            <a:ext cx="77360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000000"/>
                </a:solidFill>
                <a:latin typeface="Papyrus"/>
              </a:rPr>
              <a:t>Pensó que casándose con un hombre guapo y adinerado sería feliz...</a:t>
            </a:r>
            <a:br>
              <a:rPr sz="3400"/>
            </a:br>
            <a:r>
              <a:rPr b="1" lang="es-PR" sz="3400" spc="-1" strike="noStrike">
                <a:solidFill>
                  <a:srgbClr val="000000"/>
                </a:solidFill>
                <a:latin typeface="Papyrus"/>
              </a:rPr>
              <a:t>Mas tuvo una casa y no un hogar, tuvo muchos bienes materiales, mas no felicidad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50000">
              <a:srgbClr val="000000"/>
            </a:gs>
            <a:gs pos="100000">
              <a:srgbClr val="3333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-3240"/>
            <a:ext cx="7559640" cy="686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4208400"/>
            <a:ext cx="87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ffffff"/>
                </a:solidFill>
                <a:latin typeface="Papyrus"/>
              </a:rPr>
              <a:t>¿Cuándo sentía felicidad? </a:t>
            </a:r>
            <a:br>
              <a:rPr sz="2400"/>
            </a:br>
            <a:r>
              <a:rPr b="1" lang="es-PR" sz="2400" spc="-1" strike="noStrike">
                <a:solidFill>
                  <a:srgbClr val="ffffff"/>
                </a:solidFill>
                <a:latin typeface="Papyrus"/>
              </a:rPr>
              <a:t>Jugando con sus hijos y dándoles amor; disfrutando con sus amigos; sirviendo a los más necesitados; disfrutando las bellezas de la naturaleza;  y sobre todo... </a:t>
            </a:r>
            <a:r>
              <a:rPr b="1" lang="es-PR" sz="3200" spc="-1" strike="noStrike">
                <a:solidFill>
                  <a:srgbClr val="ffff00"/>
                </a:solidFill>
                <a:latin typeface="Papyrus"/>
              </a:rPr>
              <a:t>¡era feliz cada vez que dedicaba un tiempo en el día para darle gracias a Dio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."/>
          <p:cNvPicPr/>
          <p:nvPr/>
        </p:nvPicPr>
        <p:blipFill>
          <a:blip r:embed="rId3"/>
          <a:stretch/>
        </p:blipFill>
        <p:spPr>
          <a:xfrm>
            <a:off x="5292720" y="765000"/>
            <a:ext cx="674640" cy="9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Papyrus"/>
              </a:rPr>
              <a:t>¡Ya lo sabes tú también! </a:t>
            </a:r>
            <a:br>
              <a:rPr sz="2400"/>
            </a:br>
            <a:r>
              <a:rPr b="1" lang="es-PR" sz="2400" spc="-1" strike="noStrike">
                <a:solidFill>
                  <a:srgbClr val="000000"/>
                </a:solidFill>
                <a:latin typeface="Papyrus"/>
              </a:rPr>
              <a:t>¡Ánimo!  ¡No puedes depender de otras personas para ser felíz! </a:t>
            </a:r>
            <a:br>
              <a:rPr sz="2400"/>
            </a:br>
            <a:r>
              <a:rPr b="1" lang="es-PR" sz="2400" spc="-1" strike="noStrike">
                <a:solidFill>
                  <a:srgbClr val="000000"/>
                </a:solidFill>
                <a:latin typeface="Papyrus"/>
              </a:rPr>
              <a:t>Solo DIOS con Su infinita sabiduría da la verdadera felic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 Imagen" descr="Jesús nueva 2.jpg"/>
          <p:cNvPicPr/>
          <p:nvPr/>
        </p:nvPicPr>
        <p:blipFill>
          <a:blip r:embed="rId2"/>
          <a:stretch/>
        </p:blipFill>
        <p:spPr>
          <a:xfrm>
            <a:off x="4011480" y="879480"/>
            <a:ext cx="5132520" cy="597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4723"/>
            </a:gs>
            <a:gs pos="100000">
              <a:srgbClr val="36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4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200160"/>
            <a:ext cx="8610480" cy="1557000"/>
          </a:xfrm>
          <a:prstGeom prst="rect">
            <a:avLst/>
          </a:prstGeom>
          <a:solidFill>
            <a:srgbClr val="8e9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ffffff"/>
                </a:solidFill>
                <a:latin typeface="Papyrus"/>
              </a:rPr>
              <a:t>¡Ten fe en DIOS!   ¡Abandónate en SUS amorosos brazos!</a:t>
            </a:r>
            <a:r>
              <a:rPr b="0" lang="es-PR" sz="2400" spc="-1" strike="noStrike">
                <a:solidFill>
                  <a:srgbClr val="ffffff"/>
                </a:solidFill>
                <a:latin typeface="Papyrus"/>
              </a:rPr>
              <a:t> </a:t>
            </a:r>
            <a:br>
              <a:rPr sz="2400"/>
            </a:br>
            <a:r>
              <a:rPr b="1" lang="es-PR" sz="2400" spc="-1" strike="noStrike">
                <a:solidFill>
                  <a:srgbClr val="ffffff"/>
                </a:solidFill>
                <a:latin typeface="Papyrus"/>
              </a:rPr>
              <a:t>¡Él llenará los vacíos de tu vida, pues sabe lo que es mejor para ti!</a:t>
            </a:r>
            <a:r>
              <a:rPr b="0" lang="es-PR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3b3a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626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4149720"/>
            <a:ext cx="84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Papyrus"/>
              </a:rPr>
              <a:t>Cuando sientas que los problemas te abruman, no te deprimas...</a:t>
            </a:r>
            <a:r>
              <a:rPr b="0" lang="es-PR" sz="4000" spc="-1" strike="noStrike">
                <a:solidFill>
                  <a:srgbClr val="000000"/>
                </a:solidFill>
                <a:latin typeface="Papyrus"/>
              </a:rPr>
              <a:t> </a:t>
            </a:r>
            <a:br>
              <a:rPr sz="4000"/>
            </a:br>
            <a:r>
              <a:rPr b="1" lang="es-PR" sz="4000" spc="-1" strike="noStrike">
                <a:solidFill>
                  <a:srgbClr val="000000"/>
                </a:solidFill>
                <a:latin typeface="Papyrus"/>
              </a:rPr>
              <a:t>¡Dios te ayudará a llevar la carga y te dará discernimiento para resolverlos!</a:t>
            </a:r>
            <a:r>
              <a:rPr b="0" lang="es-PR" sz="40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¡Yo te he dado a conocer el Secreto de mi felicidad! </a:t>
            </a:r>
            <a:br>
              <a:rPr sz="3600"/>
            </a:b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¿Qué vas a hacer con esta información?</a:t>
            </a:r>
            <a:r>
              <a:rPr b="1" lang="es-P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03280" y="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fffff"/>
                </a:solidFill>
                <a:latin typeface="Papyrus"/>
              </a:rPr>
              <a:t>¡Tienes que compartir este Secreto también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1190520"/>
            <a:ext cx="824400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859280" y="476280"/>
            <a:ext cx="4119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¡Dile a quienes conoces que Dios les ama y cuida de ellos! </a:t>
            </a:r>
            <a:br>
              <a:rPr sz="3600"/>
            </a:b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¡Que Él les tiene preparada una vida hermosa!</a:t>
            </a:r>
            <a:br>
              <a:rPr sz="3600"/>
            </a:b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¡Sólo hay que confiar en que es así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BLOGGER_PHOTO_ID_5120774057197040146" descr=""/>
          <p:cNvPicPr/>
          <p:nvPr/>
        </p:nvPicPr>
        <p:blipFill>
          <a:blip r:embed="rId1"/>
          <a:stretch/>
        </p:blipFill>
        <p:spPr>
          <a:xfrm>
            <a:off x="3240" y="0"/>
            <a:ext cx="4943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152280"/>
            <a:ext cx="3048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¡No basta creer en Dios!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¡Debemos CREERLE A DIO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836640"/>
            <a:ext cx="441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000000"/>
                </a:solidFill>
                <a:latin typeface="Papyrus"/>
              </a:rPr>
              <a:t>¡Que Dios Todopoderoso te bendiga e ilumine el sendero de tu vid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295200" cy="30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260280"/>
            <a:ext cx="4032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Un día, una amiga le preguntó a otra…  </a:t>
            </a:r>
            <a:br>
              <a:rPr sz="3600"/>
            </a:b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'¿Cómo es que siempre estás tan felíz? </a:t>
            </a:r>
            <a:br>
              <a:rPr sz="3600"/>
            </a:b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¡Siempre tienes tanta energía, </a:t>
            </a:r>
            <a:br>
              <a:rPr sz="3600"/>
            </a:b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y pareciera que nunca estás triste ni tienes problemas!'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315200" cy="6783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609480"/>
            <a:ext cx="7086600" cy="5342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El Señor es mi pastor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nada me puede falta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Él me hace descansar en verdes pradera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me conduce a las aguas tranquil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y repara mis fuerza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me guía por el recto sendero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por amor de su Nomb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Aunque cruce por oscuras quebrada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no temeré ningún mal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porque tú estás conmigo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tu vara y tu bastón me infunden confianz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Tú preparas ante mí una mesa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frente a mis enemigo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unges con óleo mi cabez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y mi copa rebos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Tu bondad y tu gracia me acompañ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a lo largo de mi vid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y habitaré en la Casa del Señor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por muy largo tiempo.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Papyrus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Salmo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4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404640"/>
            <a:ext cx="4572000" cy="2226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Con una gran sonrisa en los labios, respondió: </a:t>
            </a:r>
            <a:br>
              <a:rPr sz="2800"/>
            </a:b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' ¡Yo conozco un Secreto!' </a:t>
            </a:r>
            <a:br>
              <a:rPr sz="2800"/>
            </a:b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'¿Qué secreto es ese?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3500280"/>
            <a:ext cx="609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La amiga respondió: </a:t>
            </a:r>
            <a:br>
              <a:rPr sz="2800"/>
            </a:b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'Voy a contarte,  pero debes prometerme que vas a compartir el Secreto con otras personas.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549360"/>
            <a:ext cx="807732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5400" spc="-1" strike="noStrike">
                <a:solidFill>
                  <a:srgbClr val="000000"/>
                </a:solidFill>
                <a:latin typeface="Papyrus"/>
              </a:rPr>
              <a:t>'Este es el Secreto: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cc"/>
                </a:solidFill>
                <a:latin typeface="Papyrus"/>
              </a:rPr>
              <a:t>He aprendido que es muy poco lo que puedo hacer por mi misma que me haga realmente felíz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5400" spc="-1" strike="noStrike">
                <a:solidFill>
                  <a:srgbClr val="000000"/>
                </a:solidFill>
                <a:latin typeface="Papyrus"/>
              </a:rPr>
              <a:t>Dependo de Dios para absolutamente to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328464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00"/>
                </a:solidFill>
                <a:latin typeface="Papyrus"/>
              </a:rPr>
              <a:t>Él me hace felíz y satisface mis necesidades. </a:t>
            </a:r>
            <a:br>
              <a:rPr sz="3600"/>
            </a:br>
            <a:r>
              <a:rPr b="1" lang="es-PR" sz="3600" spc="-1" strike="noStrike">
                <a:solidFill>
                  <a:srgbClr val="ffff00"/>
                </a:solidFill>
                <a:latin typeface="Papyrus"/>
              </a:rPr>
              <a:t>Cuando surge una situación difícil en mi vida, confío en que Dios va a satisfacerla de acuerdo a SUS designio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48769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He aprendido que la mayor parte de las veces no requiero siquiera la mitad de lo que creo necesit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cielo uno crece 7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6" name="3 Imagen" descr="Jesús nueva 2.jpg"/>
          <p:cNvPicPr/>
          <p:nvPr/>
        </p:nvPicPr>
        <p:blipFill>
          <a:blip r:embed="rId2"/>
          <a:stretch/>
        </p:blipFill>
        <p:spPr>
          <a:xfrm>
            <a:off x="2050920" y="476280"/>
            <a:ext cx="5132520" cy="597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1413000"/>
            <a:ext cx="8153640" cy="3934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600" spc="-1" strike="noStrike">
                <a:solidFill>
                  <a:srgbClr val="000000"/>
                </a:solidFill>
                <a:latin typeface="Papyrus"/>
              </a:rPr>
              <a:t>¡</a:t>
            </a: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Él nunca me ha defraudado y tiene un plan perfecto para mí! </a:t>
            </a:r>
            <a:br>
              <a:rPr sz="3600"/>
            </a:b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¡Le entregué mi vida por completo a Él, se la puse en sus amorosas manos! </a:t>
            </a:r>
            <a:br>
              <a:rPr sz="3600"/>
            </a:b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¡Desde que aprendí ese 'Secreto', he sido sumamente felíz!'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480060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Lo primero que pensó la amiga que preguntaba fue: </a:t>
            </a:r>
            <a:br>
              <a:rPr sz="3600"/>
            </a:b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'¡Eso es demasiado sencillo!'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609480"/>
            <a:ext cx="7467480" cy="28371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Pero al reflexionar respecto a su propia vida, recordó cuando pensaba que tener una casa más grande iba a hacerla felíz... ¡pero no fue así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9:10:03Z</dcterms:created>
  <dc:creator>Martha Luz Velasquez</dc:creator>
  <dc:description>imagenes, texto y musica obtenidos en internet</dc:description>
  <dc:language>en-US</dc:language>
  <cp:lastModifiedBy>Martha Luz Velasquez</cp:lastModifiedBy>
  <dcterms:modified xsi:type="dcterms:W3CDTF">2008-12-03T00:51:05Z</dcterms:modified>
  <cp:revision>7</cp:revision>
  <dc:subject/>
  <dc:title>Diapositiva 1</dc:title>
</cp:coreProperties>
</file>