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Ria1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8B5-6B59-445F-AEF9-68CFBF4B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542-C5FC-4E1A-A3C2-01416BD7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9D6-E5EB-4741-BED2-F511D657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65D-B4EA-46A6-82B5-E83A3682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2FC-3D14-4A55-93E5-0747A9FA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9D7-ADCF-44A1-A4D9-5BAC3708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D6D-A0DF-4DA3-89D4-6E040B1C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B58-42B4-4803-9CA2-C1C25251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4DE-913E-4DC0-8071-062B91CF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DAB-F19F-406A-BA1C-F4EF4640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42D-E79D-483B-A416-32290B62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DD7-6C97-4CEC-B162-CB7D32FF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D7C9-A90F-4F0F-90EE-DEBF922542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Ria1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195640" y="16668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Kristen ITC"/>
              </a:rPr>
              <a:t>Disfruta tu Caf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08 Pista 8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2157480" y="85896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ff"/>
                </a:solidFill>
                <a:latin typeface="Freestyle Script"/>
              </a:rPr>
              <a:t>P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randomBar dir="vert"/>
    <p:sndAc>
      <p:stSnd>
        <p:snd r:embed="rId3" name="Ria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6732720" y="4437000"/>
            <a:ext cx="223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Lo que ustedes querían era el café, no la taza, pero instintivamente buscaron las mej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679840" y="3376440"/>
            <a:ext cx="362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Kristen ITC"/>
              </a:rPr>
              <a:t>Después se pusieron a mirar las tazas de los demá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66480" y="4726080"/>
            <a:ext cx="274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ritannic Bold"/>
              </a:rPr>
              <a:t>Ahora piensen en es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2400" spc="-1" strike="noStrike" u="sng">
                <a:solidFill>
                  <a:srgbClr val="000000"/>
                </a:solidFill>
                <a:uFillTx/>
                <a:latin typeface="Britannic Bold"/>
              </a:rPr>
              <a:t>La vida es el caf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31840" y="3448080"/>
            <a:ext cx="2900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Los trabajos, el dinero, la posición social, etc. son meras tazas, que le dan forma y soporte a la vida y el tipo de taza que tengamos no define ni cambia realmente la calidad de vida que llev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156360" y="3357720"/>
            <a:ext cx="26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menudo, por concentrarnos sólo en la taza dejamos de disfrutar el 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663480" y="3736800"/>
            <a:ext cx="37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Kristen ITC"/>
              </a:rPr>
              <a:t>¡Disfruten su café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39640" y="4508640"/>
            <a:ext cx="326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La gente más feliz no es la que tiene lo mejor de todo sino la que hace lo mejor con lo que tiene; así pues, recuérden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464280" y="6035760"/>
            <a:ext cx="300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ff"/>
                </a:solidFill>
                <a:latin typeface="Freestyle Script"/>
              </a:rPr>
              <a:t>Expresa</a:t>
            </a:r>
            <a:r>
              <a:rPr b="1" lang="es-ES" sz="1800" spc="-1" strike="noStrike">
                <a:solidFill>
                  <a:srgbClr val="ff00ff"/>
                </a:solidFill>
                <a:latin typeface="Freestyle Script"/>
              </a:rPr>
              <a:t> </a:t>
            </a:r>
            <a:r>
              <a:rPr b="1" lang="es-ES" sz="2400" spc="-1" strike="noStrike">
                <a:solidFill>
                  <a:srgbClr val="ff00ff"/>
                </a:solidFill>
                <a:latin typeface="Freestyle Script"/>
              </a:rPr>
              <a:t>amo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ff"/>
                </a:solidFill>
                <a:latin typeface="Freestyle Script"/>
              </a:rPr>
              <a:t>Tus seres que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30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3851280" y="2637000"/>
            <a:ext cx="4413240" cy="825480"/>
          </a:xfrm>
          <a:prstGeom prst="rect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cc00"/>
                </a:solidFill>
                <a:uFillTx/>
                <a:latin typeface="Kristen ITC"/>
              </a:rPr>
              <a:t>* Disfruten cada instante de su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203640" y="3573360"/>
            <a:ext cx="5472000" cy="825480"/>
          </a:xfrm>
          <a:prstGeom prst="rect">
            <a:avLst/>
          </a:prstGeom>
          <a:solidFill>
            <a:srgbClr val="ffcc00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cc00"/>
                </a:solidFill>
                <a:uFillTx/>
                <a:latin typeface="Kristen ITC"/>
              </a:rPr>
              <a:t>* No se mortifiquen por lo que no tienen o no pueden camb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179720" y="2276640"/>
            <a:ext cx="6078600" cy="124164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Kristen ITC"/>
              </a:rPr>
              <a:t>Tengan p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Kristen ITC"/>
              </a:rPr>
              <a:t>Inviertan en sus riquezas espíri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692360" y="620640"/>
            <a:ext cx="5616360" cy="825480"/>
          </a:xfrm>
          <a:prstGeom prst="rect">
            <a:avLst/>
          </a:prstGeom>
          <a:solidFill>
            <a:srgbClr val="99cc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* Hagan de su vida una fiesta cada 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908000" y="1844640"/>
            <a:ext cx="5853240" cy="1557000"/>
          </a:xfrm>
          <a:prstGeom prst="rect">
            <a:avLst/>
          </a:prstGeom>
          <a:solidFill>
            <a:srgbClr val="99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*</a:t>
            </a:r>
            <a:r>
              <a:rPr b="0" lang="es-E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Kristen ITC"/>
              </a:rPr>
              <a:t>Visualicen 10 minutos cada día lo bueno que quieren ver en su vid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2700360" y="4437000"/>
            <a:ext cx="46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Un grupo de profesionales, todos triunfadores en sus respectivas carreras, se juntó para visitar a su antiguo profesor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nto la charla devino en quejas acerca del interminable 'stress' que les producía el trabajo y la vida en gener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73600" y="186696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Freestyle Script"/>
              </a:rPr>
              <a:t>Aleg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979920" y="3429000"/>
            <a:ext cx="394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6600"/>
                </a:solidFill>
                <a:uFillTx/>
                <a:latin typeface="Kristen ITC"/>
              </a:rPr>
              <a:t>El resto déjenselo a Dios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10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5" dur="10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6" dur="10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me_aging_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50920" y="1890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..y recuerden que: la persona más rica no es la que tiene más sino la que necesita menos ...DISFRUTA TU CAF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10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3" dur="10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4" dur="10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755640" y="620640"/>
            <a:ext cx="7488360" cy="19224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Narrow"/>
              </a:rPr>
              <a:t>Gracias a todos mis amigos por brindarme su respeto, amistad y cariñ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-2284200" y="4076640"/>
            <a:ext cx="138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Freestyle Script"/>
              </a:rPr>
              <a:t>F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Freestyle Script"/>
              </a:rPr>
              <a:t>Que Dios los bendiga y disfruten su caf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79280" y="4019400"/>
            <a:ext cx="305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fesor les ofreció café, fue a la cocina y pronto regresó con una cafetera grande y una selección de tazas de lo más ecléctica: de porcelana, plástico, vidrio, cristal -unas sencillas y baratas, otras decoradas, unas caras, otras realmente exquisita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764760" y="48182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66ff"/>
                </a:solidFill>
                <a:latin typeface="Freestyle Script"/>
              </a:rPr>
              <a:t>Volunt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79280" y="5734080"/>
            <a:ext cx="54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quilamente les dijo que escogieran una taza y se sirvieran un poco del café recién prepar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786400" y="359424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Freestyle Script"/>
              </a:rPr>
              <a:t>Fu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00000" y="404640"/>
            <a:ext cx="3116520" cy="1465560"/>
          </a:xfrm>
          <a:prstGeom prst="rect">
            <a:avLst/>
          </a:prstGeom>
          <a:solidFill>
            <a:srgbClr val="8080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ando lo hubieron hecho, el viejo maestro se aclaró la garganta y con mucha calma y paciencia se dirigió al grup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167640" y="3809880"/>
            <a:ext cx="26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Freestyle Script"/>
              </a:rPr>
              <a:t>Escalar paso a p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867480" y="342900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Freestyle Script"/>
              </a:rPr>
              <a:t>Uno a la v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79280" y="189000"/>
            <a:ext cx="43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'Se habrán dado cuenta de que todas las tazas que lucían bonitas se terminaron primero y quedaron pocas de las más sencillas y baratas; lo que es natural, ya que cada quien prefiere lo mejor para sí m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736240" y="2154240"/>
            <a:ext cx="263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Freestyle Script"/>
              </a:rPr>
              <a:t>Ama con honest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9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95840" y="5753160"/>
            <a:ext cx="397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Ésa es realmente la causa de muchos de sus problemas relativos al 'stres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077440" y="353880"/>
            <a:ext cx="51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cc"/>
                </a:solidFill>
                <a:latin typeface="Freestyle Script"/>
              </a:rPr>
              <a:t>Define lo que quieres de tu vida y act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24000" y="3538440"/>
            <a:ext cx="7488000" cy="1008720"/>
          </a:xfrm>
          <a:prstGeom prst="rect">
            <a:avLst/>
          </a:prstGeom>
          <a:solidFill>
            <a:srgbClr val="ffcc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Continuó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'Les aseguro que la taza no le añadió calidad al caf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684360" y="4653000"/>
            <a:ext cx="397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En verdad la taza solamente disfraza o reviste lo que bebem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428360" y="4697280"/>
            <a:ext cx="29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5050"/>
                </a:solidFill>
                <a:latin typeface="Freestyle Script"/>
              </a:rPr>
              <a:t>Danza con amor y aleg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0:12:43Z</dcterms:created>
  <dc:creator>ANGELA</dc:creator>
  <dc:description/>
  <dc:language>en-US</dc:language>
  <cp:lastModifiedBy>marcel</cp:lastModifiedBy>
  <dcterms:modified xsi:type="dcterms:W3CDTF">2008-12-30T10:15:43Z</dcterms:modified>
  <cp:revision>17</cp:revision>
  <dc:subject/>
  <dc:title>Diapositiva 1</dc:title>
</cp:coreProperties>
</file>