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Ria1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60C-8E1F-47C9-8933-A8C00F0C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008-FD51-4421-9916-FB4F6386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431-8FC0-4923-8377-8F128DB4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028-1E4E-4EC4-8CB7-A945B396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BF8-53BE-47FF-A9F8-93ADE3CC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D59-9EBF-491D-A2C5-35F8A529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258-7056-485D-A6DB-71F9475A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2EC-9F18-42EC-B9FB-05698BF7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C43-BB6C-4F10-ADAA-B785FB79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3F2-6EF1-4231-91A6-DA171CB9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062-BBB7-4C4B-887F-4927D05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ACE-1F14-4B17-B61D-C56897F5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A853-1922-467C-A7FE-886458CE9C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Ria1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195640" y="16668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Kristen ITC"/>
              </a:rPr>
              <a:t>Disfruta tu Caf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08 Pista 8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2157480" y="85896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ff"/>
                </a:solidFill>
                <a:latin typeface="Freestyle Script"/>
              </a:rPr>
              <a:t>P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randomBar dir="vert"/>
    <p:sndAc>
      <p:stSnd>
        <p:snd r:embed="rId3" name="Ria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6732720" y="4437000"/>
            <a:ext cx="22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Lo que ustedes querían era el café, no la taza, pero instintivamente buscaron las mej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679840" y="3376440"/>
            <a:ext cx="362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Kristen ITC"/>
              </a:rPr>
              <a:t>Después se pusieron a mirar las tazas de los demá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66480" y="4726080"/>
            <a:ext cx="274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ritannic Bold"/>
              </a:rPr>
              <a:t>Ahora piensen en e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2400" spc="-1" strike="noStrike" u="sng">
                <a:solidFill>
                  <a:srgbClr val="000000"/>
                </a:solidFill>
                <a:uFillTx/>
                <a:latin typeface="Britannic Bold"/>
              </a:rPr>
              <a:t>La vida es el caf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31840" y="3448080"/>
            <a:ext cx="290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Los trabajos, el dinero, la posición social, etc. son meras tazas, que le dan forma y soporte a la vida y el tipo de taza que tengamos no define ni cambia realmente la calidad de vida que llev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156360" y="3357720"/>
            <a:ext cx="26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enudo, por concentrarnos sólo en la taza dejamos de disfrutar el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63480" y="3736800"/>
            <a:ext cx="37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Kristen ITC"/>
              </a:rPr>
              <a:t>¡Disfruten su café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39640" y="4508640"/>
            <a:ext cx="326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La gente más feliz no es la que tiene lo mejor de todo sino la que hace lo mejor con lo que tiene; así pues, recuérden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464280" y="6035760"/>
            <a:ext cx="30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ff"/>
                </a:solidFill>
                <a:latin typeface="Freestyle Script"/>
              </a:rPr>
              <a:t>Expresa</a:t>
            </a:r>
            <a:r>
              <a:rPr b="1" lang="es-ES" sz="1800" spc="-1" strike="noStrike">
                <a:solidFill>
                  <a:srgbClr val="ff00ff"/>
                </a:solidFill>
                <a:latin typeface="Freestyle Script"/>
              </a:rPr>
              <a:t> </a:t>
            </a:r>
            <a:r>
              <a:rPr b="1" lang="es-ES" sz="2400" spc="-1" strike="noStrike">
                <a:solidFill>
                  <a:srgbClr val="ff00ff"/>
                </a:solidFill>
                <a:latin typeface="Freestyle Script"/>
              </a:rPr>
              <a:t>amo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ff"/>
                </a:solidFill>
                <a:latin typeface="Freestyle Script"/>
              </a:rPr>
              <a:t>Tus seres que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3851280" y="2637000"/>
            <a:ext cx="4413240" cy="825480"/>
          </a:xfrm>
          <a:prstGeom prst="rect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Kristen ITC"/>
              </a:rPr>
              <a:t>* Disfruten cada instante de su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203640" y="3573360"/>
            <a:ext cx="5472000" cy="825480"/>
          </a:xfrm>
          <a:prstGeom prst="rect">
            <a:avLst/>
          </a:prstGeom>
          <a:solidFill>
            <a:srgbClr val="ffcc00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Kristen ITC"/>
              </a:rPr>
              <a:t>* No se mortifiquen por lo que no tienen o no pueden camb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179720" y="2276640"/>
            <a:ext cx="6078600" cy="124164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Kristen ITC"/>
              </a:rPr>
              <a:t>Tengan 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Kristen ITC"/>
              </a:rPr>
              <a:t>Inviertan en sus riquezas espíri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692360" y="620640"/>
            <a:ext cx="5616360" cy="82548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* Hagan de su vida una fiesta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908000" y="1844640"/>
            <a:ext cx="5853240" cy="155700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Visualicen 10 minutos cada día lo bueno que quieren ver en su vid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700360" y="4437000"/>
            <a:ext cx="46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Un grupo de profesionales, todos triunfadores en sus respectivas carreras, se juntó para visitar a su antiguo profesor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to la charla devino en quejas acerca del interminable 'stress' que les producía el trabajo y la vida en gener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73600" y="186696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Freestyle Script"/>
              </a:rPr>
              <a:t>Aleg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79920" y="3429000"/>
            <a:ext cx="394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Kristen ITC"/>
              </a:rPr>
              <a:t>El resto déjenselo a Dios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" dur="10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10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me_aging_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89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..y recuerden que: la persona más rica no es la que tiene más sino la que necesita menos ...DISFRUTA TU CAF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10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3" dur="10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10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55640" y="620640"/>
            <a:ext cx="7488360" cy="19224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Gracias a todos mis amigos por brindarme su respeto, amistad y cariñ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-2284200" y="4076640"/>
            <a:ext cx="138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Freestyle Script"/>
              </a:rPr>
              <a:t>F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Freestyle Script"/>
              </a:rPr>
              <a:t>Que Dios los bendiga y disfruten su caf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79280" y="4019400"/>
            <a:ext cx="305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fesor les ofreció café, fue a la cocina y pronto regresó con una cafetera grande y una selección de tazas de lo más ecléctica: de porcelana, plástico, vidrio, cristal -unas sencillas y baratas, otras decoradas, unas caras, otras realmente exquisit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764760" y="48182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66ff"/>
                </a:solidFill>
                <a:latin typeface="Freestyle Script"/>
              </a:rPr>
              <a:t>Volun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79280" y="5734080"/>
            <a:ext cx="54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quilamente les dijo que escogieran una taza y se sirvieran un poco del café recién prepa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786400" y="35942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eestyle Script"/>
              </a:rPr>
              <a:t>Fu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00000" y="404640"/>
            <a:ext cx="3116520" cy="1465560"/>
          </a:xfrm>
          <a:prstGeom prst="rect">
            <a:avLst/>
          </a:prstGeom>
          <a:solidFill>
            <a:srgbClr val="808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lo hubieron hecho, el viejo maestro se aclaró la garganta y con mucha calma y paciencia se dirigió al gru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167640" y="3809880"/>
            <a:ext cx="26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Freestyle Script"/>
              </a:rPr>
              <a:t>Escalar paso a p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867480" y="342900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Freestyle Script"/>
              </a:rPr>
              <a:t>Uno a l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79280" y="189000"/>
            <a:ext cx="43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'Se habrán dado cuenta de que todas las tazas que lucían bonitas se terminaron primero y quedaron pocas de las más sencillas y baratas; lo que es natural, ya que cada quien prefiere lo mejor para sí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736240" y="2154240"/>
            <a:ext cx="26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eestyle Script"/>
              </a:rPr>
              <a:t>Ama con hones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9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95840" y="5753160"/>
            <a:ext cx="397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Ésa es realmente la causa de muchos de sus problemas relativos al 'stres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077440" y="353880"/>
            <a:ext cx="51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cc"/>
                </a:solidFill>
                <a:latin typeface="Freestyle Script"/>
              </a:rPr>
              <a:t>Define lo que quieres de tu vida y a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24000" y="3538440"/>
            <a:ext cx="7488000" cy="1008720"/>
          </a:xfrm>
          <a:prstGeom prst="rect">
            <a:avLst/>
          </a:prstGeom>
          <a:solidFill>
            <a:srgbClr val="ffcc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Continuó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'Les aseguro que la taza no le añadió calidad al caf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84360" y="4653000"/>
            <a:ext cx="397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n verdad la taza solamente disfraza o reviste lo que bebe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428360" y="4697280"/>
            <a:ext cx="29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5050"/>
                </a:solidFill>
                <a:latin typeface="Freestyle Script"/>
              </a:rPr>
              <a:t>Danza con amor y 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12:43Z</dcterms:created>
  <dc:creator>ANGELA</dc:creator>
  <dc:description/>
  <dc:language>en-US</dc:language>
  <cp:lastModifiedBy>marcel</cp:lastModifiedBy>
  <dcterms:modified xsi:type="dcterms:W3CDTF">2008-12-30T10:15:43Z</dcterms:modified>
  <cp:revision>17</cp:revision>
  <dc:subject/>
  <dc:title>Diapositiva 1</dc:title>
</cp:coreProperties>
</file>