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Ray%20Conniff%20-%20La%20Mer.wav" ContentType="audio/x-wav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03EE-A3BD-4050-8189-B9740AFB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721E-671D-4692-9718-18D89BE1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9718-732B-4692-A44E-E2D26B85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7320-48FF-4C59-82F3-8C874450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DB0F-7824-4D0A-AB6D-A2466A43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38FE-9AC1-483F-8345-B33C84B1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DF41-2E06-4CB0-ABBA-C29C2EE1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090-0C1D-48FE-A069-929A0911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42D5-A269-4E11-A677-B2C490DC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1B3D-C948-4D7D-B865-C6BD7EFC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762-4473-492E-8C98-6FDDD694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D9C2-1843-4DC8-811A-3A46E58D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42C6-D15E-4D71-9A77-64D3FD4D6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audio" Target="../media/Ray%20Conniff%20-%20La%20Mer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2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189000"/>
            <a:ext cx="7704000" cy="5761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42920" y="414972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236000" y="40766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BR" sz="4000" spc="-1" strike="noStrike">
                <a:solidFill>
                  <a:srgbClr val="ffffff"/>
                </a:solidFill>
                <a:latin typeface="Tahoma"/>
              </a:rPr>
              <a:t>El Baile de la V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51280" y="5229360"/>
            <a:ext cx="1254240" cy="482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68360" y="5943600"/>
            <a:ext cx="1214640" cy="914400"/>
          </a:xfrm>
          <a:prstGeom prst="parallelogram">
            <a:avLst>
              <a:gd name="adj" fmla="val 3320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580000" y="5943600"/>
            <a:ext cx="1152720" cy="914400"/>
          </a:xfrm>
          <a:prstGeom prst="parallelogram">
            <a:avLst>
              <a:gd name="adj" fmla="val 315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270828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</a:rPr>
              <a:t>Músic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rquesta de Ray Connif ( mayor éxito de los años 60, 70, 80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436572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NO CLIQU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360" y="2708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La 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17480" cy="1079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740720" y="189000"/>
            <a:ext cx="717480" cy="10792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Con todas las adversidades,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con las lágrimas derramadas,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aún así, la alegría de vivir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es el mayor regalo envuelto 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en papeles de brillantes moment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87280" y="333360"/>
            <a:ext cx="6697800" cy="55436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40360" y="5300640"/>
            <a:ext cx="1212840" cy="466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916360" y="573408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492360" y="527364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H="1">
            <a:off x="5219640" y="5734080"/>
            <a:ext cx="1152720" cy="914400"/>
          </a:xfrm>
          <a:prstGeom prst="parallelogram">
            <a:avLst>
              <a:gd name="adj" fmla="val 315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508720" y="530064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Recordar es vivir un poco más.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Vive tu vida pues es corta.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Valora y ámate a ti mismo 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pues nadie, excepto tú, te conoce.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Y no te olvides...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 Nadie se acordará de lo que hiciste bien,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pero...  todos se acordarán de tus error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427640" y="3284640"/>
            <a:ext cx="2520720" cy="1844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908000" y="3284640"/>
            <a:ext cx="252108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189000"/>
            <a:ext cx="7704000" cy="5761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87640" y="5943600"/>
            <a:ext cx="1214640" cy="914400"/>
          </a:xfrm>
          <a:prstGeom prst="parallelogram">
            <a:avLst>
              <a:gd name="adj" fmla="val 3320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076720" y="5943600"/>
            <a:ext cx="1152720" cy="914400"/>
          </a:xfrm>
          <a:prstGeom prst="parallelogram">
            <a:avLst>
              <a:gd name="adj" fmla="val 315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47640" y="2852640"/>
            <a:ext cx="1533600" cy="2376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59280" y="2852640"/>
            <a:ext cx="1558800" cy="2376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572000" y="2852640"/>
            <a:ext cx="1606680" cy="2376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156360" y="2852640"/>
            <a:ext cx="1531800" cy="2376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771640" y="1341360"/>
            <a:ext cx="3745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ditado por: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erônica Néry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24720" y="3645000"/>
            <a:ext cx="716040" cy="107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669960" cy="100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Los años pasan...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Los recuerdos son eternos,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La nostalgia permanente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y nuestros ojos en busca de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escenas de tiempos vivid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519280" y="3500280"/>
            <a:ext cx="4103640" cy="300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80000" y="5734080"/>
            <a:ext cx="1655640" cy="636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843280" y="5734080"/>
            <a:ext cx="620640" cy="620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724360" y="5661000"/>
            <a:ext cx="621000" cy="620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90756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Los años pasan... Vivimos lecciones de vida,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aprendemos a indagar en nuestros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recuerdos del corazón y a acariciar lindos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momentos que se fueron para no volver má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627280" y="2421000"/>
            <a:ext cx="4103640" cy="300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6920" y="4292640"/>
            <a:ext cx="790920" cy="1190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96360" y="4221000"/>
            <a:ext cx="790560" cy="1190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Los años pasan...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Crecemos en el alma,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pero siempre seremos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frágiles en el amor 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484360" y="3284640"/>
            <a:ext cx="4103640" cy="300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51280" y="5489640"/>
            <a:ext cx="1441440" cy="554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292720" y="5516640"/>
            <a:ext cx="547560" cy="547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276720" y="5516640"/>
            <a:ext cx="547560" cy="547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Los años...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muchos vendrán o quién sabe...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nuestra estancia en esta vida sea corta 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nada sabemos del mañana...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ni cuándo nos iremo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95640" y="5562720"/>
            <a:ext cx="1440000" cy="554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435640" y="5489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419640" y="5516640"/>
            <a:ext cx="547560" cy="5475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00360" y="1267920"/>
            <a:ext cx="4103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Los años continúan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desfilando en la pasarela del aprendizaje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y nosotros protagonistas de la vida, nos enfrentamos a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los momentos que nos hacen infelices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y nos deleitamos con los felic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39640" y="1484280"/>
            <a:ext cx="345600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4360" y="404640"/>
            <a:ext cx="7775280" cy="540072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2881440" cy="2462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00360" y="573408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364000" y="5734080"/>
            <a:ext cx="1224000" cy="914400"/>
          </a:xfrm>
          <a:prstGeom prst="parallelogram">
            <a:avLst>
              <a:gd name="adj" fmla="val 3346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95640" y="5229360"/>
            <a:ext cx="1327320" cy="509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64000" y="5157720"/>
            <a:ext cx="621000" cy="620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348000" y="5157720"/>
            <a:ext cx="620640" cy="620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Resumimos: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la vida es un gran baile donde las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almas se encuentran, se tropiezan,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se unen y se separa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4284720" y="2637000"/>
            <a:ext cx="3311640" cy="242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22440" cy="936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61200" y="404640"/>
            <a:ext cx="622440" cy="936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Cada cual bailando en los conflictos,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en las esperanzas y en la dulzura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de momentos de amor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851280" y="5562720"/>
            <a:ext cx="1440000" cy="554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484360" y="2205000"/>
            <a:ext cx="4103640" cy="300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51280" y="5229360"/>
            <a:ext cx="1254240" cy="482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48360" y="5157720"/>
            <a:ext cx="547560" cy="547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76720" y="5157720"/>
            <a:ext cx="547560" cy="547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De todos los años que se fueron,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concluyo que vivir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es ser cada cual, en su esencia adquir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22:32:01Z</dcterms:created>
  <dc:creator>zarga</dc:creator>
  <dc:description/>
  <dc:language>en-US</dc:language>
  <cp:lastModifiedBy>.</cp:lastModifiedBy>
  <dcterms:modified xsi:type="dcterms:W3CDTF">2007-10-16T04:50:05Z</dcterms:modified>
  <cp:revision>0</cp:revision>
  <dc:subject/>
  <dc:title>Baile de la Vida</dc:title>
</cp:coreProperties>
</file>