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51.gif" ContentType="image/gif"/>
  <Override PartName="/ppt/media/image22.jpeg" ContentType="image/jpeg"/>
  <Override PartName="/ppt/media/image1.jpeg" ContentType="image/jpeg"/>
  <Override PartName="/ppt/media/image35.jpeg" ContentType="image/jpeg"/>
  <Override PartName="/ppt/media/musica%20love%20story221.wav" ContentType="audio/x-wav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43.jpeg" ContentType="image/jpeg"/>
  <Override PartName="/ppt/media/image29.jpeg" ContentType="image/jpeg"/>
  <Override PartName="/ppt/media/image10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.jpeg" ContentType="image/jpeg"/>
  <Override PartName="/ppt/media/image48.jpeg" ContentType="image/jpeg"/>
  <Override PartName="/ppt/media/image32.jpeg" ContentType="image/jpeg"/>
  <Override PartName="/ppt/media/image26.jpeg" ContentType="image/jpeg"/>
  <Override PartName="/ppt/media/image49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5.jpeg" ContentType="image/jpeg"/>
  <Override PartName="/ppt/media/image50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61CB-A96C-4510-98BE-08BF3938D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C799-0367-425C-B944-FD3065AAA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4F8E-D0B9-4267-B1AB-0B75B0A02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BB1C-D12A-4F2A-9F3E-F99BDDE7A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929D-5E14-45EF-998C-231B8B13F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F95A-F650-4234-B449-1CA223021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A0D6-05A9-4D4E-A156-C862D61D7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0587-9C4C-404F-9EDF-DABE72054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ADD3-2F4B-4369-8879-9E6EA49F5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8B2B-0C4E-4F79-99B3-9C3080B60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B73B-5949-494C-BC7A-F8E44BE03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C911-401B-4D26-BA99-0CFD74005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D2675-9D5C-4F62-94EF-1F9F1E281B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musica%20love%20story221.wav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hyperlink" Target="mailto:aballus@xtec.cat" TargetMode="External"/><Relationship Id="rId2" Type="http://schemas.openxmlformats.org/officeDocument/2006/relationships/hyperlink" Target="mailto:aballus@xtec.cat" TargetMode="External"/><Relationship Id="rId3" Type="http://schemas.openxmlformats.org/officeDocument/2006/relationships/hyperlink" Target="mailto:aballus@xtec.cat" TargetMode="External"/><Relationship Id="rId4" Type="http://schemas.openxmlformats.org/officeDocument/2006/relationships/hyperlink" Target="http://www.xtec.cat/~aballus" TargetMode="External"/><Relationship Id="rId5" Type="http://schemas.openxmlformats.org/officeDocument/2006/relationships/image" Target="../media/image51.gif"/><Relationship Id="rId6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60040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ff9966"/>
                </a:solidFill>
                <a:latin typeface="Arial"/>
              </a:rPr>
              <a:t>Presentación automática con soni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270828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9900"/>
                </a:solidFill>
                <a:latin typeface="Times New Roman"/>
              </a:rPr>
              <a:t>La vuelta al Mun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3750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cc9900"/>
                </a:solidFill>
                <a:latin typeface="Times New Roman"/>
              </a:rPr>
              <a:t>en 80 dí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33750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cc9900"/>
                </a:solidFill>
                <a:latin typeface="Times New Roman"/>
              </a:rPr>
              <a:t>en 8 minut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7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2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50"/>
                            </p:stCondLst>
                            <p:childTnLst>
                              <p:par>
                                <p:cTn id="13" nodeType="afterEffect" fill="hold" presetClass="exit" presetID="9">
                                  <p:stCondLst>
                                    <p:cond delay="50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4" dur="1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1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900"/>
                            </p:stCondLst>
                            <p:childTnLst>
                              <p:par>
                                <p:cTn id="2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73280" y="574560"/>
            <a:ext cx="7592760" cy="570708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266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Duba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7000">
    <p:fade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3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592760" cy="570672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302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Pet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7000">
    <p:fade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3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3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3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770040" y="574560"/>
            <a:ext cx="7602480" cy="570708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5381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Palmi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7000">
    <p:fade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3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3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3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793800" y="593640"/>
            <a:ext cx="7554960" cy="566892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81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Islas Maldiv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7000">
    <p:fade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3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3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3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765000" y="584280"/>
            <a:ext cx="7612200" cy="56880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280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Agra, Ind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7000">
    <p:fade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3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3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3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779400" y="574560"/>
            <a:ext cx="7583400" cy="570708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06880" y="5157360"/>
            <a:ext cx="273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Pakistá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7000">
    <p:fade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3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773280" y="574560"/>
            <a:ext cx="7592760" cy="57070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215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Lahs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7000">
    <p:fade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3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3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3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70040" y="579600"/>
            <a:ext cx="7602480" cy="569736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99640" y="5381280"/>
            <a:ext cx="158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La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7000">
    <p:fade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3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3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3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773280" y="574560"/>
            <a:ext cx="7592760" cy="570708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84360" y="609120"/>
            <a:ext cx="2373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Chi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7000">
    <p:fade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3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280360" cy="604872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50920" y="269640"/>
            <a:ext cx="273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Thailand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7000">
    <p:fade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3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3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3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770040" y="579600"/>
            <a:ext cx="7602480" cy="56973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5381280"/>
            <a:ext cx="529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la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7000">
    <p:fade/>
    <p:sndAc>
      <p:stSnd>
        <p:snd r:embed="rId2" name="musica%20love%20story221.wav"/>
      </p:stSnd>
    </p:sndAc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3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773280" y="574560"/>
            <a:ext cx="7592760" cy="57070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537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Jap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7000">
    <p:fade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3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>
            <a:lum bright="-2000"/>
          </a:blip>
          <a:stretch/>
        </p:blipFill>
        <p:spPr>
          <a:xfrm>
            <a:off x="774720" y="584280"/>
            <a:ext cx="7593120" cy="568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Bal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7000">
    <p:fade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3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3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3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>
            <a:lum contrast="4000"/>
          </a:blip>
          <a:stretch/>
        </p:blipFill>
        <p:spPr>
          <a:xfrm>
            <a:off x="784080" y="579600"/>
            <a:ext cx="7574040" cy="569736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Myanm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7000">
    <p:fade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3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3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3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770040" y="574560"/>
            <a:ext cx="7602480" cy="570708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292360" y="5310000"/>
            <a:ext cx="3165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Islas Fidj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7000">
    <p:fade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3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784080" y="584280"/>
            <a:ext cx="7574040" cy="56880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Polines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7000">
    <p:fade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3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3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3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808200" y="598320"/>
            <a:ext cx="7526160" cy="565956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Sidn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7000">
    <p:fade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3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3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3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774720" y="579600"/>
            <a:ext cx="7593120" cy="569736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779640" y="5381280"/>
            <a:ext cx="467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Volcán Kilahuea, Hawa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7000">
    <p:fade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3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3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74720" y="579600"/>
            <a:ext cx="7593120" cy="56973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Bannf, Canad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7000">
    <p:fade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3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773280" y="574560"/>
            <a:ext cx="7584840" cy="570888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5381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San Francis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7000">
    <p:fade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3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774720" y="579600"/>
            <a:ext cx="7593120" cy="56973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84360" y="609120"/>
            <a:ext cx="2373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Arizo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7000">
    <p:fade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3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74720" y="579600"/>
            <a:ext cx="7593120" cy="56973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53812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otswa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7000">
    <p:fade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3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770040" y="579600"/>
            <a:ext cx="7602480" cy="569736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00360" y="630000"/>
            <a:ext cx="395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Chichen Itzá, Méx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7000">
    <p:fade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3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3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3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774720" y="584280"/>
            <a:ext cx="7593120" cy="56880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2085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Cub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7000">
    <p:fade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3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3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3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826920" y="2133720"/>
            <a:ext cx="2737080" cy="2447640"/>
          </a:xfrm>
          <a:prstGeom prst="rect">
            <a:avLst/>
          </a:prstGeom>
          <a:solidFill>
            <a:srgbClr val="ccffff">
              <a:alpha val="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773280" y="574560"/>
            <a:ext cx="7592760" cy="570708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Puerto R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7000">
    <p:fade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3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3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3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770040" y="574560"/>
            <a:ext cx="7602480" cy="570708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69640"/>
            <a:ext cx="403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Pittons, Santa Luc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7000">
    <p:fade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3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3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3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784080" y="584280"/>
            <a:ext cx="7574040" cy="56880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31640" y="5444640"/>
            <a:ext cx="38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Rio de Janei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7000">
    <p:fade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3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3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3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826920" y="665280"/>
            <a:ext cx="7488360" cy="55260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03280" y="609120"/>
            <a:ext cx="35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Machu Picch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7000">
    <p:fade/>
  </p:transition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0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3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773280" y="574560"/>
            <a:ext cx="7592760" cy="570708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404280"/>
            <a:ext cx="3886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Iguaz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7000">
    <p:fade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0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3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3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3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774720" y="584280"/>
            <a:ext cx="7593120" cy="568800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404280"/>
            <a:ext cx="395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Los An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7000">
    <p:fade/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0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3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3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3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774720" y="593640"/>
            <a:ext cx="7593120" cy="566892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2085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Antárti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7000">
    <p:fade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0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3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774720" y="579600"/>
            <a:ext cx="7593120" cy="569736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Island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7000">
    <p:fade/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0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5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784080" y="584280"/>
            <a:ext cx="7574040" cy="568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10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Lib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7000">
    <p:fad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3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3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3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773280" y="577800"/>
            <a:ext cx="7592760" cy="56977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537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Estocol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7000">
    <p:fade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0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3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3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3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770040" y="579600"/>
            <a:ext cx="7602480" cy="569736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04720" y="475920"/>
            <a:ext cx="323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Mosc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7000">
    <p:fade/>
  </p:transition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3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770040" y="574560"/>
            <a:ext cx="7602480" cy="570708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475920"/>
            <a:ext cx="3886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Prag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7000">
    <p:fade/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0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3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3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3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774720" y="579600"/>
            <a:ext cx="7593120" cy="569736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440" y="475920"/>
            <a:ext cx="3886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Estambu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7000">
    <p:fade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0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3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3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3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774720" y="574560"/>
            <a:ext cx="7593120" cy="570708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00360" y="609120"/>
            <a:ext cx="395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Mikon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7000">
    <p:fade/>
  </p:transition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0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3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3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3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773280" y="574560"/>
            <a:ext cx="7610400" cy="570888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00360" y="5013000"/>
            <a:ext cx="395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Vene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7000">
    <p:fade/>
  </p:transition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0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3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3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3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773280" y="574560"/>
            <a:ext cx="7603920" cy="571032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3886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Ro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7000">
    <p:fade/>
  </p:transition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0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3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3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3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Downtown waterfall"/>
          <p:cNvPicPr/>
          <p:nvPr/>
        </p:nvPicPr>
        <p:blipFill>
          <a:blip r:embed="rId1"/>
          <a:stretch/>
        </p:blipFill>
        <p:spPr>
          <a:xfrm>
            <a:off x="773280" y="574560"/>
            <a:ext cx="7592760" cy="570708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685440" y="609120"/>
            <a:ext cx="5398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Aust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7000">
    <p:fade/>
  </p:transition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0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3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3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3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773280" y="574560"/>
            <a:ext cx="7592760" cy="570708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00360" y="609120"/>
            <a:ext cx="395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Sui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7000">
    <p:fade/>
  </p:transition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0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3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3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73280" y="574560"/>
            <a:ext cx="7592760" cy="570708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440" y="414000"/>
            <a:ext cx="5110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Alsa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7000">
    <p:fade/>
  </p:transition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0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3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0" t="0" r="0" b="1262"/>
          <a:stretch/>
        </p:blipFill>
        <p:spPr>
          <a:xfrm>
            <a:off x="774720" y="574560"/>
            <a:ext cx="7593120" cy="57070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0920" y="5310000"/>
            <a:ext cx="223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Burund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7000">
    <p:fade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3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774720" y="574560"/>
            <a:ext cx="7593120" cy="570708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5373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Par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7000">
    <p:fade/>
  </p:transition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0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3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3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3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260280"/>
            <a:ext cx="755640" cy="622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388360" y="189000"/>
            <a:ext cx="755640" cy="6669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773280" y="574560"/>
            <a:ext cx="7592760" cy="57070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5381280"/>
            <a:ext cx="215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Andaluc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7000">
    <p:fade/>
  </p:transition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0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3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3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3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2565360"/>
            <a:ext cx="90676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6600ff"/>
                </a:solidFill>
                <a:latin typeface="Times New Roman"/>
              </a:rPr>
              <a:t>Recibido por correo, sin crédito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6600ff"/>
                </a:solidFill>
                <a:latin typeface="Times New Roman"/>
              </a:rPr>
              <a:t>Música: Love story - wa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6600ff"/>
                </a:solidFill>
                <a:latin typeface="Times New Roman"/>
              </a:rPr>
              <a:t>Sin propósitos comerci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6600ff"/>
                </a:solidFill>
                <a:latin typeface="Times New Roman"/>
              </a:rPr>
              <a:t>Sugerencias: </a:t>
            </a:r>
            <a:r>
              <a:rPr b="0" lang="ca-ES" sz="1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aballus</a:t>
            </a:r>
            <a:r>
              <a:rPr b="0" lang="ca-ES" sz="12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@</a:t>
            </a:r>
            <a:r>
              <a:rPr b="0" lang="ca-ES" sz="1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xtec.cat</a:t>
            </a:r>
            <a:r>
              <a:rPr b="0" lang="ca-ES" sz="1200" spc="-1" strike="noStrike">
                <a:solidFill>
                  <a:srgbClr val="6600ff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6600ff"/>
                </a:solidFill>
                <a:latin typeface="Times New Roman"/>
              </a:rPr>
              <a:t>Visitar: </a:t>
            </a:r>
            <a:r>
              <a:rPr b="0" lang="ca-ES" sz="1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www.xtec.cat/~aball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4e00c0"/>
                </a:solidFill>
                <a:latin typeface="Times New Roman"/>
              </a:rPr>
              <a:t>Fotos complementarias y traducción al español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4e00c0"/>
                </a:solidFill>
                <a:latin typeface="Times New Roman"/>
              </a:rPr>
              <a:t>Carlos Rangel, julio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5"/>
          <a:stretch/>
        </p:blipFill>
        <p:spPr>
          <a:xfrm>
            <a:off x="5105520" y="4005360"/>
            <a:ext cx="761760" cy="5079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1808280" y="407664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cc9900"/>
                </a:solidFill>
                <a:latin typeface="Tahoma"/>
              </a:rPr>
              <a:t>Catalonia PPT’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7000">
    <p:dissolve/>
  </p:transition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0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1500"/>
                            </p:stCondLst>
                            <p:childTnLst>
                              <p:par>
                                <p:cTn id="48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2500"/>
                            </p:stCondLst>
                            <p:childTnLst>
                              <p:par>
                                <p:cTn id="491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4876920" y="4267080"/>
            <a:ext cx="396216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000" spc="-1" strike="noStrike">
                <a:solidFill>
                  <a:srgbClr val="ff9966"/>
                </a:solidFill>
                <a:latin typeface="Wingdings"/>
                <a:ea typeface="Wingdings"/>
              </a:rPr>
              <a:t></a:t>
            </a:r>
            <a:r>
              <a:rPr b="0" lang="ca-ES" sz="1800" spc="-1" strike="noStrike">
                <a:solidFill>
                  <a:srgbClr val="ff9966"/>
                </a:solidFill>
                <a:latin typeface="Arial"/>
              </a:rPr>
              <a:t>     </a:t>
            </a:r>
            <a:r>
              <a:rPr b="0" lang="ca-ES" sz="1800" spc="-1" strike="noStrike">
                <a:solidFill>
                  <a:srgbClr val="ff9966"/>
                </a:solidFill>
                <a:latin typeface="Arial"/>
              </a:rPr>
              <a:t>	</a:t>
            </a:r>
            <a:r>
              <a:rPr b="0" lang="ca-ES" sz="1600" spc="-1" strike="noStrike">
                <a:solidFill>
                  <a:srgbClr val="ff9966"/>
                </a:solidFill>
                <a:latin typeface="Arial"/>
              </a:rPr>
              <a:t>Pera volver a empez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000" spc="-1" strike="noStrike">
                <a:solidFill>
                  <a:srgbClr val="cc9900"/>
                </a:solidFill>
                <a:latin typeface="Webdings"/>
                <a:ea typeface="Webdings"/>
              </a:rPr>
              <a:t></a:t>
            </a:r>
            <a:r>
              <a:rPr b="0" lang="ca-ES" sz="1600" spc="-1" strike="noStrike">
                <a:solidFill>
                  <a:srgbClr val="cc9900"/>
                </a:solidFill>
                <a:latin typeface="Arial"/>
              </a:rPr>
              <a:t>   </a:t>
            </a:r>
            <a:r>
              <a:rPr b="0" lang="ca-ES" sz="1600" spc="-1" strike="noStrike">
                <a:solidFill>
                  <a:srgbClr val="cc9900"/>
                </a:solidFill>
                <a:latin typeface="Arial"/>
              </a:rPr>
              <a:t>	</a:t>
            </a:r>
            <a:r>
              <a:rPr b="0" lang="ca-ES" sz="1600" spc="-1" strike="noStrike">
                <a:solidFill>
                  <a:srgbClr val="cc9900"/>
                </a:solidFill>
                <a:latin typeface="Arial"/>
              </a:rPr>
              <a:t>Per seguir escuchan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ff3300"/>
                </a:solidFill>
                <a:latin typeface="Arial"/>
              </a:rPr>
              <a:t>ESC</a:t>
            </a:r>
            <a:r>
              <a:rPr b="0" lang="ca-ES" sz="1800" spc="-1" strike="noStrike">
                <a:solidFill>
                  <a:srgbClr val="ff3300"/>
                </a:solidFill>
                <a:latin typeface="Arial"/>
              </a:rPr>
              <a:t>      </a:t>
            </a:r>
            <a:r>
              <a:rPr b="0" lang="ca-ES" sz="1600" spc="-1" strike="noStrike">
                <a:solidFill>
                  <a:srgbClr val="ff3300"/>
                </a:solidFill>
                <a:latin typeface="Arial"/>
              </a:rPr>
              <a:t>Para salir</a:t>
            </a:r>
            <a:r>
              <a:rPr b="0" lang="ca-E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9000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84080" y="574560"/>
            <a:ext cx="7574040" cy="570708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333000"/>
            <a:ext cx="294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Túne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7000">
    <p:fad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3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70040" y="574560"/>
            <a:ext cx="7602480" cy="570708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55280" y="5310000"/>
            <a:ext cx="287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Zimbaw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7000">
    <p:fade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3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770040" y="579600"/>
            <a:ext cx="7602480" cy="56973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74880" y="414000"/>
            <a:ext cx="237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Yem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7000">
    <p:fade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3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784080" y="584280"/>
            <a:ext cx="7574040" cy="568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5310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Jerusalé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7000">
    <p:fade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3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7T11:16:52Z</dcterms:created>
  <dc:creator>Anònim - sense cap referència</dc:creator>
  <dc:description/>
  <dc:language>en-US</dc:language>
  <cp:lastModifiedBy>Usuario Preinstalado</cp:lastModifiedBy>
  <dcterms:modified xsi:type="dcterms:W3CDTF">2007-07-15T20:39:33Z</dcterms:modified>
  <cp:revision>31</cp:revision>
  <dc:subject/>
  <dc:title>Sin título de diapositiva</dc:title>
</cp:coreProperties>
</file>