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51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musica%20love%20story221.wav" ContentType="audio/x-wav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7CE-F456-474C-92FE-76878579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4FF-6CDD-4434-AE24-80BDFE4C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22A-D254-409D-9A23-E30CB8B1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B3E-43AD-4520-86E1-F80E2AB3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467-BEFF-40E4-9E2E-04A5871C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29D-3BE7-4BDC-900C-4D1D9BEB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2D8-A4C5-49E3-8975-C46F30AE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99D-C3F4-48E3-8EB2-566F6685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CA1-5B19-42DC-A1EB-2A415981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B7A-1EC7-49DC-81EF-9976C902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2A0-4F6B-48D2-A188-4D5605EA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CB5-D636-4976-8219-A11015D2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47B9-B158-4693-B413-1B83D46E0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usica%20love%20story221.wav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mailto:aballus@xtec.cat" TargetMode="External"/><Relationship Id="rId2" Type="http://schemas.openxmlformats.org/officeDocument/2006/relationships/hyperlink" Target="mailto:aballus@xtec.cat" TargetMode="External"/><Relationship Id="rId3" Type="http://schemas.openxmlformats.org/officeDocument/2006/relationships/hyperlink" Target="mailto:aballus@xtec.cat" TargetMode="External"/><Relationship Id="rId4" Type="http://schemas.openxmlformats.org/officeDocument/2006/relationships/hyperlink" Target="http://www.xtec.cat/~aballus" TargetMode="External"/><Relationship Id="rId5" Type="http://schemas.openxmlformats.org/officeDocument/2006/relationships/image" Target="../media/image51.gif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04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9966"/>
                </a:solidFill>
                <a:latin typeface="Arial"/>
              </a:rPr>
              <a:t>Presentación automática con son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708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9900"/>
                </a:solidFill>
                <a:latin typeface="Times New Roman"/>
              </a:rPr>
              <a:t>La vuelta al Mu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7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9900"/>
                </a:solidFill>
                <a:latin typeface="Times New Roman"/>
              </a:rPr>
              <a:t>en 80 dí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7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9900"/>
                </a:solidFill>
                <a:latin typeface="Times New Roman"/>
              </a:rPr>
              <a:t>en 8 minu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50"/>
                            </p:stCondLst>
                            <p:childTnLst>
                              <p:par>
                                <p:cTn id="13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" dur="1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9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592760" cy="5707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66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ub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592760" cy="5706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02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70040" y="574560"/>
            <a:ext cx="7602480" cy="5707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8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alm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93800" y="593640"/>
            <a:ext cx="7554960" cy="5668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8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slas Maldiv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5000" y="584280"/>
            <a:ext cx="7612200" cy="568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0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gra, I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79400" y="574560"/>
            <a:ext cx="7583400" cy="5707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6880" y="5157360"/>
            <a:ext cx="273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akist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73280" y="574560"/>
            <a:ext cx="7592760" cy="570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1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h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70040" y="579600"/>
            <a:ext cx="7602480" cy="56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99640" y="5381280"/>
            <a:ext cx="158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592760" cy="5707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84360" y="60912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6048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26964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haila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70040" y="579600"/>
            <a:ext cx="7602480" cy="569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5381280"/>
            <a:ext cx="52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l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  <p:sndAc>
      <p:stSnd>
        <p:snd r:embed="rId2" name="musica%20love%20story221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73280" y="574560"/>
            <a:ext cx="7592760" cy="570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7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Jap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774720" y="584280"/>
            <a:ext cx="7593120" cy="568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784080" y="579600"/>
            <a:ext cx="7574040" cy="5697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yan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70040" y="574560"/>
            <a:ext cx="7602480" cy="5707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92360" y="531000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slas Fid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84080" y="584280"/>
            <a:ext cx="7574040" cy="568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line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08200" y="598320"/>
            <a:ext cx="7526160" cy="5659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d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74720" y="579600"/>
            <a:ext cx="7593120" cy="5697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79640" y="538128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olcán Kilahuea,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4720" y="579600"/>
            <a:ext cx="7593120" cy="5697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Bannf, Canad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584840" cy="57088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8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an Franc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74720" y="579600"/>
            <a:ext cx="7593120" cy="5697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84360" y="60912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iz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74720" y="579600"/>
            <a:ext cx="7593120" cy="5697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381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sw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70040" y="579600"/>
            <a:ext cx="7602480" cy="5697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0360" y="63000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hichen Itzá, Méx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74720" y="584280"/>
            <a:ext cx="7593120" cy="568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208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26920" y="2133720"/>
            <a:ext cx="2737080" cy="2447640"/>
          </a:xfrm>
          <a:prstGeom prst="rect">
            <a:avLst/>
          </a:prstGeom>
          <a:solidFill>
            <a:srgbClr val="ccffff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59276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erto 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70040" y="574560"/>
            <a:ext cx="7602480" cy="5707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ittons, Santa Luc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84080" y="584280"/>
            <a:ext cx="7574040" cy="568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544464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io de Jan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665280"/>
            <a:ext cx="7488360" cy="5526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3280" y="609120"/>
            <a:ext cx="35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chu Picch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592760" cy="5707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guaz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74720" y="584280"/>
            <a:ext cx="7593120" cy="568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s An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74720" y="593640"/>
            <a:ext cx="7593120" cy="5668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208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ntárt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74720" y="579600"/>
            <a:ext cx="7593120" cy="5697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sla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84080" y="584280"/>
            <a:ext cx="7574040" cy="568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1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i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3280" y="577800"/>
            <a:ext cx="7592760" cy="5697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7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tocol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70040" y="579600"/>
            <a:ext cx="7602480" cy="5697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4720" y="475920"/>
            <a:ext cx="323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osc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70040" y="574560"/>
            <a:ext cx="7602480" cy="5707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Pra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74720" y="579600"/>
            <a:ext cx="7593120" cy="5697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tambu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74720" y="574560"/>
            <a:ext cx="7593120" cy="5707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00360" y="60912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ik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610400" cy="5708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00360" y="501300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ene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603920" cy="57103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Downtown waterfall"/>
          <p:cNvPicPr/>
          <p:nvPr/>
        </p:nvPicPr>
        <p:blipFill>
          <a:blip r:embed="rId1"/>
          <a:stretch/>
        </p:blipFill>
        <p:spPr>
          <a:xfrm>
            <a:off x="773280" y="574560"/>
            <a:ext cx="7592760" cy="57070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592760" cy="5707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00360" y="60912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592760" cy="5707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414000"/>
            <a:ext cx="511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ls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262"/>
          <a:stretch/>
        </p:blipFill>
        <p:spPr>
          <a:xfrm>
            <a:off x="774720" y="574560"/>
            <a:ext cx="7593120" cy="5707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920" y="5310000"/>
            <a:ext cx="223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urun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74720" y="574560"/>
            <a:ext cx="7593120" cy="57070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a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60280"/>
            <a:ext cx="755640" cy="622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8360" y="189000"/>
            <a:ext cx="755640" cy="666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73280" y="574560"/>
            <a:ext cx="7592760" cy="5707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5381280"/>
            <a:ext cx="215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ndaluc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565360"/>
            <a:ext cx="9067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6600ff"/>
                </a:solidFill>
                <a:latin typeface="Times New Roman"/>
              </a:rPr>
              <a:t>Recibido por correo, sin crédit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6600ff"/>
                </a:solidFill>
                <a:latin typeface="Times New Roman"/>
              </a:rPr>
              <a:t>Música: Love story - wa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6600ff"/>
                </a:solidFill>
                <a:latin typeface="Times New Roman"/>
              </a:rPr>
              <a:t>Sin propósitos comer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6600ff"/>
                </a:solidFill>
                <a:latin typeface="Times New Roman"/>
              </a:rPr>
              <a:t>Sugerencias: </a:t>
            </a:r>
            <a:r>
              <a:rPr b="0" lang="ca-E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ballus</a:t>
            </a:r>
            <a:r>
              <a:rPr b="0" lang="ca-E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ca-ES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xtec.cat</a:t>
            </a:r>
            <a:r>
              <a:rPr b="0" lang="ca-ES" sz="1200" spc="-1" strike="noStrike">
                <a:solidFill>
                  <a:srgbClr val="6600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6600ff"/>
                </a:solidFill>
                <a:latin typeface="Times New Roman"/>
              </a:rPr>
              <a:t>Visitar: </a:t>
            </a:r>
            <a:r>
              <a:rPr b="0" lang="ca-ES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xtec.cat/~abal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4e00c0"/>
                </a:solidFill>
                <a:latin typeface="Times New Roman"/>
              </a:rPr>
              <a:t>Fotos complementarias y traducción al españo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4e00c0"/>
                </a:solidFill>
                <a:latin typeface="Times New Roman"/>
              </a:rPr>
              <a:t>Carlos Rangel, juli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5105520" y="4005360"/>
            <a:ext cx="761760" cy="507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08280" y="40766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9900"/>
                </a:solidFill>
                <a:latin typeface="Tahoma"/>
              </a:rPr>
              <a:t>Catalonia PPT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dissolv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876920" y="4267080"/>
            <a:ext cx="39621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9966"/>
                </a:solidFill>
                <a:latin typeface="Wingdings"/>
                <a:ea typeface="Wingdings"/>
              </a:rPr>
              <a:t></a:t>
            </a:r>
            <a:r>
              <a:rPr b="0" lang="ca-ES" sz="1800" spc="-1" strike="noStrike">
                <a:solidFill>
                  <a:srgbClr val="ff9966"/>
                </a:solidFill>
                <a:latin typeface="Arial"/>
              </a:rPr>
              <a:t>     </a:t>
            </a:r>
            <a:r>
              <a:rPr b="0" lang="ca-ES" sz="18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ca-ES" sz="1600" spc="-1" strike="noStrike">
                <a:solidFill>
                  <a:srgbClr val="ff9966"/>
                </a:solidFill>
                <a:latin typeface="Arial"/>
              </a:rPr>
              <a:t>Pera volver a empe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cc9900"/>
                </a:solidFill>
                <a:latin typeface="Webdings"/>
                <a:ea typeface="Webdings"/>
              </a:rPr>
              <a:t></a:t>
            </a:r>
            <a:r>
              <a:rPr b="0" lang="ca-ES" sz="16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ca-ES" sz="1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ca-ES" sz="1600" spc="-1" strike="noStrike">
                <a:solidFill>
                  <a:srgbClr val="cc9900"/>
                </a:solidFill>
                <a:latin typeface="Arial"/>
              </a:rPr>
              <a:t>Per seguir escucha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3300"/>
                </a:solidFill>
                <a:latin typeface="Arial"/>
              </a:rPr>
              <a:t>ESC</a:t>
            </a:r>
            <a:r>
              <a:rPr b="0" lang="ca-ES" sz="1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ca-ES" sz="1600" spc="-1" strike="noStrike">
                <a:solidFill>
                  <a:srgbClr val="ff3300"/>
                </a:solidFill>
                <a:latin typeface="Arial"/>
              </a:rPr>
              <a:t>Para salir</a:t>
            </a:r>
            <a:r>
              <a:rPr b="0" lang="ca-E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84080" y="574560"/>
            <a:ext cx="7574040" cy="570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294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ún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70040" y="574560"/>
            <a:ext cx="7602480" cy="5707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5310000"/>
            <a:ext cx="287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Zimba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0040" y="579600"/>
            <a:ext cx="7602480" cy="5697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4880" y="414000"/>
            <a:ext cx="237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Y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84080" y="584280"/>
            <a:ext cx="7574040" cy="568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1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Jerusalé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1:16:52Z</dcterms:created>
  <dc:creator>Anònim - sense cap referència</dc:creator>
  <dc:description/>
  <dc:language>en-US</dc:language>
  <cp:lastModifiedBy>Usuario Preinstalado</cp:lastModifiedBy>
  <dcterms:modified xsi:type="dcterms:W3CDTF">2007-07-15T20:39:33Z</dcterms:modified>
  <cp:revision>31</cp:revision>
  <dc:subject/>
  <dc:title>Sin título de diapositiva</dc:title>
</cp:coreProperties>
</file>