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A07-225E-42DF-BECA-1BB39735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160-6B3C-4290-89F3-9704826A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0ED-10D4-4A07-A15C-75F58465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805-4F00-437F-A4C3-14C05334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DE1-A1D9-4259-BE6F-08F59C93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302-FC87-458B-8F19-ED5DF019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34A-BF2C-46C3-8123-D44F3A8C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29B-2CC2-49B8-9798-541513A6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230-CB52-463C-8F90-A2D14B87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A9B-6898-4DA6-9F7D-40509C36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A45-0D62-4F31-820A-5985D15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736-EA7F-4309-84A6-C965E4D8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254-85DF-4FCE-A65F-E828A01D6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28080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esto: de Jorge Bu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2349360"/>
            <a:ext cx="698508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vitación del jef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88000" y="5157720"/>
            <a:ext cx="14194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ice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Bueno, mamá, quédate tranquil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4221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No creo que pase eso que di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608d"/>
            </a:gs>
            <a:gs pos="50000">
              <a:srgbClr val="ffffff"/>
            </a:gs>
            <a:gs pos="100000">
              <a:srgbClr val="4160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cuérdate hija, acuérdate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378900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Yo me muero, acuérd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a hora señalada, un auto importado carísimo para enfrente de la puerta de la famili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9311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oca la bocina, la hija sale, sube al auto, y par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s cinco de la mañana “la joven” vuelve a c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 madre, por supuesto, está despierta sentada en el sill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¿Y, hija? ¿Qué pasó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400500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uéntale todo a tu mad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¡Mami! ¡es increíble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Todo fue como me dijis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El restaurante, el baile, el departam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" sz="4800" spc="-1" strike="noStrike">
                <a:solidFill>
                  <a:srgbClr val="008000"/>
                </a:solidFill>
                <a:latin typeface="Arial"/>
              </a:rPr>
              <a:t>To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¿Y...?  ¿Y...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Pero cuando llegamos al dormitorio y él quiso subirse encima de mí, me acordé de ti, m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Me acordé de la culpa que me iba a quedar si tú te mor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uy bien, hijit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33573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Y te fuiste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Arial"/>
              </a:rPr>
              <a:t>No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8000"/>
                </a:solidFill>
                <a:latin typeface="Arial"/>
              </a:rPr>
              <a:t>Me acosté yo encima de él.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8000"/>
                </a:solidFill>
                <a:latin typeface="Arial"/>
              </a:rPr>
              <a:t>¡Y que se muera su madr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1773360"/>
            <a:ext cx="793116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Una madre observaba a su hija que se preparaba para salir con su jefe esa noche, quien la había invitado por primera vez 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60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270828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ientras la muchacha,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(que tenía dieciocho hermosos años muy bien puestos)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se maquillaba, la madre empezó a llorar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6000" y="404640"/>
            <a:ext cx="2879640" cy="202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64360" y="1197000"/>
            <a:ext cx="1368360" cy="1008000"/>
          </a:xfrm>
          <a:prstGeom prst="rect">
            <a:avLst/>
          </a:prstGeom>
          <a:solidFill>
            <a:srgbClr val="3c6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¿Qué pasa mamá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076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s que yo sé lo que va a pasar esta no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¿Qué va a pasar esta noche, m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Esta noche, hija, tu jefe te va a venir a buscar con un auto lujo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Te va llevar a cenar a uno de esos lugares caros con velas y músicos que tocan el violín entre las me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Después te va a llevar a bailar y a tomar una copa  en algún lugar oscuro y mientras estéis bailando, te dirá de lo guapa que eres y todo e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1608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Bueno, mamá. 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¿Y qué tiene eso de malo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3357720"/>
            <a:ext cx="91440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Que después te va a invitar a conocer su c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Yo sé como va a acabar t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¿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Y la casa va a ser uno de esos departamentos modernos que tienen un balcón desde donde se ve el rí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Y entonces mientras mireis por el balcón él va a poner música y va destapar una botella de champag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Va a brindar por ti y por el encuentro, te va a invitar a mostrarte la cas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Y ahí es donde podría pasar la trag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¿Cuál tragedia, mamá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Cuando lleguéis al dormitorio, él te va a mostrar la vista desde allí y te va dar un b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Eso no me asusta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Pero después, hijita, después él te va a mostrar la cama y se va a tirar encima tuy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608d"/>
            </a:gs>
            <a:gs pos="50000">
              <a:srgbClr val="ffffff"/>
            </a:gs>
            <a:gs pos="100000">
              <a:srgbClr val="4160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Arial"/>
              </a:rPr>
              <a:t>Y si tú le permites que se acueste encima de ti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Yo me voy a mo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Y si yo me muero tú vas a cargar con esa culpa por el resto de tu vida..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¿Entiendes por qué lloro, hij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loro por ti, por tu futur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9:42:55Z</dcterms:created>
  <dc:creator>Antonio</dc:creator>
  <dc:description/>
  <dc:language>en-US</dc:language>
  <cp:lastModifiedBy>Daniel</cp:lastModifiedBy>
  <dcterms:modified xsi:type="dcterms:W3CDTF">2009-05-27T11:00:38Z</dcterms:modified>
  <cp:revision>5</cp:revision>
  <dc:subject/>
  <dc:title>Diapositiva 1</dc:title>
</cp:coreProperties>
</file>