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616-6D93-40A1-A2BB-F6596CD7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20C-642F-4B8B-B0D7-F7A2B78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D84-B22F-4249-BF36-5A52216C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A6B-6BF2-49DB-A148-9EDE3DB8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33B-D45D-4702-ABCB-9B050F89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118-5778-4223-BB5B-561D7E9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376-D58F-4B5B-AD69-AEAB15E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40-32D8-4CAA-8810-269620E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D14-6BCB-4841-950C-0E454A8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11B-F09C-4EB0-8341-D8C9CD46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2C7-0A2E-4067-8531-AB566B2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EDB-C4E9-48A9-90D1-E304FB37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6D16-A930-432A-B882-3386C064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apositiva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28080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sto: de Jorge Buc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2349360"/>
            <a:ext cx="698508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vitación del jef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88000" y="5157720"/>
            <a:ext cx="14194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ice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ueno, mamá, quédate tranquila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221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No creo que pase eso que di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08d"/>
            </a:gs>
            <a:gs pos="50000">
              <a:srgbClr val="ffffff"/>
            </a:gs>
            <a:gs pos="100000">
              <a:srgbClr val="4160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uérdate hija, acuérdate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3789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o me muero, acuérd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a hora señalada, un auto importado carísimo para enfrente de la puerta de la famil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9311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ca la bocina, la hija sale, sube al auto, y par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2276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s cinco de la mañana “la joven” vuelve a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 madre, por supuesto, está despierta sentada en el sill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¿Y, hija? ¿Qué pasó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400500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uéntale todo a tu mad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¡Mami! ¡es increíble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Todo fue como me dijis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El restaurante, el baile, el departa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To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¿Y...?  ¿Y...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ero cuando llegamos al dormitorio y él quiso subirse encima de mí, me acordé de ti, m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Me acordé de la culpa que me iba a quedar si tú te mor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uy bien, hijit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33573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 te fuist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Arial"/>
              </a:rPr>
              <a:t>No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8000"/>
                </a:solidFill>
                <a:latin typeface="Arial"/>
              </a:rPr>
              <a:t>Me acosté yo encima de él.</a:t>
            </a: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8000"/>
                </a:solidFill>
                <a:latin typeface="Arial"/>
              </a:rPr>
              <a:t>¡Y que se muera su mad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773360"/>
            <a:ext cx="793116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na madre observaba a su hija que se preparaba para salir con su jefe esa noche, quien la había invitado por primera vez 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60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2708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ientras la muchacha,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(que tenía dieciocho hermosos años muy bien puestos)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se maquillaba, la madre empezó a llorar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2879640" cy="202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64360" y="1197000"/>
            <a:ext cx="1368360" cy="1008000"/>
          </a:xfrm>
          <a:prstGeom prst="rect">
            <a:avLst/>
          </a:prstGeom>
          <a:solidFill>
            <a:srgbClr val="3c6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Qué pasa mamá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s que yo sé lo que va a pasar esta no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¿Qué va a pasar esta noche, m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Esta noche, hija, tu jefe te va a venir a buscar con un auto luj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Te va llevar a cenar a uno de esos lugares caros con velas y músicos que tocan el violín entre las m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Después te va a llevar a bailar y a tomar una copa  en algún lugar oscuro y mientras estéis bailando, te dirá de lo guapa que eres y todo e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1608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Bueno, mamá. 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¿Y qué tiene eso de malo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357720"/>
            <a:ext cx="91440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Que después te va a invitar a conocer su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Yo sé como va a acabar t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la casa va a ser uno de esos departamentos modernos que tienen un balcón desde donde se ve el rí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entonces mientras mireis por el balcón él va a poner música y va destapar una botella de champag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Va a brindar por ti y por el encuentro, te va a invitar a mostrarte la cas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Y ahí es donde podría pasar la trag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6592"/>
            </a:gs>
            <a:gs pos="50000">
              <a:srgbClr val="ffffff"/>
            </a:gs>
            <a:gs pos="100000">
              <a:srgbClr val="3c65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¿Cuál tragedia, mamá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Cuando lleguéis al dormitorio, él te va a mostrar la vista desde allí y te va dar un b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Eso no me asusta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ero después, hijita, después él te va a mostrar la cama y se va a tirar encima tuy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08d"/>
            </a:gs>
            <a:gs pos="50000">
              <a:srgbClr val="ffffff"/>
            </a:gs>
            <a:gs pos="100000">
              <a:srgbClr val="4160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Arial"/>
              </a:rPr>
              <a:t>Y si tú le permites que se acueste encima de ti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o me voy a mor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Y si yo me muero tú vas a cargar con esa culpa por el resto de tu vida..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¿Entiendes por qué lloro, hij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loro por ti, por tu futur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9:42:55Z</dcterms:created>
  <dc:creator>Antonio</dc:creator>
  <dc:description/>
  <dc:language>en-US</dc:language>
  <cp:lastModifiedBy>Daniel</cp:lastModifiedBy>
  <dcterms:modified xsi:type="dcterms:W3CDTF">2009-05-27T11:00:38Z</dcterms:modified>
  <cp:revision>5</cp:revision>
  <dc:subject/>
  <dc:title>Diapositiva 1</dc:title>
</cp:coreProperties>
</file>