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%C3%89%20-%20Gonzaguinha.wav" ContentType="audio/x-wav"/>
  <Override PartName="/ppt/media/image13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E5E-31F5-465C-A7A6-ED021CE0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B08F-A1B9-4793-B9BD-0741703C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AD5-67E3-4348-AB29-526B24C2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D7A-D4C3-471D-A0CA-96F59D81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2D2-DCB5-4A69-825E-C8EDC62C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2E2-54EB-4AD6-A20B-F3EE8DF5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2BC-0DD3-49CF-997F-A4E80D72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030B-8083-4772-BF6C-2EF1169E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E1E-6979-457C-8C7C-DA76EC19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4A1-9917-4AF6-8E9A-BB40258C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E02-D95D-4593-A988-9275EA95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CF0-967C-42DF-A156-AF60BFF2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7216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EF06-8CE1-4DA4-BF76-068FBAF85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01;%20-%20Gonzaguinh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Owner\Documents\Pictures\q1.jpg"/>
          <p:cNvPicPr/>
          <p:nvPr/>
        </p:nvPicPr>
        <p:blipFill>
          <a:blip r:embed="rId1"/>
          <a:stretch/>
        </p:blipFill>
        <p:spPr>
          <a:xfrm>
            <a:off x="0" y="628560"/>
            <a:ext cx="9144000" cy="41068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4"/>
          <p:cNvSpPr/>
          <p:nvPr/>
        </p:nvSpPr>
        <p:spPr>
          <a:xfrm>
            <a:off x="0" y="4749840"/>
            <a:ext cx="9144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Música: É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             By Ney Delui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Canta: Gonzaguinha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              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                                                                          Ligue o 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0" y="42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ff00"/>
                </a:solidFill>
                <a:latin typeface="Comic Sans MS"/>
              </a:rPr>
              <a:t>Réveillon 2013 em Copacab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7885080" y="4575240"/>
            <a:ext cx="136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Marcelo Carnav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%C3%89%20-%20Gonzaguinh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Users\Owner\Pictures\7.jpg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4557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Que 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acima das preferências partidárias, </a:t>
            </a: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os valores morais e a ética têm de estar 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em primeiro lug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6804000" y="44816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mic Sans MS"/>
              </a:rPr>
              <a:t>@ Maria Adelaide Silva www.flickr.com/photos/adelaidephotos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1" descr="C:\Users\Owner\Documents\Pictures\q8.jpg"/>
          <p:cNvPicPr/>
          <p:nvPr/>
        </p:nvPicPr>
        <p:blipFill>
          <a:blip r:embed="rId1"/>
          <a:stretch/>
        </p:blipFill>
        <p:spPr>
          <a:xfrm>
            <a:off x="0" y="250920"/>
            <a:ext cx="9144000" cy="4475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0" y="48020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A gente tem o direito de viver uma nação onde </a:t>
            </a:r>
            <a:r>
              <a:rPr b="0" lang="pt-BR" sz="1400" spc="-1" strike="noStrike">
                <a:solidFill>
                  <a:srgbClr val="ff0000"/>
                </a:solidFill>
                <a:latin typeface="Comic Sans MS"/>
              </a:rPr>
              <a:t>todos</a:t>
            </a: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 os partidos sejam punidos se não cumprirem a le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7885080" y="4629240"/>
            <a:ext cx="136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Fernando Queve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" descr="C:\Users\Owner\Documents\Pictures\q9.jpg"/>
          <p:cNvPicPr/>
          <p:nvPr/>
        </p:nvPicPr>
        <p:blipFill>
          <a:blip r:embed="rId1"/>
          <a:srcRect l="0" t="0" r="4328" b="0"/>
          <a:stretch/>
        </p:blipFill>
        <p:spPr>
          <a:xfrm>
            <a:off x="0" y="681120"/>
            <a:ext cx="9144000" cy="40291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7885080" y="4573440"/>
            <a:ext cx="136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Marcelo Carnav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0" y="48448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E caso um partido seja pego com a boca na botija, que não venham botar a culpa no juiz, como no futeb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C:\Users\Owner\Documents\Pictures\q10.jpg"/>
          <p:cNvPicPr/>
          <p:nvPr/>
        </p:nvPicPr>
        <p:blipFill>
          <a:blip r:embed="rId1"/>
          <a:stretch/>
        </p:blipFill>
        <p:spPr>
          <a:xfrm>
            <a:off x="0" y="69696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8028000" y="456264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Pedro Kiril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Quem de nós já não está cansado(a) de ficar com a bunda exposta na janela para passarem a mão nela?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4" descr="C:\Users\Owner\Documents\Pictures\q11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4690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7956720" y="457344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Fernando Ma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Nós temos este direito! Chega desta história dos políticos acharem que nós temos cara de pana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5" descr="C:\Users\Owner\Documents\Pictures\q12.jpg"/>
          <p:cNvPicPr/>
          <p:nvPr/>
        </p:nvPicPr>
        <p:blipFill>
          <a:blip r:embed="rId1"/>
          <a:stretch/>
        </p:blipFill>
        <p:spPr>
          <a:xfrm>
            <a:off x="0" y="844560"/>
            <a:ext cx="9144000" cy="38815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7956720" y="456264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Eduardo Nadd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A gente tem que fazer valer o nosso suor e passar a exigir o respeito que merece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C:\Users\Owner\Documents\Pictures\q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734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7956720" y="462924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Fernando Ma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0" y="48308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Pois só num país com plenos direitos para </a:t>
            </a:r>
            <a:r>
              <a:rPr b="0" lang="pt-BR" sz="1400" spc="-1" strike="noStrike">
                <a:solidFill>
                  <a:srgbClr val="ff0000"/>
                </a:solidFill>
                <a:latin typeface="Comic Sans MS"/>
              </a:rPr>
              <a:t>todos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, ricos ou pobres, </a:t>
            </a: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é que poderemos ter do bom e do melh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C:\Users\Owner\Documents\Pictures\q14.jpg"/>
          <p:cNvPicPr/>
          <p:nvPr/>
        </p:nvPicPr>
        <p:blipFill>
          <a:blip r:embed="rId1"/>
          <a:srcRect l="0" t="7764" r="0" b="0"/>
          <a:stretch/>
        </p:blipFill>
        <p:spPr>
          <a:xfrm>
            <a:off x="0" y="0"/>
            <a:ext cx="9144000" cy="47275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6"/>
          <p:cNvGrpSpPr/>
          <p:nvPr/>
        </p:nvGrpSpPr>
        <p:grpSpPr>
          <a:xfrm>
            <a:off x="-76320" y="87480"/>
            <a:ext cx="9372600" cy="1188720"/>
            <a:chOff x="-76320" y="87480"/>
            <a:chExt cx="9372600" cy="1188720"/>
          </a:xfrm>
        </p:grpSpPr>
        <p:sp>
          <p:nvSpPr>
            <p:cNvPr id="97" name="Rounded Rectangle 7"/>
            <p:cNvSpPr/>
            <p:nvPr/>
          </p:nvSpPr>
          <p:spPr>
            <a:xfrm>
              <a:off x="7848720" y="144360"/>
              <a:ext cx="1143000" cy="1086480"/>
            </a:xfrm>
            <a:prstGeom prst="roundRect">
              <a:avLst>
                <a:gd name="adj" fmla="val 16667"/>
              </a:avLst>
            </a:prstGeom>
            <a:solidFill>
              <a:srgbClr val="c0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ounded Rectangle 8"/>
            <p:cNvSpPr/>
            <p:nvPr/>
          </p:nvSpPr>
          <p:spPr>
            <a:xfrm>
              <a:off x="152280" y="144360"/>
              <a:ext cx="1143000" cy="1097280"/>
            </a:xfrm>
            <a:prstGeom prst="roundRect">
              <a:avLst>
                <a:gd name="adj" fmla="val 16667"/>
              </a:avLst>
            </a:prstGeom>
            <a:solidFill>
              <a:srgbClr val="c0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13" descr="LOGO BRASIL 4.png"/>
            <p:cNvPicPr/>
            <p:nvPr/>
          </p:nvPicPr>
          <p:blipFill>
            <a:blip r:embed="rId2"/>
            <a:stretch/>
          </p:blipFill>
          <p:spPr>
            <a:xfrm>
              <a:off x="7604280" y="87480"/>
              <a:ext cx="1692000" cy="11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6" descr="rio2016_logo copy.png"/>
            <p:cNvPicPr/>
            <p:nvPr/>
          </p:nvPicPr>
          <p:blipFill>
            <a:blip r:embed="rId3"/>
            <a:stretch/>
          </p:blipFill>
          <p:spPr>
            <a:xfrm>
              <a:off x="-76320" y="258840"/>
              <a:ext cx="1600200" cy="91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TextBox 4"/>
          <p:cNvSpPr/>
          <p:nvPr/>
        </p:nvSpPr>
        <p:spPr>
          <a:xfrm>
            <a:off x="8603640" y="4853160"/>
            <a:ext cx="4428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F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7956720" y="457524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</a:t>
            </a:r>
            <a:r>
              <a:rPr b="0" lang="en-US" sz="800" spc="-1" strike="noStrike">
                <a:solidFill>
                  <a:srgbClr val="ffffff"/>
                </a:solidFill>
                <a:latin typeface="Comic Sans MS"/>
              </a:rPr>
              <a:t>Pilar Oliva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Nunca como antes tudo isto pode ser possível e agora só depende da gente. 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Feliz 2013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Users\Owner\Documents\Pictures\q2-001.jpg"/>
          <p:cNvPicPr/>
          <p:nvPr/>
        </p:nvPicPr>
        <p:blipFill>
          <a:blip r:embed="rId1"/>
          <a:stretch/>
        </p:blipFill>
        <p:spPr>
          <a:xfrm>
            <a:off x="0" y="77148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7885080" y="4238640"/>
            <a:ext cx="136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mic Sans MS"/>
              </a:rPr>
              <a:t>@ Marcelo Fonse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O Réveillon de 2013 em Copacabana teve um público recorde de 2,3 milhões de pesso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Isto só confirma que a festa de Ano Novo no Rio é sem dúvida o maior evento do gênero do m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0" y="0"/>
            <a:ext cx="9325080" cy="4789440"/>
            <a:chOff x="0" y="0"/>
            <a:chExt cx="9325080" cy="4789440"/>
          </a:xfrm>
        </p:grpSpPr>
        <p:pic>
          <p:nvPicPr>
            <p:cNvPr id="50" name="Picture 8" descr="C:\Users\Owner\Documents\Pictures\q5.jpg"/>
            <p:cNvPicPr/>
            <p:nvPr/>
          </p:nvPicPr>
          <p:blipFill>
            <a:blip r:embed="rId1"/>
            <a:srcRect l="0" t="0" r="0" b="3368"/>
            <a:stretch/>
          </p:blipFill>
          <p:spPr>
            <a:xfrm>
              <a:off x="0" y="0"/>
              <a:ext cx="9144720" cy="47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2"/>
            <p:cNvSpPr/>
            <p:nvPr/>
          </p:nvSpPr>
          <p:spPr>
            <a:xfrm>
              <a:off x="7956720" y="4573800"/>
              <a:ext cx="136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ffffff"/>
                  </a:solidFill>
                  <a:latin typeface="Comic Sans MS"/>
                </a:rPr>
                <a:t>@ Fernando Ma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Owner\Pictures\11.jpg"/>
          <p:cNvPicPr/>
          <p:nvPr/>
        </p:nvPicPr>
        <p:blipFill>
          <a:blip r:embed="rId1"/>
          <a:stretch/>
        </p:blipFill>
        <p:spPr>
          <a:xfrm>
            <a:off x="0" y="195120"/>
            <a:ext cx="9148680" cy="455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E neste Ano Novo, o Brasil começou com uma esperança toda espe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6804000" y="44816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mic Sans MS"/>
              </a:rPr>
              <a:t>@ Maria Adelaide Silva www.flickr.com/photos/adelaidephotos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C:\Users\Owner\Documents\Pictures\q4.jpg"/>
          <p:cNvPicPr/>
          <p:nvPr/>
        </p:nvPicPr>
        <p:blipFill>
          <a:blip r:embed="rId1"/>
          <a:srcRect l="5114" t="0" r="0" b="0"/>
          <a:stretch/>
        </p:blipFill>
        <p:spPr>
          <a:xfrm>
            <a:off x="0" y="623880"/>
            <a:ext cx="9144000" cy="40719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7885080" y="4573440"/>
            <a:ext cx="136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Marcelo Carnav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A esperança de que podemos ter muito mais do que só sucesso, saúde e calor no coração em 20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A esperança de poder acreditar que o Brasil vai começar a ser diferente a partir deste 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5"/>
          <p:cNvGrpSpPr/>
          <p:nvPr/>
        </p:nvGrpSpPr>
        <p:grpSpPr>
          <a:xfrm>
            <a:off x="0" y="155520"/>
            <a:ext cx="9396360" cy="4663800"/>
            <a:chOff x="0" y="155520"/>
            <a:chExt cx="9396360" cy="4663800"/>
          </a:xfrm>
        </p:grpSpPr>
        <p:grpSp>
          <p:nvGrpSpPr>
            <p:cNvPr id="60" name="Group 22"/>
            <p:cNvGrpSpPr/>
            <p:nvPr/>
          </p:nvGrpSpPr>
          <p:grpSpPr>
            <a:xfrm>
              <a:off x="0" y="155520"/>
              <a:ext cx="9144000" cy="4580280"/>
              <a:chOff x="0" y="155520"/>
              <a:chExt cx="9144000" cy="4580280"/>
            </a:xfrm>
          </p:grpSpPr>
          <p:pic>
            <p:nvPicPr>
              <p:cNvPr id="61" name="Picture 4" descr="C:\Users\Owner\Pictures\9.jpg"/>
              <p:cNvPicPr/>
              <p:nvPr/>
            </p:nvPicPr>
            <p:blipFill>
              <a:blip r:embed="rId1"/>
              <a:stretch/>
            </p:blipFill>
            <p:spPr>
              <a:xfrm>
                <a:off x="0" y="155520"/>
                <a:ext cx="9144000" cy="45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Rectangle 9"/>
              <p:cNvSpPr/>
              <p:nvPr/>
            </p:nvSpPr>
            <p:spPr>
              <a:xfrm>
                <a:off x="2195280" y="2086200"/>
                <a:ext cx="144360" cy="32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Rectangle 18"/>
            <p:cNvSpPr/>
            <p:nvPr/>
          </p:nvSpPr>
          <p:spPr>
            <a:xfrm>
              <a:off x="6804000" y="4482000"/>
              <a:ext cx="25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@ Maria Adelaide Silva www.flickr.com/photos/adelaidephotos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Que as desigualdades sociais vão diminuir ainda mais, só que sem precisar burlar as leis para i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0" y="952560"/>
            <a:ext cx="9325080" cy="3848040"/>
            <a:chOff x="0" y="952560"/>
            <a:chExt cx="9325080" cy="3848040"/>
          </a:xfrm>
        </p:grpSpPr>
        <p:pic>
          <p:nvPicPr>
            <p:cNvPr id="66" name="Picture 1" descr="C:\Users\Owner\Documents\Pictures\Picture11.jpg"/>
            <p:cNvPicPr/>
            <p:nvPr/>
          </p:nvPicPr>
          <p:blipFill>
            <a:blip r:embed="rId1"/>
            <a:stretch/>
          </p:blipFill>
          <p:spPr>
            <a:xfrm>
              <a:off x="0" y="952560"/>
              <a:ext cx="9144720" cy="37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Box 2"/>
            <p:cNvSpPr/>
            <p:nvPr/>
          </p:nvSpPr>
          <p:spPr>
            <a:xfrm>
              <a:off x="7956720" y="4584960"/>
              <a:ext cx="136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ffffff"/>
                  </a:solidFill>
                  <a:latin typeface="Comic Sans MS"/>
                </a:rPr>
                <a:t>@ Eduardo Nad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C:\Users\Owner\Documents\Pictures\q6.jpg"/>
          <p:cNvPicPr/>
          <p:nvPr/>
        </p:nvPicPr>
        <p:blipFill>
          <a:blip r:embed="rId1"/>
          <a:srcRect l="0" t="0" r="7476" b="0"/>
          <a:stretch/>
        </p:blipFill>
        <p:spPr>
          <a:xfrm>
            <a:off x="0" y="382680"/>
            <a:ext cx="9144000" cy="43336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7885080" y="4562640"/>
            <a:ext cx="136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Fernando Sou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Leis que têm de ser iguais todos, sejam para os ladrões de galinha ou para os engravatados no Congres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C:\Users\Owner\Documents\Pictures\q7.jpg"/>
          <p:cNvPicPr/>
          <p:nvPr/>
        </p:nvPicPr>
        <p:blipFill>
          <a:blip r:embed="rId1"/>
          <a:stretch/>
        </p:blipFill>
        <p:spPr>
          <a:xfrm>
            <a:off x="0" y="519120"/>
            <a:ext cx="9144000" cy="421632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7956720" y="457524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</a:t>
            </a:r>
            <a:r>
              <a:rPr b="0" lang="en-US" sz="800" spc="-1" strike="noStrike">
                <a:solidFill>
                  <a:srgbClr val="ffffff"/>
                </a:solidFill>
                <a:latin typeface="Comic Sans MS"/>
              </a:rPr>
              <a:t>Pilar Oliva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0" y="4830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Em 2012, nós vimos que este sonho pode ser possível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1T03:10:54Z</dcterms:created>
  <dc:creator>Owner</dc:creator>
  <dc:description/>
  <dc:language>en-US</dc:language>
  <cp:lastModifiedBy>Roberto</cp:lastModifiedBy>
  <dcterms:modified xsi:type="dcterms:W3CDTF">2013-01-03T17:33:29Z</dcterms:modified>
  <cp:revision>7</cp:revision>
  <dc:subject/>
  <dc:title>Slide 1</dc:title>
</cp:coreProperties>
</file>