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Untitled.wav" ContentType="audio/x-wav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C99-5ADE-4153-ACA7-E4A243CD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737-8F36-4741-87F2-B1477229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6F3-CD22-46F7-85A7-A9B14390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6A5-CD53-40D3-849E-BFCB77D2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3E3-EC47-4CFE-AF3B-952E5660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09B-1BA5-446C-838D-C2CB11CD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D03-A03C-492F-A79E-BA0DB48D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D68-07F9-4E3C-809B-47F63890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573-A0F2-450C-A278-4C1DC9DD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74C-C089-4A7F-9CE0-A13722CB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B68-B1AB-4B5A-A018-2AE83CDB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D35-7FD4-4E9E-B9BC-1A27D1F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D8C5-D4CC-4942-B5AD-3AFFDE7B1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Untitled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6fe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1628640"/>
            <a:ext cx="63565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00"/>
                </a:solidFill>
                <a:latin typeface="Arial Rounded MT Bold"/>
              </a:rPr>
              <a:t>LAS SIETE MARAVILLAS DEL MUN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1" name="Untitle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33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40000" y="4581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3. 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Poder tocar</a:t>
            </a:r>
            <a:r>
              <a:rPr b="1" lang="fr-CA" sz="3200" spc="-1" strike="noStrike">
                <a:solidFill>
                  <a:srgbClr val="ffff00"/>
                </a:solidFill>
                <a:latin typeface="Charco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03640" cy="27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7840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3581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24000" y="541008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      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4. Poder prob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124160" cy="300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4076640"/>
            <a:ext cx="43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5. Poder senti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03640" y="3279600"/>
            <a:ext cx="3746520" cy="330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5013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6. Poder re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í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4095720"/>
            <a:ext cx="3030480" cy="227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4105440" cy="3394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31687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ff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84720" y="1052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7. Y poder a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65560" cy="5207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270648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El salón se silenció a tal punto que si se hubiera caído un alfiler, se hubiera escuchado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br>
              <a:rPr sz="3600"/>
            </a:br>
            <a:br>
              <a:rPr sz="3600"/>
            </a:b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 Las cosas simples y ordinarias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 y que nosotros tomamos como triviales, son sencillamente maravillosas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00"/>
                </a:solidFill>
                <a:latin typeface="Arial Rounded MT Bold"/>
              </a:rPr>
              <a:t>Un reco</a:t>
            </a:r>
            <a:r>
              <a:rPr b="1" lang="fr-FR" sz="4000" spc="-1" strike="noStrike">
                <a:solidFill>
                  <a:srgbClr val="ffff00"/>
                </a:solidFill>
                <a:latin typeface="Arial Rounded MT Bold"/>
              </a:rPr>
              <a:t>rdatorio muy respetuoso</a:t>
            </a:r>
            <a:r>
              <a:rPr b="1" lang="fr-CA" sz="4000" spc="-1" strike="noStrike">
                <a:solidFill>
                  <a:srgbClr val="ffff00"/>
                </a:solidFill>
                <a:latin typeface="Arial Rounded MT Bold"/>
              </a:rPr>
              <a:t> :</a:t>
            </a:r>
            <a:br>
              <a:rPr sz="4000"/>
            </a:br>
            <a:br>
              <a:rPr sz="4000"/>
            </a:b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Las cosas </a:t>
            </a: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más preciadas de la vida, no se pueden construir con la mano, ni se pueden comprar con dinero.</a:t>
            </a: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Son las que nos da DIO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Ojalá no consideres que estás demasiado ocupado para compartir </a:t>
            </a: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e</a:t>
            </a: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sta historia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Que Dios te bendig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df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ffff00"/>
                </a:solidFill>
                <a:latin typeface="Arial Rounded MT Bold"/>
              </a:rPr>
              <a:t>A un grupo de estudiantes de escuela primaria se les pidió que listaran lo que ellos pensaban eran las " 7 Maravillas del Mundo moderno o actuales ." A pesar de ciertas diferencias, los siguientes fueron los que más votos recibier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c2a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920" y="1371600"/>
            <a:ext cx="640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1. Las Pirámides de Egipto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2. El Taj Mahal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3. El Gran Cañón de Colorado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4. El 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C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anal de Panam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á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5. El Edificio Empire State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6. La Bas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í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lica de San Pedro 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7. 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La Gran Muralla Chin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5236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8920" y="764640"/>
            <a:ext cx="626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Mientras contaba los votos, la maestra notó que había </a:t>
            </a:r>
            <a:r>
              <a:rPr b="1" lang="fr-FR" sz="4400" spc="-1" strike="noStrike">
                <a:solidFill>
                  <a:srgbClr val="ffff00"/>
                </a:solidFill>
                <a:latin typeface="Arial Rounded MT Bold"/>
              </a:rPr>
              <a:t>una niña que no había terminado de listar sus sugerencias</a:t>
            </a: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r>
              <a:rPr b="0" lang="fr-CA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125360"/>
            <a:ext cx="7086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Así que le preguntó si estab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a teniendo problemas con su lista, a  lo que l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a niña respondió: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"Sí, un poquito. No puedo terminar de 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decidirme pues hay muchas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1412640"/>
            <a:ext cx="66261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La maestra entonces le dijo: </a:t>
            </a: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"Bueno, léenos lo que tienes hasta ahora y a lo mejor </a:t>
            </a: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te podemos ayudar</a:t>
            </a: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3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 Rounded MT Bold"/>
              </a:rPr>
              <a:t>La niña lo pensó un instante, pero luego leyó</a:t>
            </a: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: </a:t>
            </a:r>
            <a:br>
              <a:rPr sz="4400"/>
            </a:br>
            <a:br>
              <a:rPr sz="1000"/>
            </a:b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Yo pienso que las siete maravillas del mundo s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46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825800" cy="392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56386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         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1. Poder ve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005e75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40000" y="508464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2. Poder 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oír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2000" y="1125360"/>
            <a:ext cx="31575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4:16:45Z</dcterms:created>
  <dc:creator>mmm</dc:creator>
  <dc:description/>
  <dc:language>en-US</dc:language>
  <cp:lastModifiedBy>pc</cp:lastModifiedBy>
  <dcterms:modified xsi:type="dcterms:W3CDTF">2007-11-16T21:18:26Z</dcterms:modified>
  <cp:revision>45</cp:revision>
  <dc:subject/>
  <dc:title>LAS SIETE MARAVILLAS DEL MUNDO</dc:title>
</cp:coreProperties>
</file>